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099200" cy="10234440"/>
          </a:xfrm>
          <a:custGeom>
            <a:avLst/>
            <a:gdLst>
              <a:gd name="textAreaLeft" fmla="*/ 360 w 7099200"/>
              <a:gd name="textAreaRight" fmla="*/ 7098840 w 7099200"/>
              <a:gd name="textAreaTop" fmla="*/ 360 h 10234440"/>
              <a:gd name="textAreaBottom" fmla="*/ 10234080 h 10234440"/>
            </a:gdLst>
            <a:ahLst/>
            <a:rect l="textAreaLeft" t="textAreaTop" r="textAreaRight" b="textAreaBottom"/>
            <a:pathLst>
              <a:path w="21600" h="31139">
                <a:moveTo>
                  <a:pt x="4" y="0"/>
                </a:moveTo>
                <a:arcTo wR="4" hR="4" stAng="16200000" swAng="-5400000"/>
                <a:lnTo>
                  <a:pt x="0" y="31135"/>
                </a:lnTo>
                <a:arcTo wR="4" hR="4" stAng="10800000" swAng="-5400000"/>
                <a:lnTo>
                  <a:pt x="21596" y="3113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05520" cy="3827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70720" cy="45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2"/>
          </p:nvPr>
        </p:nvSpPr>
        <p:spPr>
          <a:xfrm>
            <a:off x="4020840" y="9721800"/>
            <a:ext cx="306684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F5A7CC-A916-4409-9114-944D3CDB830C}" type="slidenum">
              <a:rPr b="1" lang="cs-CZ" sz="12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5DB651-3CB4-4D68-A3F2-E55BE4C4CD57}" type="slidenum">
              <a:rPr b="1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1200" spc="-1" strike="noStrike">
              <a:solidFill>
                <a:srgbClr val="000000"/>
              </a:solidFill>
              <a:latin typeface="Arial"/>
              <a:ea typeface="Microsoft YaHe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3D18-4867-449C-90CF-F9EA91CD0E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DC7C1-FB39-456F-8524-63434E2238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38FF3-DE28-4258-992C-FA1429968E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67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960" y="160020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67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960" y="3959640"/>
            <a:ext cx="26467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BDD47-96A4-4218-A0A7-CEB029CC24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BEAC6-9643-4328-BA72-146C14421B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5890-2270-4108-BC12-4B34BEE7E2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00365-2856-4579-B1D1-9091E640A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072F-2E9E-4D68-B014-D58CFF7A27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024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BA1BD-7100-4098-874B-29C9ABEF78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83CD7-106D-4C39-8583-2AD6318EE0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200" y="395964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140E5-3825-40A8-8B82-D42ADA91D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200" y="1600200"/>
            <a:ext cx="401112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59640"/>
            <a:ext cx="8220240" cy="215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7CA4B-72FE-4623-A029-968CE7D3A9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024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0240" cy="451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2436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lang="cs-CZ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A11BD-9A5B-455F-A775-6BF4F607D1C3}" type="slidenum">
              <a:rPr b="1" lang="cs-CZ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4714920"/>
            <a:ext cx="9144000" cy="2143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4920" y="836640"/>
            <a:ext cx="896472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APLIKOVANÁ GEOINFORMATIKA</a:t>
            </a:r>
            <a:br>
              <a:rPr sz="4000"/>
            </a:b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- SEMESTRÁLNÍ PROJEK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39640" y="2593800"/>
            <a:ext cx="8136000" cy="16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MĚLKÉ SESUVY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NA ZLÍNSKU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882720"/>
            <a:ext cx="9144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Elaborát ze tři částí – popis postupu a použitých funkcí a popis výsledků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Úspěšné odevzdání nutné před zkouško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racujte průběžně, některé funkce potřebné v elaborátech se naučíte dřív, jiné později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  <a:ea typeface="Lucida Sans Unicode"/>
              </a:rPr>
              <a:t>Někdy je více cest jak dosáhnout téhož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Nebudou se kontrolovat přesné výsledky a smysluplnost textového popisu – odborníci na FG jste v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Stačí odevzdat v požadované osnově a kvalitě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Kvalitní elaboráty s viditelnou snahou – body navíc pro závěrečnou zkoušku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79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36360" y="1273320"/>
            <a:ext cx="918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HODNOCENÍ TERÉNNÍHO MAPOVÁNÍ MĚLKÝCH SESUVŮ NA ZLÍNSK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.   prostorová statistika (geografická char., parametry DMR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.  prostorová analýza (reliéf, analýza povodí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LÁN CVIČEN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664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90648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123840"/>
            <a:ext cx="79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DATOVÉ SAD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42920" y="944640"/>
          <a:ext cx="9070920" cy="2960280"/>
        </p:xfrm>
        <a:graphic>
          <a:graphicData uri="http://schemas.openxmlformats.org/drawingml/2006/table">
            <a:tbl>
              <a:tblPr/>
              <a:tblGrid>
                <a:gridCol w="3011400"/>
                <a:gridCol w="2840040"/>
                <a:gridCol w="1865520"/>
                <a:gridCol w="1353960"/>
              </a:tblGrid>
              <a:tr h="716760"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bor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sah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át dat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2840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RS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gps-pt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PS body lokalizující část sesuvů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GS8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1644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_zlinsko_total-pt.tx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tailní zaměření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6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lších sesuvů pomocí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ální stanice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ový seznam souřadni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-JTS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3960"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s-zlinsko_dbform.xl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 údaje o všech sesuvech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ulka Excel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364320" bIns="46800" anchor="t">
                      <a:noAutofit/>
                    </a:bodyPr>
                    <a:p>
                      <a:pPr algn="ctr">
                        <a:lnSpc>
                          <a:spcPct val="66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34920" y="4400640"/>
            <a:ext cx="91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lší dat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rstevnice ze ZM10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skytnuto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BAVOD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–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vodí IV.řádu, vodní toky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enia – landuse, ortofo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oČR –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omorfologické jednotky (shp, S-JTSK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835280" y="4789440"/>
            <a:ext cx="3024000" cy="93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apojit tabulku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s sloupec názvů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-20520"/>
            <a:ext cx="899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641664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71640" y="833400"/>
            <a:ext cx="259236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gps-pt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28720" y="1336680"/>
            <a:ext cx="287964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31920" y="2171880"/>
            <a:ext cx="208764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ransformace z WGS do S-JTS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833400"/>
            <a:ext cx="2881440" cy="274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_zlinsko_total-pt.tx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068720" y="1344600"/>
            <a:ext cx="2736720" cy="82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mportovat body, definovat souřadný systém, uloži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11640" y="2170080"/>
            <a:ext cx="2449440" cy="109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ybrat vrcholové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ody sesuvů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loupec TopPt = 1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uložit v nové vrstv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52720" y="3497400"/>
            <a:ext cx="2592360" cy="27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loučit vrstvy (Mer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943280" y="4014720"/>
            <a:ext cx="2808000" cy="54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jednotit sloup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názvů sesuvů (FieldCalc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35280" y="5121360"/>
            <a:ext cx="3024000" cy="2746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s-zlinsko_dbform.x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"/>
          <p:cNvCxnSpPr>
            <a:stCxn id="71" idx="2"/>
            <a:endCxn id="72" idx="0"/>
          </p:cNvCxnSpPr>
          <p:nvPr/>
        </p:nvCxnSpPr>
        <p:spPr>
          <a:xfrm>
            <a:off x="2266920" y="1107720"/>
            <a:ext cx="216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4" idx="2"/>
            <a:endCxn id="75" idx="0"/>
          </p:cNvCxnSpPr>
          <p:nvPr/>
        </p:nvCxnSpPr>
        <p:spPr>
          <a:xfrm>
            <a:off x="5435640" y="1107720"/>
            <a:ext cx="2160" cy="23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5" idx="2"/>
            <a:endCxn id="76" idx="0"/>
          </p:cNvCxnSpPr>
          <p:nvPr/>
        </p:nvCxnSpPr>
        <p:spPr>
          <a:xfrm flipH="1">
            <a:off x="5435280" y="2168280"/>
            <a:ext cx="216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" name=""/>
          <p:cNvCxnSpPr/>
          <p:nvPr/>
        </p:nvCxnSpPr>
        <p:spPr>
          <a:xfrm flipH="1">
            <a:off x="7108200" y="1698480"/>
            <a:ext cx="43560" cy="4325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" name=""/>
          <p:cNvCxnSpPr>
            <a:endCxn id="77" idx="0"/>
          </p:cNvCxnSpPr>
          <p:nvPr/>
        </p:nvCxnSpPr>
        <p:spPr>
          <a:xfrm flipH="1">
            <a:off x="3347640" y="3271320"/>
            <a:ext cx="1510560" cy="22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72" idx="2"/>
            <a:endCxn id="73" idx="0"/>
          </p:cNvCxnSpPr>
          <p:nvPr/>
        </p:nvCxnSpPr>
        <p:spPr>
          <a:xfrm>
            <a:off x="2268000" y="2160360"/>
            <a:ext cx="9000" cy="13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73" idx="2"/>
            <a:endCxn id="77" idx="0"/>
          </p:cNvCxnSpPr>
          <p:nvPr/>
        </p:nvCxnSpPr>
        <p:spPr>
          <a:xfrm>
            <a:off x="2274480" y="2720520"/>
            <a:ext cx="1073520" cy="7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77" idx="2"/>
            <a:endCxn id="78" idx="0"/>
          </p:cNvCxnSpPr>
          <p:nvPr/>
        </p:nvCxnSpPr>
        <p:spPr>
          <a:xfrm flipH="1">
            <a:off x="3347280" y="3772080"/>
            <a:ext cx="2520" cy="24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78" idx="2"/>
            <a:endCxn id="66" idx="0"/>
          </p:cNvCxnSpPr>
          <p:nvPr/>
        </p:nvCxnSpPr>
        <p:spPr>
          <a:xfrm>
            <a:off x="3347640" y="4564080"/>
            <a:ext cx="2520" cy="226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050920" y="638172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6800400" y="169236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36000" y="3703680"/>
            <a:ext cx="1439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 tvorbu T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/>
          <p:nvPr/>
        </p:nvCxnSpPr>
        <p:spPr>
          <a:xfrm>
            <a:off x="3346560" y="5716080"/>
            <a:ext cx="8640" cy="469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549360"/>
            <a:ext cx="738036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6206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4920" y="-33480"/>
            <a:ext cx="86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ŘÍPRAVA D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5640" y="6380280"/>
            <a:ext cx="687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ODNOCENÍ TERÉNNÍHO MAPOVÁNÍ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9640" y="720720"/>
            <a:ext cx="8172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7_Povodi_IV.shp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vybrat povodí, ve kterých leží sesu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rstd25.shp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odstranit linie s výškou 0 (sloupec ZV1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mazat zbytečné sloup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02_Vodni_tok_JU.shp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rčit vodní toky ve vybraných povodí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3240"/>
                <a:tab algn="l" pos="1352520"/>
                <a:tab algn="l" pos="1801800"/>
                <a:tab algn="l" pos="2251080"/>
                <a:tab algn="l" pos="2700360"/>
                <a:tab algn="l" pos="3149640"/>
                <a:tab algn="l" pos="3598920"/>
                <a:tab algn="l" pos="4048200"/>
                <a:tab algn="l" pos="4497480"/>
                <a:tab algn="l" pos="4946760"/>
                <a:tab algn="l" pos="5396040"/>
                <a:tab algn="l" pos="5846760"/>
                <a:tab algn="l" pos="6294600"/>
                <a:tab algn="l" pos="6743880"/>
                <a:tab algn="l" pos="7192800"/>
                <a:tab algn="l" pos="7642080"/>
                <a:tab algn="l" pos="8091360"/>
                <a:tab algn="l" pos="8540640"/>
                <a:tab algn="l" pos="8989920"/>
                <a:tab algn="l" pos="943920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uložit do nové vrstvy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6470640" y="2565360"/>
            <a:ext cx="163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6470640" y="3932280"/>
            <a:ext cx="163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624720" y="2565360"/>
            <a:ext cx="36360" cy="301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759280" y="5580000"/>
            <a:ext cx="23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vorba DMR (TopoToRast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24360" y="5580000"/>
            <a:ext cx="1835280" cy="6573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50920" y="6345360"/>
            <a:ext cx="5689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981000"/>
            <a:ext cx="8893080" cy="180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050840"/>
            <a:ext cx="3348000" cy="180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0" y="1019160"/>
            <a:ext cx="896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shromáždění a setříděn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relevantních informací pro mělké sesuvy (hledání společných prvků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bsah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okalizace území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začlenění do geologických a geomorfologických jednotek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BPE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landu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morfometrická analýza (sklon, orientace, křivost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- relativní výšková členito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 všech bodů tabulky, mapky, slovní popis – na daném území převažuje..., v místech sesuvů převažuje..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tyl FG analýz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ata: WMS, DMR (probírá se až v 9.-10. cvičení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2920" y="900000"/>
            <a:ext cx="8856720" cy="50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Typy reliéfu podle relativní výškové členitost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spcBef>
                <a:spcPts val="901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0 - 30 m)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loché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členité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pahork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 - 15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 75  - 15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v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150 - 3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5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225 - 3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ornatiny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300 - 600 m)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- 450 - 600 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elehornatiny (nad 600 m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nalýza RVČ v GI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stupní data: DM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1. Spatial Analyst Tools – Neighborhood Statistic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ock Statistics – zjištění výškového rozdílu ve čtvercích 1x1 k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A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GRID MI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GRID RAN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2. převzorkování velikosti pixelu na rozměr 1x1 km – Resa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3. konverze rastru na body RasterToPoi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4. interpolace z bodů – Spl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-36360" y="34920"/>
            <a:ext cx="93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.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CHARAKTERISTIKA ÚZEM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0" y="130500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37484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1200" y="1557360"/>
            <a:ext cx="89028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ýběr jednoho sesuvu – v oblasti s vrstevnicem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terénní profil od sesuvu k nejbližšímu toku (+200m přesahy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spádová křivka nejbližšího toku s vyznačeným sesuve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kategorie relativní výškové členitosti a údaje o profilové a planární křivosti v místě sesuvu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400" indent="-11160">
              <a:tabLst>
                <a:tab algn="l" pos="0"/>
                <a:tab algn="l" pos="14400"/>
                <a:tab algn="l" pos="461880"/>
                <a:tab algn="l" pos="911160"/>
                <a:tab algn="l" pos="1360440"/>
                <a:tab algn="l" pos="1809720"/>
                <a:tab algn="l" pos="2259000"/>
                <a:tab algn="l" pos="2708280"/>
                <a:tab algn="l" pos="3157560"/>
                <a:tab algn="l" pos="3606840"/>
                <a:tab algn="l" pos="4056120"/>
                <a:tab algn="l" pos="4505400"/>
                <a:tab algn="l" pos="4954680"/>
                <a:tab algn="l" pos="5403960"/>
                <a:tab algn="l" pos="5853240"/>
                <a:tab algn="l" pos="6302520"/>
                <a:tab algn="l" pos="6751800"/>
                <a:tab algn="l" pos="7201080"/>
                <a:tab algn="l" pos="7650000"/>
                <a:tab algn="l" pos="8099280"/>
                <a:tab algn="l" pos="8548560"/>
                <a:tab algn="l" pos="899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- velikost povodí nejbližšího toku u sesuvu a minimální, maximální a průměrný sklon povodí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34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.  RELIÉF VYBRANÉHO SESUVU A ANALÝZA POVODÍ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693720"/>
            <a:ext cx="8893080" cy="1440"/>
          </a:xfrm>
          <a:prstGeom prst="line">
            <a:avLst/>
          </a:prstGeom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763560"/>
            <a:ext cx="3348000" cy="1440"/>
          </a:xfrm>
          <a:prstGeom prst="line">
            <a:avLst/>
          </a:prstGeom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882720"/>
            <a:ext cx="9144000" cy="54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Přehled sesuvů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DMR a letecký snímek natažený na DMR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body sesuvů; hranice geomorfologických jednotek (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letecký snímek uložte z WMS přes File - Export Map (checkbox Write World File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Detail sesuv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odklad: TIN ze zaměření sesuvu totálkou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obsah: LandUse natažený na TIN, vodní toky; polygon obcí (nejbližší s 3D popisem)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47840"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- při generovaní TIN zahrňte do vstupu polygon vymezující hranici sesuvu – nutno vytvořit z bodů měřených totální stanicí. Pokud jste doposud pracovali s vybraným sesuvem, který není zaměřen totální stanicí, tak si pro tento bod řešení zvolte nějaký blízký, který zaměřen je.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III. 3D VIZUALIZAC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1T19:19:33Z</dcterms:created>
  <dc:creator>Fano</dc:creator>
  <dc:description/>
  <dc:language>en-US</dc:language>
  <cp:lastModifiedBy>tom</cp:lastModifiedBy>
  <dcterms:modified xsi:type="dcterms:W3CDTF">2011-03-02T08:24:04Z</dcterms:modified>
  <cp:revision>70</cp:revision>
  <dc:subject/>
  <dc:title>DIGITÁLNÍ ZPRACOVÁNÍ MATERIÁLŮ DPZ </dc:title>
</cp:coreProperties>
</file>