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05520" cy="3827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0720" cy="45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2"/>
          </p:nvPr>
        </p:nvSpPr>
        <p:spPr>
          <a:xfrm>
            <a:off x="402084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cs-CZ" sz="12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116126-81B7-4FF0-980B-84CECFEDB4B9}" type="slidenum">
              <a:rPr b="1" lang="cs-CZ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614647-E8C8-472B-B4D1-671934C6A470}" type="slidenum">
              <a:rPr b="1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0F524-BDCB-408B-B66D-A6A19643FE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5964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0EDC0-4A2E-4497-8EB2-EEB798E042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7280A-46D7-4E97-83A5-E61023EDAB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596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676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596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A2831-9613-450C-8FDB-F771C6D109A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DF76C-2F69-46A2-9220-A17A61C05A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C692F-F2C4-4A8A-8B1D-5E53DD1727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23DA5-0ED8-43A7-A53F-D40E3B92BC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55602-3CE9-4C53-966A-DE38B763A4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02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288DC-79EC-4C22-B023-7478AB6052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68114-DA21-4F39-8872-13435C5957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C5A21-05F6-46EC-B787-132CC9F014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1FF3B-2436-4678-9917-47A788A2C0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2436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cs-CZ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9D71F6-DF3F-4887-94EE-AFE901967293}" type="slidenum">
              <a:rPr b="1" lang="cs-CZ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4714920"/>
            <a:ext cx="9144000" cy="2143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4920" y="836640"/>
            <a:ext cx="89647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APLIKOVANÁ GEOINFORMATIKA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- SEMESTRÁLNÍ PROJEK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2593800"/>
            <a:ext cx="8136000" cy="16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MĚLKÉ SESUVY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NA ZLÍNSKU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693720"/>
            <a:ext cx="8893080" cy="144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763560"/>
            <a:ext cx="3348000" cy="1440"/>
          </a:xfrm>
          <a:prstGeom prst="line">
            <a:avLst/>
          </a:prstGeom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882720"/>
            <a:ext cx="9144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Elaborát ze tři částí – popis postupu a použitých funkcí a popis výsledků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Úspěšné odevzdání nutné před zkouškou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racujte průběžně, některé funkce potřebné v elaborátech se naučíte dřív, jiné později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Někdy je více cest jak dosáhnout téhož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Nebudou se kontrolovat přesné výsledky a smysluplnost textového popisu – odborníci na FG jste vy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Stačí odevzdat v požadované osnově a kvalitě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valitní elaboráty s viditelnou snahou – body navíc pro závěrečnou zkoušku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7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HODNOCENÍ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836640"/>
            <a:ext cx="7380360" cy="144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906480"/>
            <a:ext cx="3348000" cy="1440"/>
          </a:xfrm>
          <a:prstGeom prst="line">
            <a:avLst/>
          </a:prstGeom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-36360" y="1273320"/>
            <a:ext cx="9180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YHODNOCENÍ TERÉNNÍHO MAPOVÁNÍ MĚLKÝCH SESUVŮ NA ZLÍNSKU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Cíle: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I.   prostorová statistika (geografická char., parametry DM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II.  prostorová analýza (reliéf, analýza povodí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III. 3D vizualiza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23840"/>
            <a:ext cx="79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LÁN CVIČENÍ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836640"/>
            <a:ext cx="7380360" cy="144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906480"/>
            <a:ext cx="3348000" cy="1440"/>
          </a:xfrm>
          <a:prstGeom prst="line">
            <a:avLst/>
          </a:prstGeom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23840"/>
            <a:ext cx="79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DATOVÉ SAD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42920" y="944640"/>
          <a:ext cx="9070920" cy="2960280"/>
        </p:xfrm>
        <a:graphic>
          <a:graphicData uri="http://schemas.openxmlformats.org/drawingml/2006/table">
            <a:tbl>
              <a:tblPr/>
              <a:tblGrid>
                <a:gridCol w="3011400"/>
                <a:gridCol w="2840040"/>
                <a:gridCol w="1865520"/>
                <a:gridCol w="1353960"/>
              </a:tblGrid>
              <a:tr h="716760">
                <a:tc>
                  <a:txBody>
                    <a:bodyPr lIns="90000" rIns="90000" tIns="42840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bor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2840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ah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2840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át dat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2840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RS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3960">
                <a:tc>
                  <a:txBody>
                    <a:bodyPr lIns="90000" rIns="90000" tIns="36432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-zlinsko_gps-pt.xl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6432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PS body lokalizující část sesuv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6432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ulka Excel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6432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GS8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16440">
                <a:tc>
                  <a:txBody>
                    <a:bodyPr lIns="90000" rIns="90000" tIns="36432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_zlinsko_total-pt.tx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6432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ailní zaměření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lších sesuvů pomocí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ální stanic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6432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ový seznam souřadni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6432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-JTSK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3960">
                <a:tc>
                  <a:txBody>
                    <a:bodyPr lIns="90000" rIns="90000" tIns="36432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-zlinsko_dbform.xl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6432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 údaje o všech sesuvech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6432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ulka Excel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6432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34920" y="4400640"/>
            <a:ext cx="910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alší data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vrstevnice ze ZM10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poskytnuto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DIBAVOD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povodí IV.řádu, vodní toky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enia – landuse, ortofot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oČR –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geomorfologické jednotky (shp, S-JTSK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835280" y="4789440"/>
            <a:ext cx="3024000" cy="93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apojit tabulku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řes sloupec názvů sesuvů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49360"/>
            <a:ext cx="7380360" cy="144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620640"/>
            <a:ext cx="3348000" cy="1800"/>
          </a:xfrm>
          <a:prstGeom prst="line">
            <a:avLst/>
          </a:prstGeom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-20520"/>
            <a:ext cx="899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ŘÍPRAVA DAT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195640" y="6416640"/>
            <a:ext cx="687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4784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YHODNOCENÍ TERÉNNÍHO MAPOVÁNÍ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71640" y="833400"/>
            <a:ext cx="2592360" cy="274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es-zlinsko_gps-pt.x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28720" y="1336680"/>
            <a:ext cx="2879640" cy="82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importovat body, definovat souřadný systé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231920" y="2171880"/>
            <a:ext cx="2087640" cy="54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ransformace z WGS do S-JTS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95640" y="833400"/>
            <a:ext cx="2881440" cy="274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es_zlinsko_total-pt.t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068720" y="1344600"/>
            <a:ext cx="2736720" cy="82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importovat body, definovat souřadný systém, ulož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11640" y="2170080"/>
            <a:ext cx="2449440" cy="109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ybrat vrcholové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ody sesuvů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(sloupec TopPt = 1)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uložit v nové vrstvě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052720" y="3497400"/>
            <a:ext cx="2592360" cy="27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loučit vrstvy (Merg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943280" y="4014720"/>
            <a:ext cx="2808000" cy="54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jednotit sloup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ázvů sesuvů (FieldCalc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835280" y="5121360"/>
            <a:ext cx="3024000" cy="274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es-zlinsko_dbform.x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"/>
          <p:cNvCxnSpPr>
            <a:stCxn id="71" idx="2"/>
            <a:endCxn id="72" idx="0"/>
          </p:cNvCxnSpPr>
          <p:nvPr/>
        </p:nvCxnSpPr>
        <p:spPr>
          <a:xfrm>
            <a:off x="2266920" y="110772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4" idx="2"/>
            <a:endCxn id="75" idx="0"/>
          </p:cNvCxnSpPr>
          <p:nvPr/>
        </p:nvCxnSpPr>
        <p:spPr>
          <a:xfrm>
            <a:off x="5435640" y="1107720"/>
            <a:ext cx="2160" cy="23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5" idx="2"/>
            <a:endCxn id="76" idx="0"/>
          </p:cNvCxnSpPr>
          <p:nvPr/>
        </p:nvCxnSpPr>
        <p:spPr>
          <a:xfrm flipH="1">
            <a:off x="5435280" y="2168280"/>
            <a:ext cx="21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" name=""/>
          <p:cNvCxnSpPr/>
          <p:nvPr/>
        </p:nvCxnSpPr>
        <p:spPr>
          <a:xfrm flipH="1">
            <a:off x="7108200" y="1698480"/>
            <a:ext cx="43560" cy="432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" name=""/>
          <p:cNvCxnSpPr>
            <a:endCxn id="77" idx="0"/>
          </p:cNvCxnSpPr>
          <p:nvPr/>
        </p:nvCxnSpPr>
        <p:spPr>
          <a:xfrm flipH="1">
            <a:off x="3347640" y="3271320"/>
            <a:ext cx="1510560" cy="227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72" idx="2"/>
            <a:endCxn id="73" idx="0"/>
          </p:cNvCxnSpPr>
          <p:nvPr/>
        </p:nvCxnSpPr>
        <p:spPr>
          <a:xfrm>
            <a:off x="2268000" y="2160360"/>
            <a:ext cx="9000" cy="1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" name=""/>
          <p:cNvCxnSpPr>
            <a:stCxn id="73" idx="2"/>
            <a:endCxn id="77" idx="0"/>
          </p:cNvCxnSpPr>
          <p:nvPr/>
        </p:nvCxnSpPr>
        <p:spPr>
          <a:xfrm>
            <a:off x="2274480" y="2720520"/>
            <a:ext cx="1073520" cy="7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77" idx="2"/>
            <a:endCxn id="78" idx="0"/>
          </p:cNvCxnSpPr>
          <p:nvPr/>
        </p:nvCxnSpPr>
        <p:spPr>
          <a:xfrm flipH="1">
            <a:off x="3347280" y="3772080"/>
            <a:ext cx="2520" cy="24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" name=""/>
          <p:cNvCxnSpPr>
            <a:stCxn id="78" idx="2"/>
            <a:endCxn id="66" idx="0"/>
          </p:cNvCxnSpPr>
          <p:nvPr/>
        </p:nvCxnSpPr>
        <p:spPr>
          <a:xfrm>
            <a:off x="3347640" y="4564080"/>
            <a:ext cx="2520" cy="22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2050920" y="6381720"/>
            <a:ext cx="5689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800400" y="1692360"/>
            <a:ext cx="36684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236000" y="3703680"/>
            <a:ext cx="14396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o tvorbu TI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/>
          <p:nvPr/>
        </p:nvCxnSpPr>
        <p:spPr>
          <a:xfrm>
            <a:off x="3346560" y="5716080"/>
            <a:ext cx="8640" cy="469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549360"/>
            <a:ext cx="7380360" cy="144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20640"/>
            <a:ext cx="3348000" cy="1800"/>
          </a:xfrm>
          <a:prstGeom prst="line">
            <a:avLst/>
          </a:prstGeom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4920" y="-33480"/>
            <a:ext cx="86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ŘÍPRAVA D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195640" y="6380280"/>
            <a:ext cx="687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4784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YHODNOCENÍ TERÉNNÍHO MAPOVÁNÍ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9640" y="720720"/>
            <a:ext cx="8172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47840">
              <a:tabLst>
                <a:tab algn="l" pos="0"/>
                <a:tab algn="l" pos="45720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676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07_Povodi_IV.shp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676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- vybrat povodí, ve kterých leží sesuv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676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- uložit do nové vrstv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676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2360"/>
                <a:tab algn="l" pos="10331280"/>
                <a:tab algn="l" pos="1078056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676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rstd25.shp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676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- odstranit linie s výškou 0 (sloupec ZV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676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- smazat zbytečné sloup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676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2360"/>
                <a:tab algn="l" pos="10331280"/>
                <a:tab algn="l" pos="1078056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676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02_Vodni_tok_JU.shp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676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- určit vodní toky ve vybraných povodí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676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- uložit do nové vrstvy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6470640" y="2565360"/>
            <a:ext cx="163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6470640" y="3932280"/>
            <a:ext cx="163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624720" y="2565360"/>
            <a:ext cx="36360" cy="3014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759280" y="5580000"/>
            <a:ext cx="23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vorba DMR (TopoToRast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24360" y="5580000"/>
            <a:ext cx="1835280" cy="657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050920" y="6345360"/>
            <a:ext cx="5689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981000"/>
            <a:ext cx="8893080" cy="180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050840"/>
            <a:ext cx="3348000" cy="1800"/>
          </a:xfrm>
          <a:prstGeom prst="line">
            <a:avLst/>
          </a:prstGeom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0" y="1019160"/>
            <a:ext cx="896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00" indent="-11160">
              <a:tabLst>
                <a:tab algn="l" pos="0"/>
                <a:tab algn="l" pos="14400"/>
                <a:tab algn="l" pos="461880"/>
                <a:tab algn="l" pos="911160"/>
                <a:tab algn="l" pos="1360440"/>
                <a:tab algn="l" pos="1809720"/>
                <a:tab algn="l" pos="2259000"/>
                <a:tab algn="l" pos="2708280"/>
                <a:tab algn="l" pos="3157560"/>
                <a:tab algn="l" pos="3606840"/>
                <a:tab algn="l" pos="4056120"/>
                <a:tab algn="l" pos="4505400"/>
                <a:tab algn="l" pos="4954680"/>
                <a:tab algn="l" pos="5403960"/>
                <a:tab algn="l" pos="5853240"/>
                <a:tab algn="l" pos="6302520"/>
                <a:tab algn="l" pos="6751800"/>
                <a:tab algn="l" pos="7201080"/>
                <a:tab algn="l" pos="7650000"/>
                <a:tab algn="l" pos="8099280"/>
                <a:tab algn="l" pos="8548560"/>
                <a:tab algn="l" pos="899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- shromáždění a setřídění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relevantních informací pro mělké sesuvy (hledání společných prvků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" indent="-11160">
              <a:tabLst>
                <a:tab algn="l" pos="0"/>
                <a:tab algn="l" pos="14400"/>
                <a:tab algn="l" pos="461880"/>
                <a:tab algn="l" pos="911160"/>
                <a:tab algn="l" pos="1360440"/>
                <a:tab algn="l" pos="1809720"/>
                <a:tab algn="l" pos="2259000"/>
                <a:tab algn="l" pos="2708280"/>
                <a:tab algn="l" pos="3157560"/>
                <a:tab algn="l" pos="3606840"/>
                <a:tab algn="l" pos="4056120"/>
                <a:tab algn="l" pos="4505400"/>
                <a:tab algn="l" pos="4954680"/>
                <a:tab algn="l" pos="5403960"/>
                <a:tab algn="l" pos="5853240"/>
                <a:tab algn="l" pos="6302520"/>
                <a:tab algn="l" pos="6751800"/>
                <a:tab algn="l" pos="7201080"/>
                <a:tab algn="l" pos="7650000"/>
                <a:tab algn="l" pos="8099280"/>
                <a:tab algn="l" pos="8548560"/>
                <a:tab algn="l" pos="89978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" indent="-11160">
              <a:tabLst>
                <a:tab algn="l" pos="0"/>
                <a:tab algn="l" pos="14400"/>
                <a:tab algn="l" pos="461880"/>
                <a:tab algn="l" pos="911160"/>
                <a:tab algn="l" pos="1360440"/>
                <a:tab algn="l" pos="1809720"/>
                <a:tab algn="l" pos="2259000"/>
                <a:tab algn="l" pos="2708280"/>
                <a:tab algn="l" pos="3157560"/>
                <a:tab algn="l" pos="3606840"/>
                <a:tab algn="l" pos="4056120"/>
                <a:tab algn="l" pos="4505400"/>
                <a:tab algn="l" pos="4954680"/>
                <a:tab algn="l" pos="5403960"/>
                <a:tab algn="l" pos="5853240"/>
                <a:tab algn="l" pos="6302520"/>
                <a:tab algn="l" pos="6751800"/>
                <a:tab algn="l" pos="7201080"/>
                <a:tab algn="l" pos="7650000"/>
                <a:tab algn="l" pos="8099280"/>
                <a:tab algn="l" pos="8548560"/>
                <a:tab algn="l" pos="899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bsah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" indent="-11160">
              <a:tabLst>
                <a:tab algn="l" pos="0"/>
                <a:tab algn="l" pos="14400"/>
                <a:tab algn="l" pos="461880"/>
                <a:tab algn="l" pos="911160"/>
                <a:tab algn="l" pos="1360440"/>
                <a:tab algn="l" pos="1809720"/>
                <a:tab algn="l" pos="2259000"/>
                <a:tab algn="l" pos="2708280"/>
                <a:tab algn="l" pos="3157560"/>
                <a:tab algn="l" pos="3606840"/>
                <a:tab algn="l" pos="4056120"/>
                <a:tab algn="l" pos="4505400"/>
                <a:tab algn="l" pos="4954680"/>
                <a:tab algn="l" pos="5403960"/>
                <a:tab algn="l" pos="5853240"/>
                <a:tab algn="l" pos="6302520"/>
                <a:tab algn="l" pos="6751800"/>
                <a:tab algn="l" pos="7201080"/>
                <a:tab algn="l" pos="7650000"/>
                <a:tab algn="l" pos="8099280"/>
                <a:tab algn="l" pos="8548560"/>
                <a:tab algn="l" pos="899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- lokalizace území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" indent="-11160">
              <a:tabLst>
                <a:tab algn="l" pos="0"/>
                <a:tab algn="l" pos="14400"/>
                <a:tab algn="l" pos="461880"/>
                <a:tab algn="l" pos="911160"/>
                <a:tab algn="l" pos="1360440"/>
                <a:tab algn="l" pos="1809720"/>
                <a:tab algn="l" pos="2259000"/>
                <a:tab algn="l" pos="2708280"/>
                <a:tab algn="l" pos="3157560"/>
                <a:tab algn="l" pos="3606840"/>
                <a:tab algn="l" pos="4056120"/>
                <a:tab algn="l" pos="4505400"/>
                <a:tab algn="l" pos="4954680"/>
                <a:tab algn="l" pos="5403960"/>
                <a:tab algn="l" pos="5853240"/>
                <a:tab algn="l" pos="6302520"/>
                <a:tab algn="l" pos="6751800"/>
                <a:tab algn="l" pos="7201080"/>
                <a:tab algn="l" pos="7650000"/>
                <a:tab algn="l" pos="8099280"/>
                <a:tab algn="l" pos="8548560"/>
                <a:tab algn="l" pos="899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- začlenění do geologických a geomorfologických jednotek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" indent="-11160">
              <a:tabLst>
                <a:tab algn="l" pos="0"/>
                <a:tab algn="l" pos="14400"/>
                <a:tab algn="l" pos="461880"/>
                <a:tab algn="l" pos="911160"/>
                <a:tab algn="l" pos="1360440"/>
                <a:tab algn="l" pos="1809720"/>
                <a:tab algn="l" pos="2259000"/>
                <a:tab algn="l" pos="2708280"/>
                <a:tab algn="l" pos="3157560"/>
                <a:tab algn="l" pos="3606840"/>
                <a:tab algn="l" pos="4056120"/>
                <a:tab algn="l" pos="4505400"/>
                <a:tab algn="l" pos="4954680"/>
                <a:tab algn="l" pos="5403960"/>
                <a:tab algn="l" pos="5853240"/>
                <a:tab algn="l" pos="6302520"/>
                <a:tab algn="l" pos="6751800"/>
                <a:tab algn="l" pos="7201080"/>
                <a:tab algn="l" pos="7650000"/>
                <a:tab algn="l" pos="8099280"/>
                <a:tab algn="l" pos="8548560"/>
                <a:tab algn="l" pos="899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- BPEJ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" indent="-11160">
              <a:tabLst>
                <a:tab algn="l" pos="0"/>
                <a:tab algn="l" pos="14400"/>
                <a:tab algn="l" pos="461880"/>
                <a:tab algn="l" pos="911160"/>
                <a:tab algn="l" pos="1360440"/>
                <a:tab algn="l" pos="1809720"/>
                <a:tab algn="l" pos="2259000"/>
                <a:tab algn="l" pos="2708280"/>
                <a:tab algn="l" pos="3157560"/>
                <a:tab algn="l" pos="3606840"/>
                <a:tab algn="l" pos="4056120"/>
                <a:tab algn="l" pos="4505400"/>
                <a:tab algn="l" pos="4954680"/>
                <a:tab algn="l" pos="5403960"/>
                <a:tab algn="l" pos="5853240"/>
                <a:tab algn="l" pos="6302520"/>
                <a:tab algn="l" pos="6751800"/>
                <a:tab algn="l" pos="7201080"/>
                <a:tab algn="l" pos="7650000"/>
                <a:tab algn="l" pos="8099280"/>
                <a:tab algn="l" pos="8548560"/>
                <a:tab algn="l" pos="899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- landu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" indent="-11160">
              <a:tabLst>
                <a:tab algn="l" pos="0"/>
                <a:tab algn="l" pos="14400"/>
                <a:tab algn="l" pos="461880"/>
                <a:tab algn="l" pos="911160"/>
                <a:tab algn="l" pos="1360440"/>
                <a:tab algn="l" pos="1809720"/>
                <a:tab algn="l" pos="2259000"/>
                <a:tab algn="l" pos="2708280"/>
                <a:tab algn="l" pos="3157560"/>
                <a:tab algn="l" pos="3606840"/>
                <a:tab algn="l" pos="4056120"/>
                <a:tab algn="l" pos="4505400"/>
                <a:tab algn="l" pos="4954680"/>
                <a:tab algn="l" pos="5403960"/>
                <a:tab algn="l" pos="5853240"/>
                <a:tab algn="l" pos="6302520"/>
                <a:tab algn="l" pos="6751800"/>
                <a:tab algn="l" pos="7201080"/>
                <a:tab algn="l" pos="7650000"/>
                <a:tab algn="l" pos="8099280"/>
                <a:tab algn="l" pos="8548560"/>
                <a:tab algn="l" pos="899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- morfometrická analýza (sklon, orientace, křivost..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" indent="-11160">
              <a:tabLst>
                <a:tab algn="l" pos="0"/>
                <a:tab algn="l" pos="14400"/>
                <a:tab algn="l" pos="461880"/>
                <a:tab algn="l" pos="911160"/>
                <a:tab algn="l" pos="1360440"/>
                <a:tab algn="l" pos="1809720"/>
                <a:tab algn="l" pos="2259000"/>
                <a:tab algn="l" pos="2708280"/>
                <a:tab algn="l" pos="3157560"/>
                <a:tab algn="l" pos="3606840"/>
                <a:tab algn="l" pos="4056120"/>
                <a:tab algn="l" pos="4505400"/>
                <a:tab algn="l" pos="4954680"/>
                <a:tab algn="l" pos="5403960"/>
                <a:tab algn="l" pos="5853240"/>
                <a:tab algn="l" pos="6302520"/>
                <a:tab algn="l" pos="6751800"/>
                <a:tab algn="l" pos="7201080"/>
                <a:tab algn="l" pos="7650000"/>
                <a:tab algn="l" pos="8099280"/>
                <a:tab algn="l" pos="8548560"/>
                <a:tab algn="l" pos="899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- relativní výšková členito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" indent="-11160">
              <a:tabLst>
                <a:tab algn="l" pos="0"/>
                <a:tab algn="l" pos="14400"/>
                <a:tab algn="l" pos="461880"/>
                <a:tab algn="l" pos="911160"/>
                <a:tab algn="l" pos="1360440"/>
                <a:tab algn="l" pos="1809720"/>
                <a:tab algn="l" pos="2259000"/>
                <a:tab algn="l" pos="2708280"/>
                <a:tab algn="l" pos="3157560"/>
                <a:tab algn="l" pos="3606840"/>
                <a:tab algn="l" pos="4056120"/>
                <a:tab algn="l" pos="4505400"/>
                <a:tab algn="l" pos="4954680"/>
                <a:tab algn="l" pos="5403960"/>
                <a:tab algn="l" pos="5853240"/>
                <a:tab algn="l" pos="6302520"/>
                <a:tab algn="l" pos="6751800"/>
                <a:tab algn="l" pos="7201080"/>
                <a:tab algn="l" pos="7650000"/>
                <a:tab algn="l" pos="8099280"/>
                <a:tab algn="l" pos="8548560"/>
                <a:tab algn="l" pos="89978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" indent="-11160">
              <a:tabLst>
                <a:tab algn="l" pos="0"/>
                <a:tab algn="l" pos="14400"/>
                <a:tab algn="l" pos="461880"/>
                <a:tab algn="l" pos="911160"/>
                <a:tab algn="l" pos="1360440"/>
                <a:tab algn="l" pos="1809720"/>
                <a:tab algn="l" pos="2259000"/>
                <a:tab algn="l" pos="2708280"/>
                <a:tab algn="l" pos="3157560"/>
                <a:tab algn="l" pos="3606840"/>
                <a:tab algn="l" pos="4056120"/>
                <a:tab algn="l" pos="4505400"/>
                <a:tab algn="l" pos="4954680"/>
                <a:tab algn="l" pos="5403960"/>
                <a:tab algn="l" pos="5853240"/>
                <a:tab algn="l" pos="6302520"/>
                <a:tab algn="l" pos="6751800"/>
                <a:tab algn="l" pos="7201080"/>
                <a:tab algn="l" pos="7650000"/>
                <a:tab algn="l" pos="8099280"/>
                <a:tab algn="l" pos="8548560"/>
                <a:tab algn="l" pos="899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U všech bodů tabulky, mapky, slovní popis – na daném území převažuje..., v místech sesuvů převažuje..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" indent="-11160">
              <a:tabLst>
                <a:tab algn="l" pos="0"/>
                <a:tab algn="l" pos="14400"/>
                <a:tab algn="l" pos="461880"/>
                <a:tab algn="l" pos="911160"/>
                <a:tab algn="l" pos="1360440"/>
                <a:tab algn="l" pos="1809720"/>
                <a:tab algn="l" pos="2259000"/>
                <a:tab algn="l" pos="2708280"/>
                <a:tab algn="l" pos="3157560"/>
                <a:tab algn="l" pos="3606840"/>
                <a:tab algn="l" pos="4056120"/>
                <a:tab algn="l" pos="4505400"/>
                <a:tab algn="l" pos="4954680"/>
                <a:tab algn="l" pos="5403960"/>
                <a:tab algn="l" pos="5853240"/>
                <a:tab algn="l" pos="6302520"/>
                <a:tab algn="l" pos="6751800"/>
                <a:tab algn="l" pos="7201080"/>
                <a:tab algn="l" pos="7650000"/>
                <a:tab algn="l" pos="8099280"/>
                <a:tab algn="l" pos="8548560"/>
                <a:tab algn="l" pos="899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tyl FG analýz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" indent="-11160">
              <a:tabLst>
                <a:tab algn="l" pos="0"/>
                <a:tab algn="l" pos="14400"/>
                <a:tab algn="l" pos="461880"/>
                <a:tab algn="l" pos="911160"/>
                <a:tab algn="l" pos="1360440"/>
                <a:tab algn="l" pos="1809720"/>
                <a:tab algn="l" pos="2259000"/>
                <a:tab algn="l" pos="2708280"/>
                <a:tab algn="l" pos="3157560"/>
                <a:tab algn="l" pos="3606840"/>
                <a:tab algn="l" pos="4056120"/>
                <a:tab algn="l" pos="4505400"/>
                <a:tab algn="l" pos="4954680"/>
                <a:tab algn="l" pos="5403960"/>
                <a:tab algn="l" pos="5853240"/>
                <a:tab algn="l" pos="6302520"/>
                <a:tab algn="l" pos="6751800"/>
                <a:tab algn="l" pos="7201080"/>
                <a:tab algn="l" pos="7650000"/>
                <a:tab algn="l" pos="8099280"/>
                <a:tab algn="l" pos="8548560"/>
                <a:tab algn="l" pos="899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ata: WMS, DMR (probírá se až v 9.-10. cvičení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-36360" y="34920"/>
            <a:ext cx="93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I.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 CHARAKTERISTIKA ÚZEMÍ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693720"/>
            <a:ext cx="8893080" cy="144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763560"/>
            <a:ext cx="3348000" cy="1440"/>
          </a:xfrm>
          <a:prstGeom prst="line">
            <a:avLst/>
          </a:prstGeom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42920" y="900000"/>
            <a:ext cx="8856720" cy="50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4784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Typy reliéfu podle relativní výškové členitost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spcBef>
                <a:spcPts val="9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roviny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(0 - 30 m)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loché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členité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ahorkatiny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(30 - 150 m)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30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-  75  - 150 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rchoviny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(150 - 300 m)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150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- 225 - 300 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hornatiny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(300 - 600 m)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- 450 - 600 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elehornatiny (nad 600 m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Analýza RVČ v G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stupní data: DM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1. Spatial Analyst Tools – Neighborhood Statistic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ock Statistics – zjištění výškového rozdílu ve čtvercích 1x1 k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GRID MA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GRID M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) GRID RAN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2. převzorkování velikosti pixelu na rozměr 1x1 km – Resamp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3. konverze rastru na body RasterToPoi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4. interpolace z bodů – Spli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-36360" y="34920"/>
            <a:ext cx="93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I.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 CHARAKTERISTIKA ÚZEMÍ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1305000"/>
            <a:ext cx="8893080" cy="144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374840"/>
            <a:ext cx="3348000" cy="1440"/>
          </a:xfrm>
          <a:prstGeom prst="line">
            <a:avLst/>
          </a:prstGeom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41200" y="1557360"/>
            <a:ext cx="8902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00" indent="-11160">
              <a:tabLst>
                <a:tab algn="l" pos="0"/>
                <a:tab algn="l" pos="14400"/>
                <a:tab algn="l" pos="461880"/>
                <a:tab algn="l" pos="911160"/>
                <a:tab algn="l" pos="1360440"/>
                <a:tab algn="l" pos="1809720"/>
                <a:tab algn="l" pos="2259000"/>
                <a:tab algn="l" pos="2708280"/>
                <a:tab algn="l" pos="3157560"/>
                <a:tab algn="l" pos="3606840"/>
                <a:tab algn="l" pos="4056120"/>
                <a:tab algn="l" pos="4505400"/>
                <a:tab algn="l" pos="4954680"/>
                <a:tab algn="l" pos="5403960"/>
                <a:tab algn="l" pos="5853240"/>
                <a:tab algn="l" pos="6302520"/>
                <a:tab algn="l" pos="6751800"/>
                <a:tab algn="l" pos="7201080"/>
                <a:tab algn="l" pos="7650000"/>
                <a:tab algn="l" pos="8099280"/>
                <a:tab algn="l" pos="8548560"/>
                <a:tab algn="l" pos="899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- výběr jednoho sesuvu – v oblasti s vrstevnicem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400" indent="-11160">
              <a:tabLst>
                <a:tab algn="l" pos="0"/>
                <a:tab algn="l" pos="14400"/>
                <a:tab algn="l" pos="461880"/>
                <a:tab algn="l" pos="911160"/>
                <a:tab algn="l" pos="1360440"/>
                <a:tab algn="l" pos="1809720"/>
                <a:tab algn="l" pos="2259000"/>
                <a:tab algn="l" pos="2708280"/>
                <a:tab algn="l" pos="3157560"/>
                <a:tab algn="l" pos="3606840"/>
                <a:tab algn="l" pos="4056120"/>
                <a:tab algn="l" pos="4505400"/>
                <a:tab algn="l" pos="4954680"/>
                <a:tab algn="l" pos="5403960"/>
                <a:tab algn="l" pos="5853240"/>
                <a:tab algn="l" pos="6302520"/>
                <a:tab algn="l" pos="6751800"/>
                <a:tab algn="l" pos="7201080"/>
                <a:tab algn="l" pos="7650000"/>
                <a:tab algn="l" pos="8099280"/>
                <a:tab algn="l" pos="8548560"/>
                <a:tab algn="l" pos="899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- terénní profil od sesuvu k nejbližšímu toku (+200m přesahy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400" indent="-11160">
              <a:tabLst>
                <a:tab algn="l" pos="0"/>
                <a:tab algn="l" pos="14400"/>
                <a:tab algn="l" pos="461880"/>
                <a:tab algn="l" pos="911160"/>
                <a:tab algn="l" pos="1360440"/>
                <a:tab algn="l" pos="1809720"/>
                <a:tab algn="l" pos="2259000"/>
                <a:tab algn="l" pos="2708280"/>
                <a:tab algn="l" pos="3157560"/>
                <a:tab algn="l" pos="3606840"/>
                <a:tab algn="l" pos="4056120"/>
                <a:tab algn="l" pos="4505400"/>
                <a:tab algn="l" pos="4954680"/>
                <a:tab algn="l" pos="5403960"/>
                <a:tab algn="l" pos="5853240"/>
                <a:tab algn="l" pos="6302520"/>
                <a:tab algn="l" pos="6751800"/>
                <a:tab algn="l" pos="7201080"/>
                <a:tab algn="l" pos="7650000"/>
                <a:tab algn="l" pos="8099280"/>
                <a:tab algn="l" pos="8548560"/>
                <a:tab algn="l" pos="899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- spádová křivka nejbližšího toku s vyznačeným sesuv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400" indent="-11160">
              <a:tabLst>
                <a:tab algn="l" pos="0"/>
                <a:tab algn="l" pos="14400"/>
                <a:tab algn="l" pos="461880"/>
                <a:tab algn="l" pos="911160"/>
                <a:tab algn="l" pos="1360440"/>
                <a:tab algn="l" pos="1809720"/>
                <a:tab algn="l" pos="2259000"/>
                <a:tab algn="l" pos="2708280"/>
                <a:tab algn="l" pos="3157560"/>
                <a:tab algn="l" pos="3606840"/>
                <a:tab algn="l" pos="4056120"/>
                <a:tab algn="l" pos="4505400"/>
                <a:tab algn="l" pos="4954680"/>
                <a:tab algn="l" pos="5403960"/>
                <a:tab algn="l" pos="5853240"/>
                <a:tab algn="l" pos="6302520"/>
                <a:tab algn="l" pos="6751800"/>
                <a:tab algn="l" pos="7201080"/>
                <a:tab algn="l" pos="7650000"/>
                <a:tab algn="l" pos="8099280"/>
                <a:tab algn="l" pos="8548560"/>
                <a:tab algn="l" pos="899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- kategorie relativní výškové členitosti a údaje o profilové a planární křivosti v místě sesuvu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400" indent="-11160">
              <a:tabLst>
                <a:tab algn="l" pos="0"/>
                <a:tab algn="l" pos="14400"/>
                <a:tab algn="l" pos="461880"/>
                <a:tab algn="l" pos="911160"/>
                <a:tab algn="l" pos="1360440"/>
                <a:tab algn="l" pos="1809720"/>
                <a:tab algn="l" pos="2259000"/>
                <a:tab algn="l" pos="2708280"/>
                <a:tab algn="l" pos="3157560"/>
                <a:tab algn="l" pos="3606840"/>
                <a:tab algn="l" pos="4056120"/>
                <a:tab algn="l" pos="4505400"/>
                <a:tab algn="l" pos="4954680"/>
                <a:tab algn="l" pos="5403960"/>
                <a:tab algn="l" pos="5853240"/>
                <a:tab algn="l" pos="6302520"/>
                <a:tab algn="l" pos="6751800"/>
                <a:tab algn="l" pos="7201080"/>
                <a:tab algn="l" pos="7650000"/>
                <a:tab algn="l" pos="8099280"/>
                <a:tab algn="l" pos="8548560"/>
                <a:tab algn="l" pos="899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- velikost povodí nejbližšího toku u sesuvu a minimální, maximální a průměrný sklon povodí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8000" y="349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II.  RELIÉF VYBRANÉHO SESUVU A ANALÝZA POVODÍ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693720"/>
            <a:ext cx="8893080" cy="144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763560"/>
            <a:ext cx="3348000" cy="1440"/>
          </a:xfrm>
          <a:prstGeom prst="line">
            <a:avLst/>
          </a:prstGeom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882720"/>
            <a:ext cx="914400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4784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Přehled sesuvů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- podklad: DMR a letecký snímek natažený na DMR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- obsah: body sesuvů; hranice geomorfologických jednotek (s 3D popisem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- letecký snímek uložte z WMS přes File - Export Map (checkbox Write World File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Detail sesuvu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- podklad: TIN ze zaměření sesuvu totálkou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- obsah: LandUse natažený na TIN, vodní toky; polygon obcí (nejbližší s 3D popisem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- při generovaní TIN zahrňte do vstupu polygon vymezující hranici sesuvu – nutno vytvořit z bodů měřených totální stanicí. Pokud jste doposud pracovali s vybraným sesuvem, který není zaměřen totální stanicí, tak si pro tento bod řešení zvolte nějaký blízký, který zaměřen j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4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III. 3D VIZUALIZAC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1T19:19:33Z</dcterms:created>
  <dc:creator>Fano</dc:creator>
  <dc:description/>
  <dc:language>en-US</dc:language>
  <cp:lastModifiedBy>tom</cp:lastModifiedBy>
  <dcterms:modified xsi:type="dcterms:W3CDTF">2011-03-02T08:24:04Z</dcterms:modified>
  <cp:revision>70</cp:revision>
  <dc:subject/>
  <dc:title>DIGITÁLNÍ ZPRACOVÁNÍ MATERIÁLŮ DPZ </dc:title>
</cp:coreProperties>
</file>