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05520" cy="382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072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402084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4407B-0976-4F1A-8D34-AE54AF103FE0}" type="slidenum">
              <a:rPr b="1" lang="cs-CZ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36943-29B7-4021-865C-E834177FBB07}" type="slidenum">
              <a:rPr b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3B57-3FA2-4F3C-B0F8-43E9DC95F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7D34-33FB-4076-91C6-16011D534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2EA4-2A8F-4681-9D44-7162759DF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DBF3A-84A0-4C37-AC25-2775BA23A5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61FA-2518-4C5E-822C-075A2E31D6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2782-7D2A-451A-B5DF-47464C204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3AA5-5278-423A-8938-1608CE78F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3C7A-0108-4D0A-84E4-D5FC62059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BDCDD-6015-4964-9BCD-10ABFCDBB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3FCF-30F9-434C-A8B2-CF8220D93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F081-65A6-4E1F-B2C1-3966D6057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F145-4A27-4FAC-BA26-0CAEC2180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F0F12-8AC3-4CFA-AFB2-F675A1B6939C}" type="slidenum">
              <a:rPr b="1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714920"/>
            <a:ext cx="9144000" cy="214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920" y="836640"/>
            <a:ext cx="896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APLIKOVANÁ GEOINFORMATIKA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- SEMESTRÁLNÍ PROJEK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593800"/>
            <a:ext cx="813600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MĚLKÉ SESUVY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NA ZLÍNSK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93720"/>
            <a:ext cx="889308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6356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88272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laborát ze tři částí – popis postupu a použitých funkcí a popis výsledků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Úspěšné odevzdání nutné před zkouškou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acujte průběžně, některé funkce potřebné v elaborátech se naučíte dřív, jiné později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ěkdy je více cest jak dosáhnout téhož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budou se kontrolovat přesné výsledky a smysluplnost textového popisu – odborníci na FG jste v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ačí odevzdat v požadované osnově a kvalitě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valitní elaboráty s viditelnou snahou – body navíc pro závěrečnou zkoušku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HODNOCEN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836640"/>
            <a:ext cx="73803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90648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36360" y="1273320"/>
            <a:ext cx="91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HODNOCENÍ TERÉNNÍHO MAPOVÁNÍ MĚLKÝCH SESUVŮ NA ZLÍNSK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íle: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.   prostorová statistika (geografická char., parametry DM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I.  prostorová analýza (reliéf, analýza povodí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II. 3D vizualiz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384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LÁN CVIČEN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836640"/>
            <a:ext cx="73803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90648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384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DATOVÉ SAD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42920" y="944640"/>
          <a:ext cx="9070920" cy="2960280"/>
        </p:xfrm>
        <a:graphic>
          <a:graphicData uri="http://schemas.openxmlformats.org/drawingml/2006/table">
            <a:tbl>
              <a:tblPr/>
              <a:tblGrid>
                <a:gridCol w="3011400"/>
                <a:gridCol w="2840040"/>
                <a:gridCol w="1865520"/>
                <a:gridCol w="1353960"/>
              </a:tblGrid>
              <a:tr h="716760">
                <a:tc>
                  <a:txBody>
                    <a:bodyPr lIns="90000" rIns="90000" tIns="4284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bor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284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ah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284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át da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284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-zlinsko_gps-pt.xl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S body lokalizující část sesuv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ulka Exce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S8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6440"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_zlinsko_total-pt.tx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ní zaměření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lších sesuvů pomocí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ální stani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ový seznam souřadni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JTSK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-zlinsko_dbform.xl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 údaje o všech sesuve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ulka Exce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4920" y="4400640"/>
            <a:ext cx="91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lší dat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rstevnice ze ZM10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oskytnut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BAVOD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ovodí IV.řádu, vodní tok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nia – landuse, ortofo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oČR –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omorfologické jednotky (shp, S-JTS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5280" y="4789440"/>
            <a:ext cx="3024000" cy="93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pojit tabulku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es sloupec názvů sesuvů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9360"/>
            <a:ext cx="73803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20640"/>
            <a:ext cx="3348000" cy="180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-20520"/>
            <a:ext cx="89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ŘÍPRAVA DA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6416640"/>
            <a:ext cx="68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HODNOCENÍ TERÉNNÍHO MAPOVÁNÍ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833400"/>
            <a:ext cx="259236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s-zlinsko_gps-pt.x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8720" y="1336680"/>
            <a:ext cx="287964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mportovat body, definovat souřadný systé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31920" y="2171880"/>
            <a:ext cx="2087640" cy="54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ansformace z WGS do S-JT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833400"/>
            <a:ext cx="288144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s_zlinsko_total-pt.t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8720" y="1344600"/>
            <a:ext cx="273672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mportovat body, definovat souřadný systém, ulož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2170080"/>
            <a:ext cx="2449440" cy="109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brat vrcholové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ody sesuvů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sloupec TopPt = 1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ložit v nové vrstv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52720" y="3497400"/>
            <a:ext cx="259236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loučit vrstvy (Mer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43280" y="4014720"/>
            <a:ext cx="2808000" cy="54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jednotit sloup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zvů sesuvů (FieldCal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5121360"/>
            <a:ext cx="3024000" cy="274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s-zlinsko_dbform.x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1" idx="2"/>
            <a:endCxn id="72" idx="0"/>
          </p:cNvCxnSpPr>
          <p:nvPr/>
        </p:nvCxnSpPr>
        <p:spPr>
          <a:xfrm>
            <a:off x="2266920" y="110772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4" idx="2"/>
            <a:endCxn id="75" idx="0"/>
          </p:cNvCxnSpPr>
          <p:nvPr/>
        </p:nvCxnSpPr>
        <p:spPr>
          <a:xfrm>
            <a:off x="5435640" y="1107720"/>
            <a:ext cx="216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5" idx="2"/>
            <a:endCxn id="76" idx="0"/>
          </p:cNvCxnSpPr>
          <p:nvPr/>
        </p:nvCxnSpPr>
        <p:spPr>
          <a:xfrm flipH="1">
            <a:off x="5435280" y="2168280"/>
            <a:ext cx="2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/>
          <p:nvPr/>
        </p:nvCxnSpPr>
        <p:spPr>
          <a:xfrm flipH="1">
            <a:off x="7108200" y="1698480"/>
            <a:ext cx="43560" cy="432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endCxn id="77" idx="0"/>
          </p:cNvCxnSpPr>
          <p:nvPr/>
        </p:nvCxnSpPr>
        <p:spPr>
          <a:xfrm flipH="1">
            <a:off x="3347640" y="3271320"/>
            <a:ext cx="151056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2" idx="2"/>
            <a:endCxn id="73" idx="0"/>
          </p:cNvCxnSpPr>
          <p:nvPr/>
        </p:nvCxnSpPr>
        <p:spPr>
          <a:xfrm>
            <a:off x="2268000" y="2160360"/>
            <a:ext cx="900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3" idx="2"/>
            <a:endCxn id="77" idx="0"/>
          </p:cNvCxnSpPr>
          <p:nvPr/>
        </p:nvCxnSpPr>
        <p:spPr>
          <a:xfrm>
            <a:off x="2274480" y="2720520"/>
            <a:ext cx="1073520" cy="7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7" idx="2"/>
            <a:endCxn id="78" idx="0"/>
          </p:cNvCxnSpPr>
          <p:nvPr/>
        </p:nvCxnSpPr>
        <p:spPr>
          <a:xfrm flipH="1">
            <a:off x="3347280" y="3772080"/>
            <a:ext cx="25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78" idx="2"/>
            <a:endCxn id="66" idx="0"/>
          </p:cNvCxnSpPr>
          <p:nvPr/>
        </p:nvCxnSpPr>
        <p:spPr>
          <a:xfrm>
            <a:off x="3347640" y="4564080"/>
            <a:ext cx="252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050920" y="6381720"/>
            <a:ext cx="568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800400" y="1692360"/>
            <a:ext cx="3668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36000" y="3703680"/>
            <a:ext cx="1439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 tvorbu T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/>
          <p:nvPr/>
        </p:nvCxnSpPr>
        <p:spPr>
          <a:xfrm>
            <a:off x="3346560" y="5716080"/>
            <a:ext cx="864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49360"/>
            <a:ext cx="73803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20640"/>
            <a:ext cx="3348000" cy="180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0" y="-33480"/>
            <a:ext cx="86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ŘÍPRAVA D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5640" y="6380280"/>
            <a:ext cx="68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HODNOCENÍ TERÉNNÍHO MAPOVÁNÍ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720720"/>
            <a:ext cx="817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07_Povodi_IV.sh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vybrat povodí, ve kterých leží sesuv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uložit do nové vrstv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rstd25.shp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odstranit linie s výškou 0 (sloupec ZV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smazat zbytečné sloup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02_Vodni_tok_JU.shp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určit vodní toky ve vybraných povodí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uložit do nové vrstv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470640" y="256536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470640" y="39322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4720" y="2565360"/>
            <a:ext cx="36360" cy="30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59280" y="558000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vorba DMR (TopoToRast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5580000"/>
            <a:ext cx="1835280" cy="657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6345360"/>
            <a:ext cx="568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81000"/>
            <a:ext cx="8893080" cy="18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050840"/>
            <a:ext cx="3348000" cy="180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0" y="101916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shromáždění a setřídě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relevantních informací pro mělké sesuvy (hledání společných prvků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sa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lokalizace území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začlenění do geologických a geomorfologických jednote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BPEJ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land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morfometrická analýza (sklon, orientace, křivost..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relativní výšková členit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 všech bodů tabulky, mapky, slovní popis – na daném území převažuje..., v místech sesuvů převažuje..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yl FG analýz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ta: WMS, DMR (probírá se až v 9.-10. cvičení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36360" y="34920"/>
            <a:ext cx="93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CHARAKTERISTIKA ÚZEM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93720"/>
            <a:ext cx="889308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356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2920" y="900000"/>
            <a:ext cx="885672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ypy reliéfu podle relativní výškové členitost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spcBef>
                <a:spcPts val="9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vin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0 - 30 m)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loch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členit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ahorkatin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30 - 150 m)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-  75  - 150 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rchovin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150 - 300 m)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- 225 - 300 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ornatin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300 - 600 m)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- 450 - 600 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elehornatiny (nad 600 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nalýza RVČ v G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stupní data: DM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Spatial Analyst Tools – Neighborhood Statist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ck Statistics – zjištění výškového rozdílu ve čtvercích 1x1 k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RID 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RID M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) GRID R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převzorkování velikosti pixelu na rozměr 1x1 km – Res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 konverze rastru na body RasterTo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 interpolace z bodů – Sp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6360" y="34920"/>
            <a:ext cx="93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CHARAKTERISTIKA ÚZEM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305000"/>
            <a:ext cx="889308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37484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200" y="1557360"/>
            <a:ext cx="8902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výběr jednoho sesuvu – v oblasti s vrstevnicem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terénní profil od sesuvu k nejbližšímu toku (+200m přesah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spádová křivka nejbližšího toku s vyznačeným sesuv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kategorie relativní výškové členitosti a údaje o profilové a planární křivosti v místě sesuv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velikost povodí nejbližšího toku u sesuvu a minimální, maximální a průměrný sklon povod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3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I.  RELIÉF VYBRANÉHO SESUVU A ANALÝZA POVOD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93720"/>
            <a:ext cx="889308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356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88272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ehled sesuvů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podklad: DMR a letecký snímek natažený na DM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obsah: body sesuvů; hranice geomorfologických jednotek (s 3D popise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letecký snímek uložte z WMS přes File - Export Map (checkbox Write World Fil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Detail sesuv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podklad: TIN ze zaměření sesuvu totálko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obsah: LandUse natažený na TIN, vodní toky; polygon obcí (nejbližší s 3D popise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při generovaní TIN zahrňte do vstupu polygon vymezující hranici sesuvu – nutno vytvořit z bodů měřených totální stanicí. Pokud jste doposud pracovali s vybraným sesuvem, který není zaměřen totální stanicí, tak si pro tento bod řešení zvolte nějaký blízký, který zaměřen j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II. 3D VIZUALIZ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9:19:33Z</dcterms:created>
  <dc:creator>Fano</dc:creator>
  <dc:description/>
  <dc:language>en-US</dc:language>
  <cp:lastModifiedBy>tom</cp:lastModifiedBy>
  <dcterms:modified xsi:type="dcterms:W3CDTF">2011-03-02T08:24:04Z</dcterms:modified>
  <cp:revision>70</cp:revision>
  <dc:subject/>
  <dc:title>DIGITÁLNÍ ZPRACOVÁNÍ MATERIÁLŮ DPZ </dc:title>
</cp:coreProperties>
</file>