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05520" cy="382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072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60EFF-6424-413F-A7C5-3009C3FF1DFC}" type="slidenum">
              <a:rPr b="1" lang="cs-CZ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3AAC0-1D4A-4A03-83E9-530712A53D31}" type="slidenum">
              <a:rPr b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3651-9DA2-46B3-B6B0-D403CA153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2727-2CBC-48D8-BED5-7A82BB145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28D2-3379-4362-AF5D-09F77969D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EE0C-328A-40A4-9FDE-2557B46E23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F30E-EF5D-4113-BAD0-25ED052FA3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7C52-5BB5-4FD7-83AF-92F06CDC6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9090-89A7-40F5-9ABA-BB9858D95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7A5A-9405-4873-84E7-9868EA85B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10C8-0C56-4449-B150-64248B298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1133-B54B-43E2-B86E-2E2EFFC9C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635D-26F0-49A3-8D4B-8338A742A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0C54-6B3B-4ABF-8713-94F92AC0E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B3F79-4C3B-40D6-8671-AD7DACB9B97F}" type="slidenum">
              <a:rPr b="1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0" y="83664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APLIKOVANÁ GEOINFORMATIK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- SEMESTRÁLNÍ PROJEK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593800"/>
            <a:ext cx="813600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MĚLKÉ SESUVY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NA ZLÍNSK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827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laborát ze tři částí – popis postupu a použitých funkcí a popis výsledků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spěšné odevzdání nutné před zkouško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acujte průběžně, některé funkce potřebné v elaborátech se naučíte dřív, jiné později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ěkdy je více cest jak dosáhnout téhož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budou se kontrolovat přesné výsledky a smysluplnost textového popisu – odborníci na FG jste v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čí odevzdat v požadované osnově a kvalitě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litní elaboráty s viditelnou snahou – body navíc pro závěrečnou zkoušk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83664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0648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6360" y="1273320"/>
            <a:ext cx="91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HODNOCENÍ TERÉNNÍHO MAPOVÁNÍ MĚLKÝCH SESUVŮ NA ZLÍNSK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íle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.   prostorová statistika (geografická char., parametry DM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.  prostorová analýza (reliéf, analýza povodí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I. 3D vizualiz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38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LÁN CVIČ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83664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0648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38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ATOVÉ SAD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42920" y="944640"/>
          <a:ext cx="9070920" cy="2960280"/>
        </p:xfrm>
        <a:graphic>
          <a:graphicData uri="http://schemas.openxmlformats.org/drawingml/2006/table">
            <a:tbl>
              <a:tblPr/>
              <a:tblGrid>
                <a:gridCol w="3011400"/>
                <a:gridCol w="2840040"/>
                <a:gridCol w="1865520"/>
                <a:gridCol w="1353960"/>
              </a:tblGrid>
              <a:tr h="716760"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bo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a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 da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zlinsko_gps-pt.xl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S body lokalizující část sesuv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ulka Exc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S8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44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_zlinsko_total-pt.tx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ní zaměřen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lších sesuvů pomocí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ální stani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ový seznam souřadn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JTS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zlinsko_dbform.xl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 údaje o všech sesuve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ulka Exc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4920" y="440064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lší dat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rstevnice ze ZM10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skytnut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BAVOD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vodí IV.řádu, vodní tok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ia – landuse, ortofo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ČR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omorfologické jednotky (shp, S-JTS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4789440"/>
            <a:ext cx="3024000" cy="93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pojit tabulk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s sloupec názvů sesuvů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06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-20520"/>
            <a:ext cx="89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ŘÍPRAVA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6416640"/>
            <a:ext cx="68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ODNOCENÍ TERÉNNÍHO MAPOVÁNÍ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833400"/>
            <a:ext cx="259236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-zlinsko_gps-pt.x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1336680"/>
            <a:ext cx="287964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portovat body, definovat souřadný systé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31920" y="2171880"/>
            <a:ext cx="208764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ansformace z WGS do S-JT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833400"/>
            <a:ext cx="288144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_zlinsko_total-pt.t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8720" y="1344600"/>
            <a:ext cx="273672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portovat body, definovat souřadný systém, ulož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2170080"/>
            <a:ext cx="2449440" cy="109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brat vrcholové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dy sesuvů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sloupec TopPt = 1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ložit v nové vrstv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2720" y="3497400"/>
            <a:ext cx="259236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oučit vrstvy (Mer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43280" y="4014720"/>
            <a:ext cx="280800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jednotit sloup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zvů sesuvů (FieldCal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5121360"/>
            <a:ext cx="3024000" cy="274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-zlinsko_dbform.x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1" idx="2"/>
            <a:endCxn id="72" idx="0"/>
          </p:cNvCxnSpPr>
          <p:nvPr/>
        </p:nvCxnSpPr>
        <p:spPr>
          <a:xfrm>
            <a:off x="2266920" y="110772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4" idx="2"/>
            <a:endCxn id="75" idx="0"/>
          </p:cNvCxnSpPr>
          <p:nvPr/>
        </p:nvCxnSpPr>
        <p:spPr>
          <a:xfrm>
            <a:off x="5435640" y="1107720"/>
            <a:ext cx="21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5" idx="2"/>
            <a:endCxn id="76" idx="0"/>
          </p:cNvCxnSpPr>
          <p:nvPr/>
        </p:nvCxnSpPr>
        <p:spPr>
          <a:xfrm flipH="1">
            <a:off x="5435280" y="2168280"/>
            <a:ext cx="2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 flipH="1">
            <a:off x="7108200" y="1698480"/>
            <a:ext cx="43560" cy="432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endCxn id="77" idx="0"/>
          </p:cNvCxnSpPr>
          <p:nvPr/>
        </p:nvCxnSpPr>
        <p:spPr>
          <a:xfrm flipH="1">
            <a:off x="3347640" y="3271320"/>
            <a:ext cx="151056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2" idx="2"/>
            <a:endCxn id="73" idx="0"/>
          </p:cNvCxnSpPr>
          <p:nvPr/>
        </p:nvCxnSpPr>
        <p:spPr>
          <a:xfrm>
            <a:off x="2268000" y="2160360"/>
            <a:ext cx="90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3" idx="2"/>
            <a:endCxn id="77" idx="0"/>
          </p:cNvCxnSpPr>
          <p:nvPr/>
        </p:nvCxnSpPr>
        <p:spPr>
          <a:xfrm>
            <a:off x="2274480" y="2720520"/>
            <a:ext cx="1073520" cy="7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7" idx="2"/>
            <a:endCxn id="78" idx="0"/>
          </p:cNvCxnSpPr>
          <p:nvPr/>
        </p:nvCxnSpPr>
        <p:spPr>
          <a:xfrm flipH="1">
            <a:off x="3347280" y="3772080"/>
            <a:ext cx="25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8" idx="2"/>
            <a:endCxn id="66" idx="0"/>
          </p:cNvCxnSpPr>
          <p:nvPr/>
        </p:nvCxnSpPr>
        <p:spPr>
          <a:xfrm>
            <a:off x="3347640" y="4564080"/>
            <a:ext cx="252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050920" y="6381720"/>
            <a:ext cx="568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00400" y="1692360"/>
            <a:ext cx="3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3703680"/>
            <a:ext cx="1439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 tvorbu T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/>
          <p:nvPr/>
        </p:nvCxnSpPr>
        <p:spPr>
          <a:xfrm>
            <a:off x="3346560" y="5716080"/>
            <a:ext cx="864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206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0" y="-33480"/>
            <a:ext cx="86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ŘÍPRAVA D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6380280"/>
            <a:ext cx="68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ODNOCENÍ TERÉNNÍHO MAPOVÁNÍ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720720"/>
            <a:ext cx="817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07_Povodi_IV.sh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vybrat povodí, ve kterých leží sesuv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ložit do nové vrstv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rstd25.shp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odstranit linie s výškou 0 (sloupec ZV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smazat zbytečné sloup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02_Vodni_tok_JU.sh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rčit vodní toky ve vybraných povodí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ložit do nové vrstv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70640" y="256536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470640" y="39322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4720" y="2565360"/>
            <a:ext cx="36360" cy="30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59280" y="5580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vorba DMR (TopoToRast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5580000"/>
            <a:ext cx="1835280" cy="657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6345360"/>
            <a:ext cx="568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81000"/>
            <a:ext cx="8893080" cy="18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0508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101916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shromáždění a setřídě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elevantních informací pro mělké sesuvy (hledání společných prvků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lokalizace území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začlenění do geologických a geomorfologických jednote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BPEJ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land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morfometrická analýza (sklon, orientace, křivost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relativní výšková členit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 všech bodů tabulky, mapky, slovní popis – na daném území převažuje..., v místech sesuvů převažuje..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yl FG analýz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ta: WMS, DMR (probírá se až v 9.-10. cvičení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6360" y="34920"/>
            <a:ext cx="93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CHARAKTERISTIKA ÚZEM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2920" y="900000"/>
            <a:ext cx="885672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ypy reliéfu podle relativní výškové členitos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spcBef>
                <a:spcPts val="9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v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0 - 30 m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loch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členit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horkat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30 - 15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 75  - 15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v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50 - 30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225 - 30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ornat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300 - 60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450 - 60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lehornatiny (nad 600 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nalýza RVČ v G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stupní data: DM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Spatial Analyst Tools – Neighborhood Statist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 Statistics – zjištění výškového rozdílu ve čtvercích 1x1 k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RID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RID 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 GRID R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převzorkování velikosti pixelu na rozměr 1x1 km – Res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konverze rastru na body RasterTo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interpolace z bodů – Sp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6360" y="34920"/>
            <a:ext cx="93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CHARAKTERISTIKA ÚZEM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0500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7484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200" y="1557360"/>
            <a:ext cx="8902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výběr jednoho sesuvu – v oblasti s vrstevnice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terénní profil od sesuvu k nejbližšímu toku (+200m přesah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spádová křivka nejbližšího toku s vyznačeným sesuv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kategorie relativní výškové členitosti a údaje o profilové a planární křivosti v místě sesuv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velikost povodí nejbližšího toku u sesuvu a minimální, maximální a průměrný sklon povod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3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I.  RELIÉF VYBRANÉHO SESUVU A ANALÝZA POVOD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827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hled sesuvů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odklad: DMR a letecký snímek natažený na DM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obsah: body sesuvů; hranice geomorfologických jednotek (s 3D popis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letecký snímek uložte z WMS přes File - Export Map (checkbox Write World Fil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etail sesuv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odklad: TIN ze zaměření sesuvu totálk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obsah: LandUse natažený na TIN, vodní toky; polygon obcí (nejbližší s 3D popis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ři generovaní TIN zahrňte do vstupu polygon vymezující hranici sesuvu – nutno vytvořit z bodů měřených totální stanicí. Pokud jste doposud pracovali s vybraným sesuvem, který není zaměřen totální stanicí, tak si pro tento bod řešení zvolte nějaký blízký, který zaměřen j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II. 3D VIZUALIZ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9:19:33Z</dcterms:created>
  <dc:creator>Fano</dc:creator>
  <dc:description/>
  <dc:language>en-US</dc:language>
  <cp:lastModifiedBy>tom</cp:lastModifiedBy>
  <dcterms:modified xsi:type="dcterms:W3CDTF">2011-03-02T08:24:04Z</dcterms:modified>
  <cp:revision>70</cp:revision>
  <dc:subject/>
  <dc:title>DIGITÁLNÍ ZPRACOVÁNÍ MATERIÁLŮ DPZ </dc:title>
</cp:coreProperties>
</file>