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05520" cy="38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FC1C8-9760-4BB4-A890-C57DF3D21E33}" type="slidenum">
              <a: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BB5A8-2CB1-4ED5-8AE1-972616BCEBE3}" type="slidenum">
              <a:rPr b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80B8-9BE6-4451-B1EC-FCB33E5D7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9225-1BAD-4EF7-9A40-78923CE28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1664-3BB2-48DE-BE00-BA6EF5B28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6113-4EE4-4590-9F74-E5CA35974A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3D9E-8E0F-4B6C-B0FE-BC253C4AE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2CCA-BA48-4D58-96F3-C4B78CC7D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841B-323E-4D04-B3DC-DBDB3276D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3D90-B52E-47B6-A6C9-0B16B3F74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FA0D-08B5-4772-8006-094AF8562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D464-1613-4709-B17D-397D686F4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BA05-5C97-45DC-B163-0BB0AD399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EAC6-BA28-4F3F-B39F-70AB1331A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64CB8-B27F-47C4-BE1C-FEF1D06B84BD}" type="slidenum">
              <a:rPr b="1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836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PLIKOVANÁ GEOINFORMATIK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SEMESTRÁLNÍ PROJEK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93800"/>
            <a:ext cx="8136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MĚLKÉ SESUV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NA ZLÍNSK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827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át ze tři částí – popis postupu a použitých funkcí a popis výsledků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spěšné odevzdání nutné před zkoušk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cujte průběžně, některé funkce potřebné v elaborátech se naučíte dřív, jiné pozdě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ěkdy je více cest jak dosáhnout tého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budou se kontrolovat přesné výsledky a smysluplnost textového popisu – odborníci na FG jste 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čí odevzdat v požadované osnově a kvalitě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ní elaboráty s viditelnou snahou – body navíc pro závěrečnou zkoušk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1273320"/>
            <a:ext cx="91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ODNOCENÍ TERÉNNÍHO MAPOVÁNÍ MĚLKÝCH SESUVŮ NA ZLÍNS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  prostorová statistika (geografická char., parametry DM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 prostorová analýza (reliéf, analýza povodí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LÁN CVIČ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OVÉ SA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2920" y="944640"/>
          <a:ext cx="9070920" cy="2960280"/>
        </p:xfrm>
        <a:graphic>
          <a:graphicData uri="http://schemas.openxmlformats.org/drawingml/2006/table">
            <a:tbl>
              <a:tblPr/>
              <a:tblGrid>
                <a:gridCol w="3011400"/>
                <a:gridCol w="2840040"/>
                <a:gridCol w="1865520"/>
                <a:gridCol w="1353960"/>
              </a:tblGrid>
              <a:tr h="716760"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 da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gps-pt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body lokalizující část sesuv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S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_zlinsko_total-pt.tx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ní zaměřen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ch sesuvů pomoc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ální stan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ový seznam souřadn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JTS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dbform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údaje o všech sesuve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4920" y="440064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rstevnice ze ZM1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kytnut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BAV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vodí IV.řádu, vodní tok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ia – landuse, ortof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ČR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orfologické jednotky (shp, S-JTS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4789440"/>
            <a:ext cx="3024000" cy="93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ojit tabul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s sloupec názvů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205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641664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833400"/>
            <a:ext cx="25923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gps-pt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336680"/>
            <a:ext cx="287964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1920" y="2171880"/>
            <a:ext cx="208764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nsformace z WGS do S-JT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833400"/>
            <a:ext cx="288144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_zlinsko_total-pt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720" y="1344600"/>
            <a:ext cx="273672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, ulož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170080"/>
            <a:ext cx="2449440" cy="10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brat vrcholov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dy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loupec TopPt = 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ožit v nové vrstv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3497400"/>
            <a:ext cx="25923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čit vrstvy (Me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4014720"/>
            <a:ext cx="28080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jednotit sloup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vů sesuvů (FieldCal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21360"/>
            <a:ext cx="3024000" cy="27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dbform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2"/>
            <a:endCxn id="72" idx="0"/>
          </p:cNvCxnSpPr>
          <p:nvPr/>
        </p:nvCxnSpPr>
        <p:spPr>
          <a:xfrm>
            <a:off x="2266920" y="11077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5435640" y="1107720"/>
            <a:ext cx="2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2"/>
            <a:endCxn id="76" idx="0"/>
          </p:cNvCxnSpPr>
          <p:nvPr/>
        </p:nvCxnSpPr>
        <p:spPr>
          <a:xfrm flipH="1">
            <a:off x="5435280" y="2168280"/>
            <a:ext cx="2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>
            <a:off x="7108200" y="1698480"/>
            <a:ext cx="43560" cy="432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endCxn id="77" idx="0"/>
          </p:cNvCxnSpPr>
          <p:nvPr/>
        </p:nvCxnSpPr>
        <p:spPr>
          <a:xfrm flipH="1">
            <a:off x="3347640" y="3271320"/>
            <a:ext cx="151056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2" idx="2"/>
            <a:endCxn id="73" idx="0"/>
          </p:cNvCxnSpPr>
          <p:nvPr/>
        </p:nvCxnSpPr>
        <p:spPr>
          <a:xfrm>
            <a:off x="2268000" y="2160360"/>
            <a:ext cx="90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2"/>
            <a:endCxn id="77" idx="0"/>
          </p:cNvCxnSpPr>
          <p:nvPr/>
        </p:nvCxnSpPr>
        <p:spPr>
          <a:xfrm>
            <a:off x="2274480" y="2720520"/>
            <a:ext cx="107352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2"/>
            <a:endCxn id="78" idx="0"/>
          </p:cNvCxnSpPr>
          <p:nvPr/>
        </p:nvCxnSpPr>
        <p:spPr>
          <a:xfrm flipH="1">
            <a:off x="3347280" y="3772080"/>
            <a:ext cx="2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8" idx="2"/>
            <a:endCxn id="66" idx="0"/>
          </p:cNvCxnSpPr>
          <p:nvPr/>
        </p:nvCxnSpPr>
        <p:spPr>
          <a:xfrm>
            <a:off x="3347640" y="4564080"/>
            <a:ext cx="2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050920" y="638172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00400" y="1692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703680"/>
            <a:ext cx="143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tvorbu T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3346560" y="5716080"/>
            <a:ext cx="86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-334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638028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20720"/>
            <a:ext cx="817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7_Povodi_IV.sh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vybrat povodí, ve kterých leží sesu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std25.shp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dstranit linie s výškou 0 (sloupec ZV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mazat zbytečné sloup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2_Vodni_tok_JU.sh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rčit vodní toky ve vybraných povodí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0640" y="25653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70640" y="39322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2565360"/>
            <a:ext cx="36360" cy="30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9280" y="5580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MR (TopoToRas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580000"/>
            <a:ext cx="1835280" cy="65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34536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81000"/>
            <a:ext cx="8893080" cy="1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08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01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hromáždění a setříd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elevantních informací pro mělké sesuvy (hledání společných prvků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okalizace územ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začlenění do geologických a geomorfologických jednote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BP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and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morfometrická analýza (sklon, orientace, křivost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relativní výšková členit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 všech bodů tabulky, mapky, slovní popis – na daném území převažuje..., v místech sesuvů převažuje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yl FG analý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: WMS, DMR (probírá se až v 9.-10. cvičení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920" y="900000"/>
            <a:ext cx="8856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y reliéfu podle relativní výškové členit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spcBef>
                <a:spcPts val="9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0 - 30 m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och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člen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hork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 - 15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75  - 15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50 - 3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225 - 3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rn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0 - 6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450 - 6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ehornatiny (nad 600 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VČ v G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data: D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Spatial Analyst Tools – Neighborhood Stat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Statistics – zjištění výškového rozdílu ve čtvercích 1x1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GRID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převzorkování velikosti pixelu na rozměr 1x1 km – Re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konverze rastru na body RasterTo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interpolace z bodů – Sp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0500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484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200" y="1557360"/>
            <a:ext cx="8902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ýběr jednoho sesuvu – v oblasti s vrstevnic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terénní profil od sesuvu k nejbližšímu toku (+200m přesa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spádová křivka nejbližšího toku s vyznačeným sesuv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kategorie relativní výškové členitosti a údaje o profilové a planární křivosti v místě sesuv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elikost povodí nejbližšího toku u sesuvu a minimální, maximální a průměrný sklon povo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.  RELIÉF VYBRANÉHO SESUVU A ANALÝZA POVOD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827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hled sesuv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DMR a letecký snímek natažený na DM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body sesuvů; hranice geomorfologických jednotek (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letecký snímek uložte z WMS přes File - Export Map (checkbox Write World Fi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tail sesuv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TIN ze zaměření sesuvu totálk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LandUse natažený na TIN, vodní toky; polygon obcí (nejbližší 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ři generovaní TIN zahrňte do vstupu polygon vymezující hranici sesuvu – nutno vytvořit z bodů měřených totální stanicí. Pokud jste doposud pracovali s vybraným sesuvem, který není zaměřen totální stanicí, tak si pro tento bod řešení zvolte nějaký blízký, který zaměřen 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9:19:33Z</dcterms:created>
  <dc:creator>Fano</dc:creator>
  <dc:description/>
  <dc:language>en-US</dc:language>
  <cp:lastModifiedBy>tom</cp:lastModifiedBy>
  <dcterms:modified xsi:type="dcterms:W3CDTF">2011-03-02T08:24:04Z</dcterms:modified>
  <cp:revision>70</cp:revision>
  <dc:subject/>
  <dc:title>DIGITÁLNÍ ZPRACOVÁNÍ MATERIÁLŮ DPZ </dc:title>
</cp:coreProperties>
</file>