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D9D4-CE95-4F8B-B184-50BA8683C4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C6D1-A244-48B6-A1FA-B044A9FA7C0B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B2B-0D14-4AB6-9697-3051C5C3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95C-95AB-41D9-8EA9-012B6BAA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39D-69B4-4678-A9C1-485BB6FB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6A7-C35F-4C59-B046-8D12C10E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AA4D-751F-421D-A5F4-CEB8294F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C10F-7F4F-486D-A698-70F81C87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F119-384B-4E34-AD33-E80DE510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E350-5C3C-4F73-AA9B-6D0592B4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B297-89B1-4B0C-B156-F4F897AB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2FE5-68C3-4151-9287-054562A7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30E1-E61B-4F7A-986A-AD230820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857-26A6-4F00-BAAE-1AA49638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3C40-0A4B-49BE-82F7-7990DAF5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A8DD-EB42-44A7-8927-F54A8872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1A39-C53E-45F1-9CD1-B962FB5D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7720-928C-4FEE-B265-B0776D58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7CEE-B03F-4E77-9AC7-4EEDE86D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69B-26BA-43B1-93D4-3A19F5FD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899-AA40-44A8-B10B-D7271896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049-F766-485C-9CB6-B85DB84A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58D-2C57-4990-B210-0F144AE9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547-9E68-4404-9F80-D097A795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CA9-7BF2-4A78-8EF2-67133E07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1EE-290D-4E5B-8A50-D6DCACD4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6008-95A5-404F-9F13-460F81021EE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E8B7-71FD-417B-927E-7CDEAF52B23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cs of chemical reaction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839080" cy="5589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609480" y="228600"/>
            <a:ext cx="7772400" cy="89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eaction c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lassification (one of the view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ovéPole 1"/>
          <p:cNvSpPr/>
          <p:nvPr/>
        </p:nvSpPr>
        <p:spPr>
          <a:xfrm>
            <a:off x="2843280" y="1484280"/>
            <a:ext cx="28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hemical rea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ovéPole 6"/>
          <p:cNvSpPr/>
          <p:nvPr/>
        </p:nvSpPr>
        <p:spPr>
          <a:xfrm>
            <a:off x="900000" y="2098800"/>
            <a:ext cx="158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one ste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ovéPole 7"/>
          <p:cNvSpPr/>
          <p:nvPr/>
        </p:nvSpPr>
        <p:spPr>
          <a:xfrm>
            <a:off x="4572000" y="220500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omplex – Non -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seqyunce of elementary reaction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ovéPole 8"/>
          <p:cNvSpPr/>
          <p:nvPr/>
        </p:nvSpPr>
        <p:spPr>
          <a:xfrm>
            <a:off x="682560" y="28591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ono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0"/>
          <p:cNvSpPr/>
          <p:nvPr/>
        </p:nvSpPr>
        <p:spPr>
          <a:xfrm>
            <a:off x="682560" y="342900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11"/>
          <p:cNvSpPr/>
          <p:nvPr/>
        </p:nvSpPr>
        <p:spPr>
          <a:xfrm>
            <a:off x="682560" y="40435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tr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ovéPole 12"/>
          <p:cNvSpPr/>
          <p:nvPr/>
        </p:nvSpPr>
        <p:spPr>
          <a:xfrm>
            <a:off x="2843280" y="303228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Open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6012000" y="306396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yclic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14"/>
          <p:cNvSpPr/>
          <p:nvPr/>
        </p:nvSpPr>
        <p:spPr>
          <a:xfrm>
            <a:off x="2843280" y="3443400"/>
            <a:ext cx="1800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nsequ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6"/>
          <p:cNvSpPr/>
          <p:nvPr/>
        </p:nvSpPr>
        <p:spPr>
          <a:xfrm>
            <a:off x="2846520" y="406404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mpeti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17"/>
          <p:cNvSpPr/>
          <p:nvPr/>
        </p:nvSpPr>
        <p:spPr>
          <a:xfrm>
            <a:off x="2803680" y="5157720"/>
            <a:ext cx="1881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Equilibri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18"/>
          <p:cNvSpPr/>
          <p:nvPr/>
        </p:nvSpPr>
        <p:spPr>
          <a:xfrm>
            <a:off x="5165640" y="4508640"/>
            <a:ext cx="169236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hain rea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Compsumtion of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ovéPole 19"/>
          <p:cNvSpPr/>
          <p:nvPr/>
        </p:nvSpPr>
        <p:spPr>
          <a:xfrm>
            <a:off x="6948360" y="4581360"/>
            <a:ext cx="219564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atalyt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Stational concentration of 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1"/>
          <p:cNvSpPr/>
          <p:nvPr/>
        </p:nvSpPr>
        <p:spPr>
          <a:xfrm>
            <a:off x="5219640" y="5511960"/>
            <a:ext cx="331308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Linear (one cycl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ovéPole 22"/>
          <p:cNvSpPr/>
          <p:nvPr/>
        </p:nvSpPr>
        <p:spPr>
          <a:xfrm>
            <a:off x="5240160" y="6002280"/>
            <a:ext cx="331344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ranched (several cyc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cussi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5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63244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ind mistake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2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 reasons of  reactions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ontaneous processes are accompanied by the growth of entropy (see explanation lit.: Olmsted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tropy of pure substances and compounds can be calculated from 3.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entence of thermodynam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P and T is the Gibbs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(Free entalpy)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 is the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Helmholz (Free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1403280" y="5229360"/>
            <a:ext cx="245448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4859280" y="522936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7480"/>
            <a:ext cx="69343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How is the Gibbs energy of a chemical reaction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80880" y="10666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Extent of reac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hemical reaction causes effort to reduce G system (integr. condition), which react so long as there is a leveling of the chemical potential (differential cond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13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 energy of reaction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The general mathematical notatio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Els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reaction runs until Q reaches its equilibrium value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10600"/>
            <a:ext cx="87854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The changes of thermodynamic functions and spontaneit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Low temperature prevails enthalpy contribution </a:t>
            </a:r>
            <a:br>
              <a:rPr sz="2400"/>
            </a:b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High temperature prevails entropic contribu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186840"/>
            <a:ext cx="80787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y of gypsum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72597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Calculations of thermodynamic functions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 of 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eaction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843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rom forma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Gibbs energy of the reactants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alogously to the enthalpy and entropy: .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86840"/>
            <a:ext cx="76215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ell effectivit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46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Simple oxidation of glucose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46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Total reaction inside cell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Conversion 36 ADP to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304920" y="4114800"/>
            <a:ext cx="83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verall effect of the combination of reactions in the cell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: Although 1100kJ is stored in ATP, the rest (ie 1770kJ) is not used and is converted into the thermal motion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j. cell efficiency is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7880" y="692280"/>
            <a:ext cx="74073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Basic relation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sible effec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21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4-02-19T17:09:19Z</dcterms:modified>
  <cp:revision>56</cp:revision>
  <dc:subject/>
  <dc:title>C6730 Fázové rovnováhy</dc:title>
</cp:coreProperties>
</file>