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41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7A46-1ADF-41FC-96EC-B4F27BD71F1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2989-7356-47A1-91E6-7504E3842A2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82A8-AF6A-4FD5-B7A2-4B967497DBD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0CE0-7CBF-4EBE-AC80-1A8812D7DD9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EBFA-4BB2-4A7B-8B89-EF5E10B4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634A-1886-44FA-853A-C989E188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C152-45F9-4213-8190-CA4ED88C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849-7DB3-409D-BBB0-F4F65DC5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714-DE04-4585-9DE2-52ABE728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43B-649A-438F-850E-BF31EAA8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EC2-4773-467A-A935-A2E48A98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651-47D6-44C5-A521-6B297957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F34-361B-4466-B397-40982D3F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8D5E-92BD-49C5-88AE-4AE5DF20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75E-0F31-415B-86D5-D3C2255C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82E2-3198-4307-894C-A94E0926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B4B0-FBF7-4255-9BA2-AC574734B1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84320" y="1389240"/>
            <a:ext cx="871992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ýznam genetické informace, její replik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a exprese pro živý organism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DNA – struktura, vlastnosti a funkce v organis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RNA – d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irus ( = parazitující soubor ge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Možné využití syntetických oligonukleotid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Technické použití nukleových kyselin: aptamerové senzory, DNA nanomateri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watson-crick"/>
          <p:cNvPicPr/>
          <p:nvPr/>
        </p:nvPicPr>
        <p:blipFill>
          <a:blip r:embed="rId1"/>
          <a:stretch/>
        </p:blipFill>
        <p:spPr>
          <a:xfrm>
            <a:off x="6991200" y="787320"/>
            <a:ext cx="1882800" cy="2151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50600" y="-36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kleov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é kyseli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yšší stupně uspořádán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15880" y="685800"/>
            <a:ext cx="81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ukleosomy jsou vázány na další vláknový histon a tvoř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0 nm vlákno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“. To je dále zprohýbáno a organizová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E:\PREDNASK\BunBiolBioch\podklady\nukleinky\Chromatin_packing.gif"/>
          <p:cNvPicPr/>
          <p:nvPr/>
        </p:nvPicPr>
        <p:blipFill>
          <a:blip r:embed="rId1"/>
          <a:srcRect l="0" t="0" r="0" b="8864"/>
          <a:stretch/>
        </p:blipFill>
        <p:spPr>
          <a:xfrm>
            <a:off x="606600" y="1508040"/>
            <a:ext cx="3965400" cy="5349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4764240" y="1822320"/>
            <a:ext cx="4190760" cy="466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íky uspořádání je délka chromosomu 10.000x menší než délka rozvinuté D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ostatních životních fázích buňky dochází k rozvolnění. Málo rozvolněný chromat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heterochromati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je nedostupný pro expresi genetické inform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 v nejvíce rozvolněném chromatinu zůstává struktura nukleosomů. Základní pochody na DNA, tj. replikace, transkripce nebo opravy mohou probíhat přes nukleosom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193680" y="3789360"/>
            <a:ext cx="4570560" cy="3068640"/>
            <a:chOff x="193680" y="3789360"/>
            <a:chExt cx="4570560" cy="3068640"/>
          </a:xfrm>
        </p:grpSpPr>
        <p:sp>
          <p:nvSpPr>
            <p:cNvPr id="95" name="Rectangle 7"/>
            <p:cNvSpPr/>
            <p:nvPr/>
          </p:nvSpPr>
          <p:spPr>
            <a:xfrm>
              <a:off x="193680" y="3789360"/>
              <a:ext cx="4570560" cy="30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Picture 6" descr="E:\PREDNASK\BunBiolBioch\podklady\nukleinky\Nukleosomy_z_elektr_mikr.jpg"/>
            <p:cNvPicPr/>
            <p:nvPr/>
          </p:nvPicPr>
          <p:blipFill>
            <a:blip r:embed="rId2"/>
            <a:srcRect l="0" t="-16667" r="0" b="-16667"/>
            <a:stretch/>
          </p:blipFill>
          <p:spPr>
            <a:xfrm>
              <a:off x="193680" y="3789360"/>
              <a:ext cx="4570560" cy="3068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v jádř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54000" y="941400"/>
            <a:ext cx="72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jádře se chromosomy (= molekula DNA + histony) uspořádávají do více a méně rozvinutých oblast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Jadro_a_okoli"/>
          <p:cNvPicPr/>
          <p:nvPr/>
        </p:nvPicPr>
        <p:blipFill>
          <a:blip r:embed="rId1"/>
          <a:stretch/>
        </p:blipFill>
        <p:spPr>
          <a:xfrm>
            <a:off x="1890720" y="2552760"/>
            <a:ext cx="536112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ředávání a rekombinace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08120" y="1660680"/>
            <a:ext cx="60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</a:rPr>
              <a:t>Genetick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á informace při diferenciaci buněk nemi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Somaticke_bunky_maji_veskerou_genetickou_informaci"/>
          <p:cNvPicPr/>
          <p:nvPr/>
        </p:nvPicPr>
        <p:blipFill>
          <a:blip r:embed="rId1"/>
          <a:srcRect l="0" t="0" r="0" b="36320"/>
          <a:stretch/>
        </p:blipFill>
        <p:spPr>
          <a:xfrm>
            <a:off x="744480" y="2392200"/>
            <a:ext cx="76532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431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plikace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Smycka_opozdujiciho_vlakna"/>
          <p:cNvPicPr/>
          <p:nvPr/>
        </p:nvPicPr>
        <p:blipFill>
          <a:blip r:embed="rId1"/>
          <a:stretch/>
        </p:blipFill>
        <p:spPr>
          <a:xfrm>
            <a:off x="1339920" y="890640"/>
            <a:ext cx="6464160" cy="3438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355680" y="4427640"/>
            <a:ext cx="8431200" cy="2253600"/>
          </a:xfrm>
          <a:prstGeom prst="rect">
            <a:avLst/>
          </a:prstGeom>
          <a:solidFill>
            <a:srgbClr val="1c1c70"/>
          </a:solidFill>
          <a:ln w="1584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řesnost replik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rostá syntéza DNA vlákna:      pravděpodobnost chyby 1:1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bezprostřední kontrola a oprava:              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alší kontrola a oprava na novém vláknu: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Celková pravděpodobnost chyby při replikaci:      </a:t>
            </a:r>
            <a:r>
              <a:rPr b="1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1 : 1 milia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ůležitost předávání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06480" y="1214280"/>
            <a:ext cx="76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Je to především pojistka proti současnému poškození životně důležitých genů u celého společenství jednotliv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058760" y="2270160"/>
            <a:ext cx="7178760" cy="116748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bakterií je možné předání malého množství DNA přímo mezi jedinci, nebo i z okolí buňk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obře se uplatňují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lasmid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, malé kruhové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058760" y="4013280"/>
            <a:ext cx="7178760" cy="2082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eukaryot se děje předávání genetické informace při pohlavním rozmnož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Somatické buňky jsou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diploid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– mají vždy 2 páry chromosomů, jeden od otce a jeden od matky, které se spojily při oplození, kdy se do jednoho jádra dostaly chromosomy z samční i samičí podhlavní buňk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90400" y="5046840"/>
            <a:ext cx="7961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nos genetické informace podle principu KOMPLEMENT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pouze bázové páry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: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: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Zápis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43000" y="1050840"/>
            <a:ext cx="8697960" cy="2342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všech organismů se zápis genetické informace realiz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molekul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DNA = deoxyribonukleová kyse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 to pořadím čtyř báz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den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ytos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uanin, </a:t>
            </a:r>
            <a:r>
              <a:rPr b="1" lang="cs-CZ" sz="28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hy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NAdvojsroubovice"/>
          <p:cNvPicPr/>
          <p:nvPr/>
        </p:nvPicPr>
        <p:blipFill>
          <a:blip r:embed="rId1"/>
          <a:srcRect l="0" t="0" r="45953" b="73977"/>
          <a:stretch/>
        </p:blipFill>
        <p:spPr>
          <a:xfrm>
            <a:off x="2381400" y="3763800"/>
            <a:ext cx="4381200" cy="12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5880" y="241200"/>
            <a:ext cx="862164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 je příčinou principu komplementarit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F:\Pepa\Profesura\WCparyDNA.jpg"/>
          <p:cNvPicPr/>
          <p:nvPr/>
        </p:nvPicPr>
        <p:blipFill>
          <a:blip r:embed="rId1"/>
          <a:stretch/>
        </p:blipFill>
        <p:spPr>
          <a:xfrm>
            <a:off x="2443320" y="1076400"/>
            <a:ext cx="3789360" cy="56293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4"/>
          <p:cNvGrpSpPr/>
          <p:nvPr/>
        </p:nvGrpSpPr>
        <p:grpSpPr>
          <a:xfrm>
            <a:off x="0" y="2523600"/>
            <a:ext cx="9144000" cy="4335480"/>
            <a:chOff x="0" y="2523600"/>
            <a:chExt cx="9144000" cy="4335480"/>
          </a:xfrm>
        </p:grpSpPr>
        <p:sp>
          <p:nvSpPr>
            <p:cNvPr id="117" name="Line 5"/>
            <p:cNvSpPr/>
            <p:nvPr/>
          </p:nvSpPr>
          <p:spPr>
            <a:xfrm>
              <a:off x="2847960" y="3124080"/>
              <a:ext cx="3148200" cy="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 flipH="1" flipV="1">
              <a:off x="5603400" y="252396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2790720" y="5467320"/>
              <a:ext cx="3167280" cy="3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 flipV="1">
              <a:off x="2523960" y="4885920"/>
              <a:ext cx="60516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 flipV="1">
              <a:off x="2590920" y="2523600"/>
              <a:ext cx="60480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 flipH="1" flipV="1">
              <a:off x="5565240" y="485784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0" y="6216480"/>
              <a:ext cx="914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Pouze při zachování principu komplementarity lze při libovolném řazení čtyř bází na jednom řetězci vytvořit pravidelnou strukturu dvojšroubo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bilita dvojšroubovice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93840" y="990720"/>
            <a:ext cx="835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Relativně velká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citlivost na vnější podmínky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plota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, tlak, pH, koncentrace kationtů, koncentrace jednotlivých vícemocných ion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22280" y="3606840"/>
            <a:ext cx="83566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vláštní struktury 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dmíněné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peciálním bázovým složením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alternující G a C ………………………….levotočivá 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A a G v jednom vlákně … ……….troj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G …………………………. ……….kvadr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úsek pouze s A a T s alternacemi ………ohy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93840" y="1765440"/>
            <a:ext cx="835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Závislost stability na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tavbě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délce řetěz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 bázovém složení: stabilita roste s podílem G:C pá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NA - chemické sl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2000" y="5232240"/>
            <a:ext cx="70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ef2a8"/>
                </a:solidFill>
                <a:uFillTx/>
                <a:latin typeface="Arial"/>
              </a:rPr>
              <a:t>Chemické složení RNA se od DNA liší pouze ve dvou detail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báze Thymin je Uracil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Uracil nemá methylovou skupin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deoxyribózy je ribóza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(má OH skupinu v pozici 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2’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527040" y="749160"/>
            <a:ext cx="3632040" cy="4280040"/>
            <a:chOff x="527040" y="749160"/>
            <a:chExt cx="3632040" cy="4280040"/>
          </a:xfrm>
        </p:grpSpPr>
        <p:pic>
          <p:nvPicPr>
            <p:cNvPr id="131" name="Picture 5" descr="Slozeni_retezce_DNA"/>
            <p:cNvPicPr/>
            <p:nvPr/>
          </p:nvPicPr>
          <p:blipFill>
            <a:blip r:embed="rId1"/>
            <a:stretch/>
          </p:blipFill>
          <p:spPr>
            <a:xfrm>
              <a:off x="527040" y="749160"/>
              <a:ext cx="3632040" cy="42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6"/>
            <p:cNvSpPr/>
            <p:nvPr/>
          </p:nvSpPr>
          <p:spPr>
            <a:xfrm>
              <a:off x="2589120" y="10332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7"/>
          <p:cNvGrpSpPr/>
          <p:nvPr/>
        </p:nvGrpSpPr>
        <p:grpSpPr>
          <a:xfrm>
            <a:off x="4932360" y="736560"/>
            <a:ext cx="3527280" cy="4230720"/>
            <a:chOff x="4932360" y="736560"/>
            <a:chExt cx="3527280" cy="4230720"/>
          </a:xfrm>
        </p:grpSpPr>
        <p:pic>
          <p:nvPicPr>
            <p:cNvPr id="134" name="Picture 8" descr="RNAchemstrukt"/>
            <p:cNvPicPr/>
            <p:nvPr/>
          </p:nvPicPr>
          <p:blipFill>
            <a:blip r:embed="rId2"/>
            <a:srcRect l="0" t="5965" r="0" b="8947"/>
            <a:stretch/>
          </p:blipFill>
          <p:spPr>
            <a:xfrm>
              <a:off x="4932360" y="736560"/>
              <a:ext cx="352728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9"/>
            <p:cNvSpPr/>
            <p:nvPr/>
          </p:nvSpPr>
          <p:spPr>
            <a:xfrm>
              <a:off x="7068960" y="10206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0"/>
          <p:cNvGrpSpPr/>
          <p:nvPr/>
        </p:nvGrpSpPr>
        <p:grpSpPr>
          <a:xfrm>
            <a:off x="6130800" y="1619280"/>
            <a:ext cx="1970280" cy="3306240"/>
            <a:chOff x="6130800" y="1619280"/>
            <a:chExt cx="1970280" cy="3306240"/>
          </a:xfrm>
        </p:grpSpPr>
        <p:sp>
          <p:nvSpPr>
            <p:cNvPr id="137" name="Oval 11"/>
            <p:cNvSpPr/>
            <p:nvPr/>
          </p:nvSpPr>
          <p:spPr>
            <a:xfrm>
              <a:off x="6130800" y="16603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2"/>
            <p:cNvSpPr/>
            <p:nvPr/>
          </p:nvSpPr>
          <p:spPr>
            <a:xfrm>
              <a:off x="7262640" y="34225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3"/>
            <p:cNvSpPr/>
            <p:nvPr/>
          </p:nvSpPr>
          <p:spPr>
            <a:xfrm>
              <a:off x="7778880" y="4605120"/>
              <a:ext cx="322200" cy="320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4"/>
            <p:cNvSpPr/>
            <p:nvPr/>
          </p:nvSpPr>
          <p:spPr>
            <a:xfrm>
              <a:off x="6643800" y="2533320"/>
              <a:ext cx="32220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5"/>
            <p:cNvSpPr/>
            <p:nvPr/>
          </p:nvSpPr>
          <p:spPr>
            <a:xfrm>
              <a:off x="7107120" y="1619280"/>
              <a:ext cx="32256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ole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7600" y="4940280"/>
            <a:ext cx="899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hrube_schema_exprese"/>
          <p:cNvPicPr/>
          <p:nvPr/>
        </p:nvPicPr>
        <p:blipFill>
          <a:blip r:embed="rId1"/>
          <a:stretch/>
        </p:blipFill>
        <p:spPr>
          <a:xfrm>
            <a:off x="4983120" y="1297080"/>
            <a:ext cx="2949480" cy="3346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47600" y="1812960"/>
            <a:ext cx="483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Centrální dogma molekulární biologi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řenos genetické informace v živých organismech vž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naky živého organis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488960" y="893880"/>
            <a:ext cx="6166080" cy="2868120"/>
          </a:xfrm>
          <a:prstGeom prst="rect">
            <a:avLst/>
          </a:prstGeom>
          <a:noFill/>
          <a:ln w="2232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získávání energie z živin pro své životní potře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možnost růstu, diferenciace a reprodu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udržování vnitřní uspořáda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reakce na změny vnějších podmín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Zabi_vajicko"/>
          <p:cNvPicPr/>
          <p:nvPr/>
        </p:nvPicPr>
        <p:blipFill>
          <a:blip r:embed="rId1"/>
          <a:srcRect l="1620" t="1532" r="1620" b="1532"/>
          <a:stretch/>
        </p:blipFill>
        <p:spPr>
          <a:xfrm>
            <a:off x="258840" y="466560"/>
            <a:ext cx="1117440" cy="118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Picture 6" descr="kvasinka"/>
          <p:cNvPicPr/>
          <p:nvPr/>
        </p:nvPicPr>
        <p:blipFill>
          <a:blip r:embed="rId2"/>
          <a:srcRect l="5257" t="60098" r="53448" b="2763"/>
          <a:stretch/>
        </p:blipFill>
        <p:spPr>
          <a:xfrm>
            <a:off x="7294680" y="4506840"/>
            <a:ext cx="1697040" cy="193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7886880" y="250920"/>
            <a:ext cx="981000" cy="135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" name="Picture 8" descr="tvary_bakterii"/>
          <p:cNvPicPr/>
          <p:nvPr/>
        </p:nvPicPr>
        <p:blipFill>
          <a:blip r:embed="rId4"/>
          <a:srcRect l="65053" t="0" r="0" b="22904"/>
          <a:stretch/>
        </p:blipFill>
        <p:spPr>
          <a:xfrm>
            <a:off x="812880" y="4141800"/>
            <a:ext cx="1859040" cy="122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Picture 9" descr=""/>
          <p:cNvPicPr/>
          <p:nvPr/>
        </p:nvPicPr>
        <p:blipFill>
          <a:blip r:embed="rId5"/>
          <a:stretch/>
        </p:blipFill>
        <p:spPr>
          <a:xfrm>
            <a:off x="7770960" y="2313000"/>
            <a:ext cx="1215720" cy="110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Picture 10" descr=""/>
          <p:cNvPicPr/>
          <p:nvPr/>
        </p:nvPicPr>
        <p:blipFill>
          <a:blip r:embed="rId6"/>
          <a:srcRect l="3036" t="3150" r="3036" b="3150"/>
          <a:stretch/>
        </p:blipFill>
        <p:spPr>
          <a:xfrm>
            <a:off x="192240" y="2421000"/>
            <a:ext cx="1035000" cy="995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Text Box 4"/>
          <p:cNvSpPr/>
          <p:nvPr/>
        </p:nvSpPr>
        <p:spPr>
          <a:xfrm>
            <a:off x="1955880" y="4902120"/>
            <a:ext cx="52322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tyto životní projevy se realizují primárně na úrovni buně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855720" y="779400"/>
            <a:ext cx="6850080" cy="3695760"/>
            <a:chOff x="855720" y="779400"/>
            <a:chExt cx="6850080" cy="3695760"/>
          </a:xfrm>
        </p:grpSpPr>
        <p:pic>
          <p:nvPicPr>
            <p:cNvPr id="147" name="Picture 5" descr="genova_exprese_eu_pro"/>
            <p:cNvPicPr/>
            <p:nvPr/>
          </p:nvPicPr>
          <p:blipFill>
            <a:blip r:embed="rId1"/>
            <a:stretch/>
          </p:blipFill>
          <p:spPr>
            <a:xfrm>
              <a:off x="855720" y="779400"/>
              <a:ext cx="685008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6"/>
            <p:cNvSpPr/>
            <p:nvPr/>
          </p:nvSpPr>
          <p:spPr>
            <a:xfrm>
              <a:off x="892080" y="814680"/>
              <a:ext cx="12052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Eu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4804560" y="791280"/>
              <a:ext cx="14619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stup exprese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2"/>
          <a:stretch/>
        </p:blipFill>
        <p:spPr>
          <a:xfrm>
            <a:off x="6453360" y="2692440"/>
            <a:ext cx="734760" cy="209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3"/>
          <a:srcRect l="0" t="7270" r="0" b="8482"/>
          <a:stretch/>
        </p:blipFill>
        <p:spPr>
          <a:xfrm>
            <a:off x="4995720" y="3114720"/>
            <a:ext cx="1838520" cy="13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10"/>
          <p:cNvSpPr/>
          <p:nvPr/>
        </p:nvSpPr>
        <p:spPr>
          <a:xfrm flipH="1" flipV="1">
            <a:off x="4705200" y="3602160"/>
            <a:ext cx="471600" cy="147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H="1" flipV="1">
            <a:off x="6662520" y="2298600"/>
            <a:ext cx="27000" cy="363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49402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rukturní rysy 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47680" y="738360"/>
            <a:ext cx="8545320" cy="1191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RNA se zásadně vyskytuje jako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jednovláknová,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může ale vytvářet lokální interní dvojšroubovice a stabilizovat se ve složité prostorové struktuř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Základními strukturními motivy jsou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lásenk</a:t>
            </a:r>
            <a:r>
              <a:rPr b="1" lang="en-US" sz="1800" spc="-1" strike="noStrike">
                <a:solidFill>
                  <a:srgbClr val="fef2a8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hairpin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, hairpin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loop) - obsahuje vlastní smyčku a stonek (stem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ýduť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bulge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nitřní smyčk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křížení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junction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6" descr="RNA_local_structure"/>
          <p:cNvPicPr/>
          <p:nvPr/>
        </p:nvPicPr>
        <p:blipFill>
          <a:blip r:embed="rId1"/>
          <a:srcRect l="0" t="0" r="62216" b="0"/>
          <a:stretch/>
        </p:blipFill>
        <p:spPr>
          <a:xfrm>
            <a:off x="468360" y="2411280"/>
            <a:ext cx="2798640" cy="363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RNA strukturni motivy"/>
          <p:cNvPicPr/>
          <p:nvPr/>
        </p:nvPicPr>
        <p:blipFill>
          <a:blip r:embed="rId2"/>
          <a:stretch/>
        </p:blipFill>
        <p:spPr>
          <a:xfrm>
            <a:off x="3990960" y="2421000"/>
            <a:ext cx="44179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5´konce viru HIV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2193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R – vlásenka, na kterou se vá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 proteiny virový Tat a bun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č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ý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cli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 (SL1) – vlásenka, která je zodpov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ná za dr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í obou homologních vláken viru při sob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D:\clanky\disertace\obrazky\HIV\HIV 5konec - oriznuty.gif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49200" y="809640"/>
            <a:ext cx="8445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amostatně existující skupiny genů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 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hou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eplikovat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uz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kud infikují vhodnou hostitelskou buňku. </a:t>
            </a:r>
            <a:r>
              <a:rPr b="1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N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ebuněčné částic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, nepovažují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a živý organismus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imo hostitelskou buňku nevykazují životní projevy: nemají látkový ani energetický metabolismus, nerostou, nejsou dráždivé, nemají aktivní pohyb, nerozmnožují se. Žádný z virů neobsahuje geny klíčové pro jeho replikaci, především pro stavbu ribosomu nebo syntézu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V procesu své reprodukce představují vnitrobuněčné parazity, kt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ř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jsou zpravidla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patogen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 hostitelskou buň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bsahují 3 až stovky genů a jejich velikosti se pohybují od 15 do cca 400 nm.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E:\PREDNASK\BunBiolBioch\podklady\viry\obrazky-pom\vir.jpg"/>
          <p:cNvPicPr/>
          <p:nvPr/>
        </p:nvPicPr>
        <p:blipFill>
          <a:blip r:embed="rId1"/>
          <a:stretch/>
        </p:blipFill>
        <p:spPr>
          <a:xfrm>
            <a:off x="1727280" y="4973760"/>
            <a:ext cx="1116000" cy="188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E:\PREDNASK\BunBiolBioch\podklady\viry\obrazky-pom\vir2.jpg"/>
          <p:cNvPicPr/>
          <p:nvPr/>
        </p:nvPicPr>
        <p:blipFill>
          <a:blip r:embed="rId2"/>
          <a:stretch/>
        </p:blipFill>
        <p:spPr>
          <a:xfrm>
            <a:off x="3700440" y="5037120"/>
            <a:ext cx="2005200" cy="177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E:\PREDNASK\BunBiolBioch\podklady\viry\obrazky-pom\vir3.jpg"/>
          <p:cNvPicPr/>
          <p:nvPr/>
        </p:nvPicPr>
        <p:blipFill>
          <a:blip r:embed="rId3"/>
          <a:stretch/>
        </p:blipFill>
        <p:spPr>
          <a:xfrm>
            <a:off x="6608880" y="5008680"/>
            <a:ext cx="11142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58840" y="1082520"/>
            <a:ext cx="5072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Lytický cyklu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– s využitím buněčného aparátu (permisivita buňky)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replikuje nukleová kyselina i virové proteiny. Kapsidové proteiny se v procesu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v. maturace samovolně skládají a vytvářejí kapsid, sestavují se nové viriony. Konkrétní mechanismus závisí především na tom, jak je realizován zápis virových genů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  <a:ea typeface="Times New Roman"/>
              </a:rPr>
              <a:t>DNA vir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- přímá transkripce a translace virové D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E:\PREDNASK\BunBiolBioch\podklady\viry\obrazky-pom\cyklus_DNA_viru.gif"/>
          <p:cNvPicPr/>
          <p:nvPr/>
        </p:nvPicPr>
        <p:blipFill>
          <a:blip r:embed="rId1"/>
          <a:stretch/>
        </p:blipFill>
        <p:spPr>
          <a:xfrm>
            <a:off x="5616720" y="835200"/>
            <a:ext cx="30495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retro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84040" y="746280"/>
            <a:ext cx="857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NA je virovou reverzní transkriptázou přepsána do DNA a ta je virovou integrázou včleněna do buněčné DNA v jádř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E:\PREDNASK\BunBiolBioch\podklady\viry\obrazky-pom\zivotni_cyklus_retroviru.gif"/>
          <p:cNvPicPr/>
          <p:nvPr/>
        </p:nvPicPr>
        <p:blipFill>
          <a:blip r:embed="rId1"/>
          <a:stretch/>
        </p:blipFill>
        <p:spPr>
          <a:xfrm>
            <a:off x="754200" y="1500120"/>
            <a:ext cx="7941960" cy="4172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E:\PREDNASK\BunBiolBioch\podklady\viry\obrazky-pom\reverzni_transkriptaza.jpg"/>
          <p:cNvPicPr/>
          <p:nvPr/>
        </p:nvPicPr>
        <p:blipFill>
          <a:blip r:embed="rId2"/>
          <a:stretch/>
        </p:blipFill>
        <p:spPr>
          <a:xfrm>
            <a:off x="1782720" y="5383080"/>
            <a:ext cx="2978280" cy="147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144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tí oligonukleotidu k „uspání“ g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08280" y="102888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oligonukleotid = krátký úsek nukleové kyseli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084320" y="1608120"/>
            <a:ext cx="6959520" cy="468000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tiv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Chemoterap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lektivní likvidace nežádoucích organism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eprodukce virů, především retrovi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ůstu vlastních buněk s patogenním chován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Molekulární biolog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í zkoumání funkcí řízených jednotlivými ge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946080" y="0"/>
            <a:ext cx="725184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žné mechanis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01480" y="1193760"/>
            <a:ext cx="8153640" cy="43866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gen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dvojšroubovici DNA a vytvář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i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blokuje transkripci (vznik m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sens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mRNA a vytváří du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blokuje translaci (syntézu proteinů) nebo dokonce vede ke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štěpení mRNA pomocí RNasy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ptamer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zabr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ňuje funkci proteinu zajišťujícímu     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nezbytný krok v realizaci genetické informace (reverzn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anskriptáza, integráza, apod.)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siRN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krátká dvojšroubovice RNA obsahující nežádoucí sekven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Ribozymy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speciální RNA sekvence katalyzující štěpení m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966960" y="0"/>
            <a:ext cx="725148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hemicky modifikovaná analoga nukleových kyse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23800" y="1143000"/>
            <a:ext cx="8153640" cy="703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Krátké úseky přírozených nukleových kyselin nejsou v buněčném prostředí stabilní – působení štěpících enzymů (nukleáz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90680" y="2195640"/>
            <a:ext cx="820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Prvn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fosforothioá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ktivují RNázu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esítky přípravků ve stadiu klinick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estů, jeden lék povolen pro lékařské použit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blémem je nespecifická vazba na nukleové kyseliny a prote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5367240" y="2289240"/>
            <a:ext cx="1090800" cy="1001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455760" y="4297320"/>
            <a:ext cx="820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Druhá a třet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ochranných O-methyl nebo O-methoxy-ethyl skupinách, někdy v kombinaci s fosforothioáty (2.generace) nebo jiné typy modifikací (3.gener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aktivují RNázu H, řeší se to tvorbou „chimerických“ oligonukleotidů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íce než desítka ve stadiu klinických tes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46080" y="368280"/>
            <a:ext cx="7251840" cy="8380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ýběr z přehledu testovaných přípravk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57240" y="1479600"/>
            <a:ext cx="9029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ednotná molekulární strategie buně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55680" y="1028880"/>
            <a:ext cx="84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99"/>
                </a:solidFill>
                <a:uFillTx/>
                <a:latin typeface="Arial"/>
              </a:rPr>
              <a:t>Polysacharidy a lipidy</a:t>
            </a:r>
            <a:r>
              <a:rPr b="0" lang="cs-CZ" sz="2400" spc="-1" strike="noStrike">
                <a:solidFill>
                  <a:srgbClr val="ffff99"/>
                </a:solidFill>
                <a:latin typeface="Arial"/>
              </a:rPr>
              <a:t> … stavební a zásob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0120" y="1798560"/>
            <a:ext cx="84837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bc75f"/>
                </a:solidFill>
                <a:uFillTx/>
                <a:latin typeface="Arial"/>
              </a:rPr>
              <a:t>Bílkoviny (proteiny</a:t>
            </a:r>
            <a:r>
              <a:rPr b="1" lang="cs-CZ" sz="2400" spc="-1" strike="noStrike">
                <a:solidFill>
                  <a:srgbClr val="fbc75f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… univerzální, mohou mít funk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stavební, zásobní, biochemickou (enzymy),  transportní, pohybovo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kontrolní, signální,..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Specifický vztah mezi strukturou a funkcí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        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posloupnost aminokyselin  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Kritická podmínka pro zachování životních pochodů buňk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mít možnost podle potřeby vytvořit protein pro zabezpečení dané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30120" y="5316480"/>
            <a:ext cx="8483760" cy="825480"/>
          </a:xfrm>
          <a:prstGeom prst="rect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6600"/>
                </a:solidFill>
                <a:latin typeface="Arial"/>
              </a:rPr>
              <a:t>To zajišťují </a:t>
            </a:r>
            <a:r>
              <a:rPr b="1" lang="cs-CZ" sz="2400" spc="-1" strike="noStrike" u="sng">
                <a:solidFill>
                  <a:srgbClr val="ff6600"/>
                </a:solidFill>
                <a:uFillTx/>
                <a:latin typeface="Arial"/>
              </a:rPr>
              <a:t>Nukleové kyseliny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v DNA je informace uložená, RNA je prostředníkem její realizace (expr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0880" y="20559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o je motivace pro hledání nových, vhodnějších modifikací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30080" y="3987720"/>
            <a:ext cx="7683840" cy="2441880"/>
          </a:xfrm>
          <a:prstGeom prst="rect">
            <a:avLst/>
          </a:prstGeom>
          <a:solidFill>
            <a:srgbClr val="24248e"/>
          </a:solidFill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00cc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ostatečná stabilita vůči enzymům v buňce štěpícím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afin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cílovému úseku přirozené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 komplementární bázovou sekvenc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pro antisense aplikaci schopnost aktivovat enzym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áz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úspěšné pronikání do buně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správná distrib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e vnitrobuněčném prostřed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  netoxičnost a to ani metabolických produk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9960" y="573120"/>
            <a:ext cx="8344080" cy="838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ádná z dosud používaných modifikací nemá bohužel optimální vlastnosti, aby se mohl plně využít potenciál antisensní strate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41520" y="2997360"/>
            <a:ext cx="7860960" cy="838080"/>
          </a:xfrm>
          <a:prstGeom prst="rect">
            <a:avLst/>
          </a:prstGeom>
          <a:noFill/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Po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adavky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 na syntetická analoga nukleových kyselin pro terapeutické použi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20680" y="2098800"/>
            <a:ext cx="8672400" cy="338040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Studované problé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tvorba a rozpad duplexů, triplexů a kvadruplex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liv vnějších podmínek : pH, jednotlivé kationty, speciální moleku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abilita a dynamika duplexů s neúplnou komplementarit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a, dynamika a interakce s enzymy regulačních úseků 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s enzymy (HIV integráza, RNasa H) významné pro terap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vazebných strukturních motivů s aptamery (TAR smyč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onikání oligonukleotidů do buněk a jejich vnitrobuněčný os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0680" y="2098800"/>
            <a:ext cx="8672400" cy="421488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Používané met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UV absorp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amanova spektroskop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enzory na bázi rezonance povrchových plasmon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kalorime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ní a dynamická NMR měřen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ikulární dichroismus (v UV absorp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gelová elektroforé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fluorescenční techni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7ffd1"/>
                </a:solidFill>
                <a:latin typeface="Arial"/>
                <a:ea typeface="Times New Roman"/>
              </a:rPr>
              <a:t>	</a:t>
            </a:r>
            <a:r>
              <a:rPr b="1" i="1" lang="cs-CZ" sz="1800" spc="-1" strike="noStrike">
                <a:solidFill>
                  <a:srgbClr val="fee7ac"/>
                </a:solidFill>
                <a:latin typeface="Arial"/>
              </a:rPr>
              <a:t>počítačové modelová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356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ování syntetických oligonukleotid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-285840" y="1096920"/>
          <a:ext cx="9429840" cy="54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1096920"/>
                    <a:ext cx="942984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ovéPole 4"/>
          <p:cNvSpPr/>
          <p:nvPr/>
        </p:nvSpPr>
        <p:spPr>
          <a:xfrm>
            <a:off x="1397160" y="101772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Testování vazby na přirozený řetězec – SPR biosenz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9" descr="DNA_complements (small)"/>
          <p:cNvPicPr/>
          <p:nvPr/>
        </p:nvPicPr>
        <p:blipFill>
          <a:blip r:embed="rId1"/>
          <a:stretch/>
        </p:blipFill>
        <p:spPr>
          <a:xfrm>
            <a:off x="0" y="558720"/>
            <a:ext cx="5762520" cy="327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UV_histogram"/>
          <p:cNvPicPr/>
          <p:nvPr/>
        </p:nvPicPr>
        <p:blipFill>
          <a:blip r:embed="rId2"/>
          <a:stretch/>
        </p:blipFill>
        <p:spPr>
          <a:xfrm>
            <a:off x="3381480" y="3416400"/>
            <a:ext cx="5762520" cy="32763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201" name="Rectangle 4"/>
          <p:cNvSpPr/>
          <p:nvPr/>
        </p:nvSpPr>
        <p:spPr>
          <a:xfrm>
            <a:off x="169056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6172200" y="5105520"/>
            <a:ext cx="914400" cy="1015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7861320" y="4775040"/>
            <a:ext cx="1028520" cy="14734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ovéPole 9"/>
          <p:cNvSpPr/>
          <p:nvPr/>
        </p:nvSpPr>
        <p:spPr>
          <a:xfrm>
            <a:off x="6100920" y="1150920"/>
            <a:ext cx="2885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  <a:ea typeface="Arial"/>
              </a:rPr>
              <a:t>Specificita vaz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(výsledky UV absorp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pA-oT 2"/>
          <p:cNvPicPr/>
          <p:nvPr/>
        </p:nvPicPr>
        <p:blipFill>
          <a:blip r:embed="rId1"/>
          <a:stretch/>
        </p:blipFill>
        <p:spPr>
          <a:xfrm>
            <a:off x="380880" y="2692440"/>
            <a:ext cx="7696440" cy="4006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8" name="Line 5"/>
          <p:cNvSpPr/>
          <p:nvPr/>
        </p:nvSpPr>
        <p:spPr>
          <a:xfrm>
            <a:off x="403200" y="4592520"/>
            <a:ext cx="2438280" cy="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"/>
          <p:cNvSpPr/>
          <p:nvPr/>
        </p:nvSpPr>
        <p:spPr>
          <a:xfrm flipV="1">
            <a:off x="2865600" y="2676240"/>
            <a:ext cx="1440" cy="190476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8"/>
          <p:cNvGrpSpPr/>
          <p:nvPr/>
        </p:nvGrpSpPr>
        <p:grpSpPr>
          <a:xfrm>
            <a:off x="1219320" y="2110320"/>
            <a:ext cx="7237080" cy="4425120"/>
            <a:chOff x="1219320" y="2110320"/>
            <a:chExt cx="7237080" cy="4425120"/>
          </a:xfrm>
        </p:grpSpPr>
        <p:grpSp>
          <p:nvGrpSpPr>
            <p:cNvPr id="211" name="Group 9"/>
            <p:cNvGrpSpPr/>
            <p:nvPr/>
          </p:nvGrpSpPr>
          <p:grpSpPr>
            <a:xfrm>
              <a:off x="1219320" y="4935240"/>
              <a:ext cx="2438280" cy="1371600"/>
              <a:chOff x="1219320" y="4935240"/>
              <a:chExt cx="2438280" cy="1371600"/>
            </a:xfrm>
          </p:grpSpPr>
          <p:sp>
            <p:nvSpPr>
              <p:cNvPr id="212" name="Line 10"/>
              <p:cNvSpPr/>
              <p:nvPr/>
            </p:nvSpPr>
            <p:spPr>
              <a:xfrm>
                <a:off x="1219320" y="4935240"/>
                <a:ext cx="2438280" cy="121896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11"/>
              <p:cNvSpPr/>
              <p:nvPr/>
            </p:nvSpPr>
            <p:spPr>
              <a:xfrm flipV="1">
                <a:off x="1295640" y="4935240"/>
                <a:ext cx="2209680" cy="137160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12"/>
            <p:cNvGrpSpPr/>
            <p:nvPr/>
          </p:nvGrpSpPr>
          <p:grpSpPr>
            <a:xfrm>
              <a:off x="3962520" y="4285440"/>
              <a:ext cx="457200" cy="305280"/>
              <a:chOff x="3962520" y="4285440"/>
              <a:chExt cx="457200" cy="305280"/>
            </a:xfrm>
          </p:grpSpPr>
          <p:sp>
            <p:nvSpPr>
              <p:cNvPr id="215" name="Line 13"/>
              <p:cNvSpPr/>
              <p:nvPr/>
            </p:nvSpPr>
            <p:spPr>
              <a:xfrm>
                <a:off x="3962520" y="443808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14"/>
              <p:cNvSpPr/>
              <p:nvPr/>
            </p:nvSpPr>
            <p:spPr>
              <a:xfrm flipV="1">
                <a:off x="4115160" y="428544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15"/>
            <p:cNvGrpSpPr/>
            <p:nvPr/>
          </p:nvGrpSpPr>
          <p:grpSpPr>
            <a:xfrm>
              <a:off x="4952880" y="6230160"/>
              <a:ext cx="457200" cy="305280"/>
              <a:chOff x="4952880" y="6230160"/>
              <a:chExt cx="457200" cy="305280"/>
            </a:xfrm>
          </p:grpSpPr>
          <p:sp>
            <p:nvSpPr>
              <p:cNvPr id="218" name="Line 16"/>
              <p:cNvSpPr/>
              <p:nvPr/>
            </p:nvSpPr>
            <p:spPr>
              <a:xfrm>
                <a:off x="4952880" y="638280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17"/>
              <p:cNvSpPr/>
              <p:nvPr/>
            </p:nvSpPr>
            <p:spPr>
              <a:xfrm flipV="1">
                <a:off x="5105520" y="623016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Oval 18"/>
            <p:cNvSpPr/>
            <p:nvPr/>
          </p:nvSpPr>
          <p:spPr>
            <a:xfrm rot="2400000">
              <a:off x="5122800" y="2954160"/>
              <a:ext cx="3200400" cy="1579320"/>
            </a:xfrm>
            <a:prstGeom prst="ellipse">
              <a:avLst/>
            </a:prstGeom>
            <a:noFill/>
            <a:ln w="25560">
              <a:solidFill>
                <a:srgbClr val="ec3d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9"/>
          <p:cNvGrpSpPr/>
          <p:nvPr/>
        </p:nvGrpSpPr>
        <p:grpSpPr>
          <a:xfrm>
            <a:off x="1714680" y="3983040"/>
            <a:ext cx="5715000" cy="2168640"/>
            <a:chOff x="1714680" y="3983040"/>
            <a:chExt cx="5715000" cy="2168640"/>
          </a:xfrm>
        </p:grpSpPr>
        <p:sp>
          <p:nvSpPr>
            <p:cNvPr id="222" name="Oval 20"/>
            <p:cNvSpPr/>
            <p:nvPr/>
          </p:nvSpPr>
          <p:spPr>
            <a:xfrm>
              <a:off x="4305240" y="39830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21"/>
            <p:cNvSpPr/>
            <p:nvPr/>
          </p:nvSpPr>
          <p:spPr>
            <a:xfrm>
              <a:off x="7048440" y="4211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22"/>
            <p:cNvSpPr/>
            <p:nvPr/>
          </p:nvSpPr>
          <p:spPr>
            <a:xfrm>
              <a:off x="5246640" y="5354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23"/>
            <p:cNvSpPr/>
            <p:nvPr/>
          </p:nvSpPr>
          <p:spPr>
            <a:xfrm>
              <a:off x="6438960" y="59230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24"/>
            <p:cNvSpPr/>
            <p:nvPr/>
          </p:nvSpPr>
          <p:spPr>
            <a:xfrm>
              <a:off x="2629080" y="581184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25"/>
            <p:cNvSpPr/>
            <p:nvPr/>
          </p:nvSpPr>
          <p:spPr>
            <a:xfrm>
              <a:off x="1714680" y="52786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27"/>
          <p:cNvSpPr/>
          <p:nvPr/>
        </p:nvSpPr>
        <p:spPr>
          <a:xfrm>
            <a:off x="209520" y="787320"/>
            <a:ext cx="87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stabilita komplexu s přirozeným vláknem, strukturní podobn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(UV absorpce, počítačové simulace, Ramanův rozpty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1593720" y="154944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biochemický test:                 aktivace RN</a:t>
            </a:r>
            <a:r>
              <a:rPr b="0" lang="en-US" sz="2000" spc="-1" strike="noStrike">
                <a:solidFill>
                  <a:srgbClr val="99ff66"/>
                </a:solidFill>
                <a:latin typeface="Arial"/>
              </a:rPr>
              <a:t>asy</a:t>
            </a: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4572000" y="1523880"/>
            <a:ext cx="2603520" cy="470160"/>
          </a:xfrm>
          <a:prstGeom prst="wedgeRoundRectCallout">
            <a:avLst>
              <a:gd name="adj1" fmla="val 18231"/>
              <a:gd name="adj2" fmla="val 121282"/>
              <a:gd name="adj3" fmla="val 16667"/>
            </a:avLst>
          </a:prstGeom>
          <a:noFill/>
          <a:ln w="255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ntrální dogma molekulární bi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rube_schema_exprese"/>
          <p:cNvPicPr/>
          <p:nvPr/>
        </p:nvPicPr>
        <p:blipFill>
          <a:blip r:embed="rId1"/>
          <a:stretch/>
        </p:blipFill>
        <p:spPr>
          <a:xfrm>
            <a:off x="2773440" y="2136600"/>
            <a:ext cx="3597120" cy="4081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46040" y="1228680"/>
            <a:ext cx="82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Přenos genetické informace  v živých organismech vž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Chemické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 složení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95120" y="4746600"/>
            <a:ext cx="43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Asymetrický řetězec s jasně rozlišeným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konc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Polymer"/>
          <p:cNvPicPr/>
          <p:nvPr/>
        </p:nvPicPr>
        <p:blipFill>
          <a:blip r:embed="rId1"/>
          <a:stretch/>
        </p:blipFill>
        <p:spPr>
          <a:xfrm>
            <a:off x="4834080" y="1127160"/>
            <a:ext cx="430992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lozeni_retezce_DNA"/>
          <p:cNvPicPr/>
          <p:nvPr/>
        </p:nvPicPr>
        <p:blipFill>
          <a:blip r:embed="rId2"/>
          <a:stretch/>
        </p:blipFill>
        <p:spPr>
          <a:xfrm>
            <a:off x="4572000" y="1008000"/>
            <a:ext cx="4572000" cy="5388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44440" y="1415880"/>
            <a:ext cx="365436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polymerní řetězec, vzniklý polymerac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nukleotidů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Nukleotid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=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ccff"/>
                </a:solidFill>
                <a:latin typeface="Arial"/>
              </a:rPr>
              <a:t>báze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eoxyribóza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9999"/>
                </a:solidFill>
                <a:latin typeface="Arial"/>
              </a:rPr>
              <a:t>fosfátová sku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38320" y="0"/>
            <a:ext cx="50673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HelixChar"/>
          <p:cNvPicPr/>
          <p:nvPr/>
        </p:nvPicPr>
        <p:blipFill>
          <a:blip r:embed="rId1"/>
          <a:stretch/>
        </p:blipFill>
        <p:spPr>
          <a:xfrm>
            <a:off x="366840" y="1879560"/>
            <a:ext cx="8410320" cy="4978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47600" y="785880"/>
            <a:ext cx="884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v buňkách ve formě dimeru tvořeného antiparalelně uspořádanými řetězci s komplementárním bázovým složení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5"/>
          <p:cNvGrpSpPr/>
          <p:nvPr/>
        </p:nvGrpSpPr>
        <p:grpSpPr>
          <a:xfrm>
            <a:off x="1392120" y="4334040"/>
            <a:ext cx="4886280" cy="1952640"/>
            <a:chOff x="1392120" y="4334040"/>
            <a:chExt cx="4886280" cy="1952640"/>
          </a:xfrm>
        </p:grpSpPr>
        <p:graphicFrame>
          <p:nvGraphicFramePr>
            <p:cNvPr id="76" name="Object 6"/>
            <p:cNvGraphicFramePr/>
            <p:nvPr/>
          </p:nvGraphicFramePr>
          <p:xfrm>
            <a:off x="3559320" y="4334040"/>
            <a:ext cx="2719080" cy="195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59320" y="4334040"/>
                      <a:ext cx="2719080" cy="1952640"/>
                    </a:xfrm>
                    <a:prstGeom prst="rect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8" name="Rectangle 7"/>
            <p:cNvSpPr/>
            <p:nvPr/>
          </p:nvSpPr>
          <p:spPr>
            <a:xfrm>
              <a:off x="1392120" y="4600440"/>
              <a:ext cx="1292400" cy="449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1392120" y="4334040"/>
              <a:ext cx="2167200" cy="2664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1392120" y="5049720"/>
              <a:ext cx="2167200" cy="12369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sah buněčné genetické inform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47600" y="1047600"/>
            <a:ext cx="884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Kompletní genetická informace organismu =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gen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Genom obsahuje typicky jednotky tisíc genů. Existují však i primitivní bakterie s méně než 100 ge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Eu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Desetitisíce až statisíce genů v genomu. Primitivní eukaryota nemají o mnoho více genů než nejlépe geneticky vybavená prokaryo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(kvasinka </a:t>
            </a: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Saccharomy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cerevisiae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má 6 tisíc genů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595520" y="2738520"/>
            <a:ext cx="2409840" cy="690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0" t="7270" r="0" b="8482"/>
          <a:stretch/>
        </p:blipFill>
        <p:spPr>
          <a:xfrm>
            <a:off x="4572000" y="4498920"/>
            <a:ext cx="3241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8480" y="333000"/>
            <a:ext cx="327672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g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sekvence_genu_lidskeho_betaglobinu"/>
          <p:cNvPicPr/>
          <p:nvPr/>
        </p:nvPicPr>
        <p:blipFill>
          <a:blip r:embed="rId1"/>
          <a:stretch/>
        </p:blipFill>
        <p:spPr>
          <a:xfrm>
            <a:off x="5148360" y="0"/>
            <a:ext cx="24289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gene_structure"/>
          <p:cNvPicPr/>
          <p:nvPr/>
        </p:nvPicPr>
        <p:blipFill>
          <a:blip r:embed="rId2"/>
          <a:stretch/>
        </p:blipFill>
        <p:spPr>
          <a:xfrm>
            <a:off x="0" y="3429000"/>
            <a:ext cx="4898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ložení DNA v buň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7600" y="901800"/>
            <a:ext cx="884880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Genom 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uložen v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jediné molekule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á je cyklick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případě </a:t>
            </a:r>
            <a:r>
              <a:rPr b="0" lang="en-US" sz="2400" spc="-1" strike="noStrike" u="sng">
                <a:solidFill>
                  <a:srgbClr val="fef2a8"/>
                </a:solidFill>
                <a:uFillTx/>
                <a:latin typeface="Arial"/>
              </a:rPr>
              <a:t>eu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genom představová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adou molekul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é jsou základem jednotlivých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osomů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apříklad somatické (nepohlavní) lidské buňky obsahují dvě sady po 23 chromosomech. V každém chromosomu je DNA o délce kolem 10 c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élka a počet DNA molekul v jádře vylučuje jejich volné uložení. Proto dochází k několikastupňové organizaci. Ta je maximální při přípravě pro buněčné dělení, kdy jsou zformovány chromosomy. Při ostatních životních fázích buňky dochází k částečnému rozvolně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struktura DNA + podpůrné proteiny =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15:19:59Z</dcterms:created>
  <dc:creator>OFB</dc:creator>
  <dc:description/>
  <dc:language>en-US</dc:language>
  <cp:lastModifiedBy>ucitel</cp:lastModifiedBy>
  <dcterms:modified xsi:type="dcterms:W3CDTF">2011-04-29T06:01:04Z</dcterms:modified>
  <cp:revision>64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