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18F3-068B-4F77-B59C-8AEA09EE3D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EFB-3E0B-4C7F-80F2-2916F7F9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78A-D7C4-46A4-B6B1-0E287F4A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F07-EA4A-4B83-A1A0-DE0EB137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4F2-AEF6-414C-B700-67169227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046C-2C6F-48C0-BEE0-779F3D5D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79E8-8E58-4F41-A68B-354DBFA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63B9-7549-41BF-ACC5-F83DA9C9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7438-7377-46AE-A06A-DDEB65BB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2DF7-7D54-46CA-BF12-875560E6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EDC0-824B-4D6F-90DE-EC4CD774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13AE-A467-47E6-AAD0-37B62822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F7C-2AE2-4B8B-B947-4FC8D120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58CB-8DDD-44E4-85CC-80089E1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C60B-8E9B-4DF9-A1F8-BF531C24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B0E0-D504-4948-BC4E-6EB982AE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B83C-A3FE-404C-A0BB-8EA5FCC9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E183-9BAA-419F-9C6E-88079FB7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794-A635-463E-AFD4-50845F7F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1A8-35A7-411B-BDFC-FB0A8F3F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8C4-CC05-444C-9069-41CE6B6C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D05-3067-4205-8217-63A2173F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79B-7FE6-4466-907E-30EB2B09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F90-D019-4EA4-8D39-BDB5DD11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1C2-85CD-403C-952D-5A9C60FD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855D-8538-42A5-BE1F-E717A6C2CAE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6DF-1DDC-43EF-8A30-B69C7DE08FD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hyperlink" Target="mailto:sopousek@chemi.muni.cz" TargetMode="External"/><Relationship Id="rId3" Type="http://schemas.openxmlformats.org/officeDocument/2006/relationships/hyperlink" Target="mailto:sopousek@chemi.muni.cz" TargetMode="External"/><Relationship Id="rId4" Type="http://schemas.openxmlformats.org/officeDocument/2006/relationships/hyperlink" Target="mailto:sopousek@chemi.muni.cz" TargetMode="External"/><Relationship Id="rId5" Type="http://schemas.openxmlformats.org/officeDocument/2006/relationships/hyperlink" Target="mailto:sopousek@chemi.muni.cz" TargetMode="External"/><Relationship Id="rId6" Type="http://schemas.openxmlformats.org/officeDocument/2006/relationships/hyperlink" Target="mailto:sopousek@chemi.muni.cz" TargetMode="External"/><Relationship Id="rId7" Type="http://schemas.openxmlformats.org/officeDocument/2006/relationships/hyperlink" Target="mailto:sopousek@chemi.muni.cz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1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EA66-F68C-4A60-B2A3-CC38D975F1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7" name="7c_zmydelneni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9B7-665A-43D4-8291-6F66667156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3333ff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E22-8678-4B03-85E1-63983B86AC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cat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ff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186" name="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95F-4BE0-43CF-928E-B54D473353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Oscilace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9AE-3F77-4DFC-B485-8814797BF53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Image6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7BB-A912-4993-B79B-67BD2DCE105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fig1" descr="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94A-C661-4C52-A9A2-6FDDA69D9610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opousek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hem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un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prokázání schopnosti samostatně řešit modelové    problém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716-A082-453B-A904-97408C1F6C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semináře: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30 Chemická kine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oužívání software urychlujícího práci (zejména EX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 Znalost probírané tématiky dle sylabu přednášky C63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A6C-E017-4E3A-86DA-FA8E292245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. Vohlídal, Chemická kinetika, Karolinum, Praha 2001</a:t>
            </a:r>
            <a:r>
              <a:rPr b="1" lang="cs-CZ" sz="2000" spc="-1" strike="noStrike">
                <a:solidFill>
                  <a:srgbClr val="ffcc00"/>
                </a:solidFill>
                <a:latin typeface="Times New Roman"/>
              </a:rPr>
              <a:t> (scrip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320-3B50-4CC3-A804-F6F39533C5D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říkladník z fyzikální chemie VŠChT: http://www.vscht.cz/fch/prikladnik/prikladnik/p.html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D65-4F52-4D76-8FB2-C9E9E01ADE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image11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33cc33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B63-A7F6-4A0F-80CA-DBC0492522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FB6-CD19-4662-B493-683C3445A2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4724280"/>
            <a:ext cx="3794040" cy="77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Figure:  </a:t>
            </a:r>
            <a:r>
              <a:rPr b="1" lang="cs-CZ" sz="1800" spc="-1" strike="noStrike">
                <a:solidFill>
                  <a:srgbClr val="6666ff"/>
                </a:solidFill>
                <a:latin typeface="Times New Roman"/>
              </a:rPr>
              <a:t>Následná nevratná reakce prvního řádu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  A --&gt; B --&gt;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7A7-E1A7-4324-A657-E5FD0591F1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02154g1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96E-650C-47DD-8F1C-07D3ADDADF6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47:54Z</dcterms:modified>
  <cp:revision>30</cp:revision>
  <dc:subject/>
  <dc:title>Prezentace aplikace PowerPoint</dc:title>
</cp:coreProperties>
</file>