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A19-8CE7-46F8-B0CA-C67417CB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D47B-6373-406C-9C4B-1AAFBD9B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AD66-5A1E-49AC-B5E3-7D199127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1591-6F97-425A-ABB9-9838C445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0DD9-3C89-4CA6-BD75-42D1B061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4635-10DC-47C1-B84A-FA52F970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25C7-ADA2-41FC-A9BD-052961DF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650A-3602-4F94-AB4A-A589DF07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9FB2-0CC0-4766-92EA-44D5360E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AFCA-2D7E-49EE-9D75-F1C87F4E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6934-D07D-491D-89C2-37AE394D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4C9-2EC6-41AC-B23E-0392B9D4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2750-F303-45EC-A16C-C57A94F1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9B7E-FB49-4D4B-AF46-3CD986A7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DD56-6E6F-4702-97D5-BF61C0A0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3470-6C12-43DD-A7F6-6C8D6073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B834-5234-4465-A03D-CE8F5E13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307A-D95A-4AC8-8A6A-F5F600AF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A1AA-6133-4CAC-A0D7-C9E01F83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52C-A6AE-4F20-8729-2F874046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1BC4-82BD-417A-999E-366E3FF2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77B0-B7FF-4E1F-9863-636E0F4A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6365-96DD-4C9A-9861-B2603E62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0FA-5F92-4827-BA91-D4240EA8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A1F9-5785-4E15-81E6-A22781DDC90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65F0-8BFC-4A61-99E1-502A17CB4E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6320 Chemická kinetika: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č probíhají chemické reak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7EB9-301F-467D-B0EE-9325F7584EB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rmodynamické dův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movolné procesy jsou provázeny růstem entropie (vysvětlení viz lit.: Olms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ntropii čistých látek i sloučenin lze vypočítat z 3.V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 uzavřené soustavy s konst. P a T je kriteriem Gibbsova energ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 uzavřené soustavy s konst. V a T je kriteriem Helmholzova energi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72200" y="4114800"/>
            <a:ext cx="2454120" cy="461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943600" y="5105520"/>
            <a:ext cx="2590920" cy="459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ccecff"/>
                </a:solidFill>
                <a:latin typeface="Times New Roman"/>
              </a:rPr>
              <a:t>F=</a:t>
            </a:r>
            <a:r>
              <a:rPr b="0" lang="cs-CZ" sz="24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ccecff"/>
                </a:solidFill>
                <a:latin typeface="Times New Roman"/>
              </a:rPr>
              <a:t>U-T</a:t>
            </a:r>
            <a:r>
              <a:rPr b="0" lang="cs-CZ" sz="24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ccec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1BEA-CFA3-4B20-950C-C44DCB50F8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3080" y="3860640"/>
            <a:ext cx="8800920" cy="2997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měny termodynamických funkcí a samovol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689880" y="2666880"/>
            <a:ext cx="2454120" cy="462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920" y="242424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izké teploty: převládá entalpický příspěv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soké teploty: převládá entropický příspěv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75FE-BFB8-400D-8803-01485CB585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1360" y="-3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abilita sádrov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252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7925040" cy="743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895480" cy="61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7D1E-F274-4D90-8880-66CEC15ED7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609480"/>
            <a:ext cx="7545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počty reakčních termodynamických funkc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8001000" cy="758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2396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 tvorných Gibbsových energií reaktantů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4290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alogicky pro entalpii a entropi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75DB-34E4-41BB-98FB-153CCE8DFE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9960" y="304560"/>
            <a:ext cx="76215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fektivita buň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46280" y="2362320"/>
            <a:ext cx="7650000" cy="695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1981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2) Prostá oxidace glukóz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914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1) Celková reakce v buň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19040" y="1371600"/>
            <a:ext cx="8305920" cy="67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3) Přeměna 36 ADP na 36 AT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95360" y="3429000"/>
            <a:ext cx="8153280" cy="538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752480" y="4572000"/>
            <a:ext cx="4343400" cy="48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90720" y="4114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elkový efekt kombinace reakcí v buňce (2) a (3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25780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sledek: ačkoliv 1100kJ je uloženo do ATP , zbytek (tj. 1770kJ) se nevyužije a přemění se v tepelný pohy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j. účinnost buňky je 38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42FA-543A-4EC5-AA4F-6ED59222F0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697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vnovážná konstanta a reakční Gibbsova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1268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4057560" cy="1930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3047760" cy="600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2895480" cy="495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5638680" y="5943600"/>
            <a:ext cx="2286000" cy="622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2120" y="5105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žný efek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rovnov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4BEB-32CB-4BD0-8652-EF17ECEACB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7:03Z</dcterms:modified>
  <cp:revision>21</cp:revision>
  <dc:subject/>
  <dc:title>Prezentace aplikace PowerPoint</dc:title>
</cp:coreProperties>
</file>