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8FD5-5A87-430A-96AC-FDF125256F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E64-D234-44BE-84BE-0FF94A6B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509-961F-42A1-A0A5-0530516A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9C3-A7DD-4447-9DD5-2564039E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8F0-FFF3-4BCA-A73D-FE58E49E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FF22-20DB-4BE7-BC0E-91CF45EA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7F2-3939-41FF-A225-03E44C1D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9646-AEF6-4598-9075-BFAADD7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F213-6AC2-4641-920B-25386AA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EB4-8E11-454F-AA6E-CCC7246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69D8-DDC9-42A1-93CF-22A90876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4B36-E325-4AE2-884A-C4F694B6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CB4-AB69-43FB-BCA2-98B111F7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7E5A-D9A2-4328-9A0F-12B5BDF3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9500-144C-4D7F-8580-A7DD8B6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13C3-B775-416A-BBFA-DADBC48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62A-91AE-4DEF-9ED4-DA000F5A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EBF-F382-4EE0-B65A-B5F5C739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4EC-0A7E-4553-A80A-9D59B659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023-2099-41ED-A325-8181CD1E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2CF-B24D-406A-ABB6-F1B98E1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A4F-AE1B-49CD-9626-27AE415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E6C-6686-4665-B84C-A523D7D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3B7-3474-4EC9-BF11-40B5774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2EC-15BF-472B-B672-D9AB462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E97-81C5-47D0-BDB6-C02F2119CDE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5E8C-A55A-4DF6-BCE8-582ED6360C4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hyperlink" Target="mailto:sopousek@chemi.muni.cz" TargetMode="External"/><Relationship Id="rId3" Type="http://schemas.openxmlformats.org/officeDocument/2006/relationships/hyperlink" Target="mailto:sopousek@chemi.muni.cz" TargetMode="External"/><Relationship Id="rId4" Type="http://schemas.openxmlformats.org/officeDocument/2006/relationships/hyperlink" Target="mailto:sopousek@chemi.muni.cz" TargetMode="External"/><Relationship Id="rId5" Type="http://schemas.openxmlformats.org/officeDocument/2006/relationships/hyperlink" Target="mailto:sopousek@chemi.muni.cz" TargetMode="External"/><Relationship Id="rId6" Type="http://schemas.openxmlformats.org/officeDocument/2006/relationships/hyperlink" Target="mailto:sopousek@chemi.muni.cz" TargetMode="External"/><Relationship Id="rId7" Type="http://schemas.openxmlformats.org/officeDocument/2006/relationships/hyperlink" Target="mailto:sopousek@chemi.muni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1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5480-FEBB-4AC2-9B55-39017C6FE4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7c_zmydelneni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AB5-B0CF-4E82-AA8E-FFE01F2689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3333ff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C43-B31C-4539-AF06-0388C429DA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cat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86" name="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9E4-4F06-4849-9786-7835C0716A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Oscilace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9AB-6A60-4C19-9F6A-ED73012049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Image6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91D-58FD-42E6-B7E9-A362295289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fig1" descr="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219-67E5-4AD8-B55F-FF15752F72C8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opousek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hem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n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prokázání schopnosti samostatně řešit modelové    problém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1D9-6F2E-4CAC-9FCF-1DCEDF6617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semináře: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30 Chemická kine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oužívání software urychlujícího práci (zejména EX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Znalost probírané tématiky dle sylabu přednášky C63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14B-E2F8-41D2-BA48-97AB5ED96A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. Vohlídal, Chemická kinetika, Karolinum, Praha 2001</a:t>
            </a:r>
            <a:r>
              <a:rPr b="1" lang="cs-CZ" sz="2000" spc="-1" strike="noStrike">
                <a:solidFill>
                  <a:srgbClr val="ffcc00"/>
                </a:solidFill>
                <a:latin typeface="Times New Roman"/>
              </a:rPr>
              <a:t> (scrip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955-D1B5-4CB3-A159-453D29CE53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říkladník z fyzikální chemie VŠChT: http://www.vscht.cz/fch/prikladnik/prikladnik/p.html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88D-001A-4005-8554-EEC305BC8E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image11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ED4-1FCC-4B9E-A2EF-9DA216AFE6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D54-CC22-4706-825B-A4A0D94F87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4724280"/>
            <a:ext cx="3794040" cy="77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Figure:  </a:t>
            </a:r>
            <a:r>
              <a:rPr b="1" lang="cs-CZ" sz="1800" spc="-1" strike="noStrike">
                <a:solidFill>
                  <a:srgbClr val="6666ff"/>
                </a:solidFill>
                <a:latin typeface="Times New Roman"/>
              </a:rPr>
              <a:t>Následná nevratná reakce prvního řádu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  A --&gt; B --&gt;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AC6-DE9F-45F3-BC3D-BF0E989965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02154g1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5D7-BC49-46CA-BA1A-649FBCF558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47:54Z</dcterms:modified>
  <cp:revision>30</cp:revision>
  <dc:subject/>
  <dc:title>Prezentace aplikace PowerPoint</dc:title>
</cp:coreProperties>
</file>