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B0BB9-1E23-4FC6-A12B-9D0A82EB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74798-5AFD-4266-9C67-E5ECEEEDB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F3333-AA5A-4F08-9ED1-AAD6E25E4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1AB98-6D7A-4C77-9F29-853EAEBAD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FE9E9-6CB7-4A13-83F6-56E5AA474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AAA16-8B8E-417A-8B00-A05747F79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9BDEB-03ED-437A-AF8E-84A68CFE4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CB654-DE2C-4D17-A911-41DBAAE15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84311-ECD6-47D2-810E-3EE34ED6E4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9847C-4290-4902-ABA8-3A84D6764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A9C82-FC60-46C8-9954-E3BAAD84A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276D4-A72F-4E0C-9829-F0DF8572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55E2B-BB15-43D3-BC21-0C255D9FA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FE185-B3A5-433B-88D4-85EF14E25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E3BB3-D960-4393-A8F0-AA21F9E369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A2576-77F3-4108-81B3-3345B606E9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8E9B8-6B50-4FBB-A7FC-2A8D20FE2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E9E02-8E57-4CCC-980A-CDBA520A4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37A6-98C8-42A6-A486-7F37193F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F9E7-45DC-4AD5-88FC-6541B9440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B8D6A-7C44-429A-A6FB-475F61003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5BAD-F2DC-40CC-BDFA-B4C60262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EC3F-1AE1-4D67-ABE8-8FA6F60E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BAA5-9B1E-4D60-983F-1A1072977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1F54-B8C6-401C-9EA0-A29D5E0C51BC}"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28CF-9669-44A1-AD42-DB1AF32C4E6E}"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3366"/>
                </a:solidFill>
                <a:latin typeface="Times New Roman"/>
              </a:rPr>
              <a:t>C6320 Chemická kinetika:</a:t>
            </a:r>
            <a:br>
              <a:rPr sz="4000"/>
            </a:br>
            <a:br>
              <a:rPr sz="4000"/>
            </a:br>
            <a:r>
              <a:rPr b="0" lang="cs-CZ" sz="4000" spc="-1" strike="noStrike">
                <a:solidFill>
                  <a:srgbClr val="003366"/>
                </a:solidFill>
                <a:latin typeface="Times New Roman"/>
              </a:rPr>
              <a:t>Historie chemické kinetiky</a:t>
            </a: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E4910A6F-E495-4F71-8382-A4B1CCC77EB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3366"/>
              </a:solidFill>
              <a:latin typeface="Times New Roman"/>
            </a:endParaRPr>
          </a:p>
        </p:txBody>
      </p:sp>
      <p:sp>
        <p:nvSpPr>
          <p:cNvPr id="292" name="PlaceHolder 2"/>
          <p:cNvSpPr>
            <a:spLocks noGrp="1"/>
          </p:cNvSpPr>
          <p:nvPr>
            <p:ph/>
          </p:nvPr>
        </p:nvSpPr>
        <p:spPr>
          <a:xfrm>
            <a:off x="684360" y="1980720"/>
            <a:ext cx="785016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52F80D15-1E93-4F5A-86A9-06D3811FC475}"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33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BFBD6C95-5317-4A2F-8B45-69F285632E8D}"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7: Ostwald (Germany; Latvia) introduces the terms "reaction order" and "half-life" in his "Lehrbuch der allgemeinen Chemie.„</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A51061CF-EC0D-4F04-A081-7FAF3A4F5ED1}"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Mentenová (Maude Lenora Menten, *1879)</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  </a:t>
            </a:r>
            <a:r>
              <a:rPr b="1" lang="cs-CZ" sz="2400" spc="-1" strike="noStrike">
                <a:solidFill>
                  <a:srgbClr val="003366"/>
                </a:solidFill>
                <a:latin typeface="Arial"/>
              </a:rPr>
              <a:t>Michaelis-Menten equation (1912), enzymová kinetika (profesorkou v 79-ti letech)</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96"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27C92D33-43EF-41B6-BAA5-499ECD0B1C4C}"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Termodynamika</a:t>
            </a:r>
            <a:endParaRPr b="0" lang="en-US" sz="4400" spc="-1" strike="noStrike">
              <a:solidFill>
                <a:srgbClr val="003366"/>
              </a:solidFill>
              <a:latin typeface="Times New Roman"/>
            </a:endParaRPr>
          </a:p>
        </p:txBody>
      </p:sp>
      <p:pic>
        <p:nvPicPr>
          <p:cNvPr id="298"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71D3425D-F821-4E63-887B-1B75A002F5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Shrnutí poznatků z historie</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2587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Řada pojmů a představ se kterými se setkáváme v chemické kinetice je již dlouho známých.</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Získání některých kinetických informací je velmi náročné (mechanismy reakcí, reakční koordináta,…)</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Moderní kinetika je interdisciplinární (biochemická kinetika, molekulová dynamika , kvantová chemie)</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D356360B-7E83-43A1-B43F-ED236D89E9A7}"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Literatura</a:t>
            </a:r>
            <a:endParaRPr b="0" lang="en-US" sz="4400" spc="-1" strike="noStrike">
              <a:solidFill>
                <a:srgbClr val="003366"/>
              </a:solidFill>
              <a:latin typeface="Times New Roman"/>
            </a:endParaRPr>
          </a:p>
        </p:txBody>
      </p:sp>
      <p:sp>
        <p:nvSpPr>
          <p:cNvPr id="302"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Významné ženy a muži vědy:</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http://jchemed.chem.wisc.edu/JCEWWW/Features/eChemists/Bios/Menten.htm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778FCA05-3F12-4B43-B7AC-587B2C68731A}"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1-02-24T08:36:02Z</dcterms:modified>
  <cp:revision>22</cp:revision>
  <dc:subject/>
  <dc:title>Prezentace aplikace PowerPoint</dc:title>
</cp:coreProperties>
</file>