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B2A8-F792-41A2-9C43-F943C6C9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2EF-F506-480A-B608-749C55FF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BB4-E709-4563-9F08-B1E2B59D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9EF-0EAF-4760-B367-E9DE79D9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E000-E772-4E58-8966-9E4F8E77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0F65-C30E-4AC7-9041-96FFF180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41F9-70E2-4340-84B6-6DF3825C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E489-8FB4-48AF-941E-57EDA0B1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5F18-BF54-4476-92A9-6C5157DA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BE5B-960D-476B-ADFF-EEDF6BDB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C823-F873-422D-ADF6-563C62B5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E63-64F4-456C-9D62-0585DB67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A927-C219-443B-AA0D-5B966B76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8B9E-3EA2-40C1-BC7C-5A7EE978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8C49-DADC-41FD-AF41-739E3CB9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B0B3-F164-4277-848C-0CFDB237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101F-0A12-453F-B5DE-C025A84F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343-6FBA-4B37-8B41-058570A4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B42-7C65-49EB-A542-E9AC335A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6E2-6519-44BE-9F29-AECD8F94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D38-4CA0-4C5D-9CB4-69EE932F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FBE-50D0-45EC-BCE3-DE7FC4C7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1B75-BB37-4392-B3C8-05E76A2F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68A8-6BAA-43E3-A456-16BBC52B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FA89-B6F0-402B-B6CC-9083F94B10B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92F0-F69D-4E3D-B577-722A885FE4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č probíhají chemické reak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DBEC-D1F3-4298-817F-BC394491926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rmodynamické dův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movolné procesy jsou provázeny růstem entropie (vysvětlení viz lit.: Olms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ntropii čistých látek i sloučenin lze vypočítat z 3.V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 uzavřené soustavy s konst. P a T je kriteriem Gibbsova energ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 uzavřené soustavy s konst. V a T je kriteriem Helmholzova energi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72200" y="4114800"/>
            <a:ext cx="2454120" cy="461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943600" y="5105520"/>
            <a:ext cx="2590920" cy="459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0D66-45CC-47B0-9664-847949CFBC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měny termodynamických funkcí a samovol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920" y="24242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izké teploty: převládá entalpický příspěv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soké teploty: převládá entropický příspěv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79BA-D97D-4291-9492-9E0EC37990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1360" y="-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abilita sádrov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F1E-2597-4CE3-AC5A-C2F4B37C2F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609480"/>
            <a:ext cx="7545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počty reakčních termodynamických funkc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239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tvorných Gibbsových energií reakta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4290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alogicky pro entalpii a entropi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8CE-8199-4B98-94CA-42929443B6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9960" y="304560"/>
            <a:ext cx="76215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fektivita buň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2) Prostá oxidace glukó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1) Celková reakce v buň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3) Přeměna 36 ADP na 36 AT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9072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elkový efekt kombinace reakcí v buňce (2) a (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2578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sledek: ačkoliv 1100kJ je uloženo do ATP , zbytek (tj. 1770kJ) se nevyužije a přemění se v tepelný pohy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účinnost buňky je 38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72E-6FC2-416D-A161-5E61B025FA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697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vnovážná konstanta a reakční Gibbsova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ý efe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ovnov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0A3-7A0E-43C2-9F7D-7DDAAA355E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7:03Z</dcterms:modified>
  <cp:revision>21</cp:revision>
  <dc:subject/>
  <dc:title>Prezentace aplikace PowerPoint</dc:title>
</cp:coreProperties>
</file>