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ED34-F3A2-425A-B9EF-1A116F87C2A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CBFD-7CAF-49DA-B7C3-52B98484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1F38-200F-4559-92CF-672C7B2D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0511-2F0B-4D48-9229-1B74CE21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F46E-E541-4AF3-9D29-A29A06EF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D5FC-2FE3-47F7-ABFE-C10D7C93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3475-78C7-4440-9791-6E4DE3F9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1A53-1A18-4751-98EE-A48CC2BC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F9B3-65E7-47BE-8969-631FD43F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C2F3-0424-4638-9723-028BAB7F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DB3F-F4AE-497A-9CB5-DBEFD19A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0C5B-E984-45E6-B174-1539F56F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C5C-B2DB-40B4-A89A-046C647F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918F-6C7E-4343-A00F-9CF6213E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8D33-19B8-4C71-A886-D71EF4B9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1AFE-70E0-4E0F-BE92-86221C13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9785-7859-49EB-BD01-8162A88E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C127-BB91-4508-8657-681A9A25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9EBF-C878-46A8-A404-34F5386C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B6D0-3C55-4D56-827A-C033BD46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DD0-9D57-4485-A193-F9B36AF7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E26A-A646-417D-8E99-65170B1D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C4AA-0AA8-437F-A31F-A6511E91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7C3F-0DD3-4279-A643-78BC1A36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76B6-EFC0-4610-B165-AF81A952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F77B-E449-436D-9A9D-9CB32F84FC3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E9A5-6C6C-4D9F-B706-851DB34627B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pousek@chemi.muni.cz" TargetMode="External"/><Relationship Id="rId2" Type="http://schemas.openxmlformats.org/officeDocument/2006/relationships/hyperlink" Target="mailto:sopousek@chemi.muni.cz" TargetMode="External"/><Relationship Id="rId3" Type="http://schemas.openxmlformats.org/officeDocument/2006/relationships/hyperlink" Target="mailto:sopousek@chemi.muni.cz" TargetMode="External"/><Relationship Id="rId4" Type="http://schemas.openxmlformats.org/officeDocument/2006/relationships/hyperlink" Target="mailto:sopousek@chemi.muni.cz" TargetMode="External"/><Relationship Id="rId5" Type="http://schemas.openxmlformats.org/officeDocument/2006/relationships/hyperlink" Target="mailto:sopousek@chemi.muni.cz" TargetMode="External"/><Relationship Id="rId6" Type="http://schemas.openxmlformats.org/officeDocument/2006/relationships/hyperlink" Target="mailto:sopousek@chemi.muni.cz" TargetMode="External"/><Relationship Id="rId7" Type="http://schemas.openxmlformats.org/officeDocument/2006/relationships/hyperlink" Target="mailto:sopousek@chemi.muni.cz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6320 Chemická kinetika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Úvodní hodin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1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68C5-F1B3-4945-9703-A448A3DA442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ff"/>
                </a:solidFill>
                <a:latin typeface="Times New Roman"/>
              </a:rPr>
              <a:t>P5: Experiment. Vsádkový, 05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7" name="7c_zmydelneni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ff"/>
                </a:solidFill>
                <a:latin typeface="Times New Roman"/>
              </a:rPr>
              <a:t>S5: Řešení technických problémů s experimentem v praxi</a:t>
            </a:r>
            <a:r>
              <a:rPr b="1" lang="cs-CZ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9C2F-0814-4174-A594-1B130640D6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6: Reakce katalyzované 1: homogenní katalýza, acidobazická katalýza, autokatalýza, enzymová katalýza, rovnice Michalisova-Mentenové, nestacionární kinetika, integrovaná rovnice Michaelisova-Mentenové, složité enzymové reakce (Clelandova symbolika, Kingova-Altmanova metoda), inhibi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2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Fig 3. </a:t>
            </a:r>
            <a:r>
              <a:rPr b="1" lang="cs-CZ" sz="1800" spc="-1" strike="noStrike">
                <a:solidFill>
                  <a:srgbClr val="3333ff"/>
                </a:solidFill>
                <a:latin typeface="Arial"/>
              </a:rPr>
              <a:t>Určení konstanty Michaelis – Mentenové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Km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429-D113-45EE-BFE4-AA7DC5ACDEA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ff"/>
                </a:solidFill>
                <a:latin typeface="Times New Roman"/>
              </a:rPr>
              <a:t>P7: Reakce katalyzované 2: heterogenní katalýza, chemisorpce a pokrytí povrchu, adsorpční izotermy (Langmuirova, BET, Freundlichova, Temkinova), uni a bimolekulární reakce na povrchu, inhibice produkte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ff"/>
                </a:solidFill>
                <a:latin typeface="Times New Roman"/>
              </a:rPr>
              <a:t>P8: Reakce řetězové: iniciace, propagace, terminace, reakce radikálové, reakce větvené, polymerace, hoření, exploz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cat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ff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186" name="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266-E7DD-4E91-B059-151BCA31EA7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imes New Roman"/>
              </a:rPr>
              <a:t>P9: Reakce oscilující: oscilátor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(Lotka-Volterra, Brusselátor, Oregonátor), limitní cyklus, rekurentní rovnice Metody relaxační: teplotní, tlakový skok, ultrazvuk, mikrovlny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Oscilace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CCE-48E8-4028-9254-49AFBBFBE2E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0: Závislost rychlostní konstanty na teplotě 1: Arrheniova rovnice, srážková teorie, pravděpodobnostní faktor, Lindemannova teorie unimolekulárních reakc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1: Závislost rychlostní konstanty na teplotě 2: plochy potenciální energie aktivovaný komplex, Eyringova rovnice, reakční termodynamik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2: Mechanismy difúze. Látkové toky a difúzní koeficienty. 1 a 2. Fickův zákon. Analytické a numerické řešení difúzních rovnic, okrajové podmínky. Difúze v~neideálních soustavác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Image6" descr="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10BA-43B7-4FE4-ABFB-8DA18563672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3: Elektrodová kinetika Mechanismus přenosu elektronu v~homogenním a v~heterogenním prostředí (na rozhraní elektroda/roztok), Marcusova teorie, přepětí, Butlerova a Volmerova rovnice, koeficient přenosu náboje,rychlost elektrodové reakce, elektrodový proces s~chemickou reakcí (předřazená, vřazená a následná chemická reakce), heterogenní rychlostní konstanta, vyhodnocení heterogenních rychlostních, konstant pomocí běžných elektrochemických meto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fig1" descr="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D14-64B7-4097-966A-8CA53DBD32C1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rganizace přednášky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arant a vyučující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RNDr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ří Sopouše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Sc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. 549497138, 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opousek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hemi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uni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c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stav chemi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B, bu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1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ka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. 23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erekvizity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lvování přednášek Fyzi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emie I a I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mínky ke připuštění ke zkoušc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cc00"/>
                </a:solidFill>
                <a:latin typeface="Times New Roman"/>
              </a:rPr>
              <a:t>- prokázání schopnosti samostatně řešit modelové    problém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cc00"/>
                </a:solidFill>
                <a:latin typeface="Times New Roman"/>
              </a:rPr>
              <a:t>- získání zápočtu ze semináře C63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54A9-EB50-4CDD-B6C8-FA8E6581BAB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rganizace semináře:</a:t>
            </a: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6330 Chemická kinetik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yučující: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c. Jiří Sopouše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bsah cvičení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Praktické procvičování učiva probraného na přednášce (kalkulačku sebou, práce s P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Vyhodnocování příkladů experimentálního měření (viz např. měření praktika fyzikální chemie, nebo videa z internetu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Používání software urychlujícího práci (zejména EXC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Osvojení si vyhledávat potřebné informace (internet, , wifi internet připojení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mínky získání zápočt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 Znalost probírané tématiky dle sylabu přednášky C63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cc0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Vypracování zápočtových příkladů  a identifikace kinetického v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BFF8-B6FF-41CE-B7AA-40BA7AF3257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oporučená literatur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indl, Ľudovít.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mická kinetika [Treindl, 1990]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2. přeprac. vyd. Bratislava : Slovenské pedagogické nakladateĺstvo, 1990. 34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J. Vohlídal, Chemická kinetika, Karolinum, Praha 2001</a:t>
            </a:r>
            <a:r>
              <a:rPr b="1" lang="cs-CZ" sz="2000" spc="-1" strike="noStrike">
                <a:solidFill>
                  <a:srgbClr val="ffcc00"/>
                </a:solidFill>
                <a:latin typeface="Times New Roman"/>
              </a:rPr>
              <a:t> (script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488-AB45-45C3-A9E4-8D3A3582715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Příkladník z fyzikální chemie VŠChT: http://www.vscht.cz/fch/prikladnik/prikladnik/p.html</a:t>
            </a:r>
            <a:r>
              <a:rPr b="1" lang="cs-CZ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687C-6F70-49EE-8F11-7A7D08E1B30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snova přednášky a seminář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L1: Úvodní hodina. Proč probíhají chemické reakce? Jak můžeme jejich rychlost popisovat?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ladní pojmy chemické kinetiky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 Typy chemických reakcí, elementární reakce, molekular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image113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72200" y="293364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1: Procvičování základní termodynamik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33cc33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5FDB-3915-4D38-B7FF-495DC9E621E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2: Rychlost reakce, rozsah reakce,rychlostní rovnice, řád reakce. Reakce jednosměrné (1. a 2. řádu, následné, simultánní, následné,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2: Příklady na analytické a numerické řešeni reakčních schémat jednosměrných reak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19E-D8A7-4584-AC24-EFE49088444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6320" indent="-3463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3: Určení řádu reakce: metoda integrální, metoda zlomkových časů (poločas reakce, střední doba života), metody cílených experimentů (metoda izolační, metoda počátečních rychlostí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76720"/>
            <a:ext cx="41911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2000"/>
          </a:bodyPr>
          <a:p>
            <a:pPr marL="350280" indent="-3502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3: Numerické řešení reakčních schémat a jejich grafická vizualizace. Určení řádu reakce z experimentálních dat. Lineární a nelineární regrese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48320" y="4724280"/>
            <a:ext cx="3794040" cy="779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  <a:ea typeface="Arial"/>
              </a:rPr>
              <a:t>Figure:  </a:t>
            </a:r>
            <a:r>
              <a:rPr b="1" lang="cs-CZ" sz="1800" spc="-1" strike="noStrike">
                <a:solidFill>
                  <a:srgbClr val="6666ff"/>
                </a:solidFill>
                <a:latin typeface="Times New Roman"/>
              </a:rPr>
              <a:t>Následná nevratná reakce prvního řádu</a:t>
            </a:r>
            <a:r>
              <a:rPr b="1" lang="en-US" sz="1800" spc="-1" strike="noStrike">
                <a:solidFill>
                  <a:srgbClr val="6666ff"/>
                </a:solidFill>
                <a:latin typeface="Arial"/>
                <a:ea typeface="Arial"/>
              </a:rPr>
              <a:t>  A --&gt; B --&gt;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             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A62E-9C84-44CC-8142-B46B75E922E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4: Reakce vratné: dynamická rovnováha, stacionární stav, rovnovážná konstanta, rychlostní rovnice lineární a exponenciáln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02154g1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4: Příklady a numerické řešení reakcí s vratným a paralelním krok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A20-A3CA-41CA-B783-462A50FC56B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47:54Z</dcterms:modified>
  <cp:revision>30</cp:revision>
  <dc:subject/>
  <dc:title>Prezentace aplikace PowerPoint</dc:title>
</cp:coreProperties>
</file>