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CCB5-A90C-4321-AC94-6A3023A16E4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C018-B678-4B49-9E87-2020A960972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03EF-F1DE-4606-91CB-3D9781815AF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2D72-660B-4457-846D-B98FD0A6831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9D04-BE35-4586-8F14-2024929F3C3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2190-EE12-4E18-82E3-EB88A9BD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EE78-D867-453E-8049-ADF141A7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F546D-6BB5-4E91-86D3-55F4136E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58CB4-5DBF-45FD-A665-B0FA9DF7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6D00E-3D45-468E-905C-3C7D6E20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B690B-DFB2-4100-A80F-95E979D5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28FFA-F6DA-47D5-B20C-62110799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3E737-4D82-47E9-801E-381B58C5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8D0AC-D148-4D8A-ADCD-5A2D13A9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78BF7-2DC7-4336-9334-7E4F2B41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CFFCF-043F-4F30-A6D5-A0AE8946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65611-6C9A-4ED4-A36C-945F8275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86BF-7808-4BB5-A943-4E08760F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82FAD-0DA1-4F21-9B10-7BEA0DDC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FD6B4-097D-419B-9956-0A0CE2D6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66373-0F1F-4366-891E-768CCE33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BD327-FC4F-4403-B527-058898BB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25D7D-BE8D-4624-AA94-D33809C5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79339-9BF6-433C-94F2-3E3D0C58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027E4-89BD-4A0E-A3C1-4A38F5A2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5A3EB-055F-471D-BE91-85CF98B4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B41AE-7392-4B67-982C-0BB5714E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DE1AF-0539-4CC3-BD6C-EAFA6C39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BD1-9E23-4363-9724-18101C59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C55BE-7B85-4CC7-9806-6B32604C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A3C6D-ADEB-486E-9AA2-77ECC4D6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0C374-E212-45B0-B4CD-57C97D91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62671-535B-4A32-8AD3-4E7CFDEA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BECA6-8E7F-44F7-893A-C6073847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A4E05-1187-4B92-A57E-367001C7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E93FB-FB47-47BB-817E-29EDE386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E7627-BE78-4CD2-B93D-BFDAE756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0F820-0E87-4C24-BCA6-A5AE0013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EE132-0F69-46BE-A1D0-C1C2E6D8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5800-EBA3-4F34-8616-F657D940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824FD-8D63-4438-8F80-84EBCFB5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76F5A-F462-43A7-950E-76C0E8A6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04EFC-E743-469F-A104-E6CB5BC5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A80CF-B856-4F9E-B284-D6F29C5D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A997A-1F7E-4186-BF57-349A1A8D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6A24E-8507-410A-8F6B-F04F0D9E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65370-8C3D-43DD-A1C6-992A34D4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05F90-7FB7-4AE9-A868-3B59EA68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D995D-EB82-458A-8365-C8986030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462A7-9E78-49D6-979B-328BD379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2C09-F014-4337-A039-5BD63907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6B7DC-CACF-467E-82B4-626E7580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34BC5-AC43-4902-A425-A3EA4A0F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0E845-E326-4A9F-8689-BE44ABC8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08549-B1E5-4C11-94D5-C136A0EF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8327D-BE53-488C-86D3-8C9DC5B3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5B4B-8B76-40A8-B4AF-A7D3723B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18B5-3B44-45EA-A53E-FE2B1FE6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411C-2291-46E7-8ECB-6BF24991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E824-7208-4845-8D29-01B9E738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8048-205F-4442-9A7B-59BDEC13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A93-FED4-42B0-8487-AF001209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D66F-99D5-4CFD-BE7F-37294816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339D-E1B2-43BE-8D95-4DEB3B33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4BA4-D4E5-4E19-AFF3-7AF38C05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4A8D-69F2-4239-A620-2ADD7FE9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494C-CFFB-4E84-B497-0F7E2AE4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DB19C-29F1-43A1-89A8-1260F83B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85832-80FB-496C-9B46-58B6984A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412BB-FAA9-46D7-87D5-03C7F4FB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200F0-8E0B-4964-853A-D03E3D5D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BCCF0-7E44-42A2-904C-6E238F58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9F4C-13BF-4053-86F2-E31A02F7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FCE30-6C47-4514-9DC0-346B92CB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C3C39-1767-40AE-986E-35D876DC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4E27A-F733-41C9-B030-21ECE241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F94DA-A813-42CB-A206-7366106B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17BCC-7B29-4A56-A632-B5C80600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4FE3B-306D-4197-8FBC-4946E097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E2FE7-D7A6-4166-A60A-AF63FCDD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534BF-AEEB-4D9C-AC5D-0A07A946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07ABB-AE3D-44F9-9DAF-27FB4A4D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814AD-D2DE-4745-88F7-DCCF1CA3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FDD-C832-4BA8-AD58-6AA19516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D23B0-8CE1-4176-85CA-0093F7C0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FA83E-38DD-48D8-9C37-5D9901DE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D45E7-DFF0-48EE-9A86-209D92D5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F50BD-9A7C-416D-B21D-284FEE23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4AC5D-376D-44AD-B394-D42FF268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6BA08-A138-41A2-98DF-DCC3023D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36F06-E8F0-438F-A5EA-D51907A6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86E5F-95B7-4E2F-97D7-62896714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E99A5-12B5-4080-8ACD-50EC6F1E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BE8A0-D48E-4B78-B48C-3BD7BE23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3D86-84B0-4D42-A2D6-F723BB20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40D8E-2FCD-410E-A556-687098F7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C7688-514C-4B2B-A9E4-6E222CE9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622CA-2431-4BAB-B8DB-CD420F98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A0A66-5645-4DDF-BC27-2F0FB3A6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E8AD8-3469-4B28-90B4-93FB619C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900AE-3FBC-4473-A736-96A472FB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69CAB-55C2-4C35-A0C3-BDD94797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DD7D2-1D94-41C5-89F8-6949717E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034C8-E502-43B4-8B89-E6598941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D0051-712D-43CD-A9F8-F6C09EA8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155-1A6B-4C44-BBA9-846DBA18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AA67B-3647-4892-8D2E-C813DD77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0C90D-19B8-431F-B872-8DDA398E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A65A0-7FD3-41A3-B4F4-6822BD24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65E6D-B587-4BA8-8BFD-FF5D9BEB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5139A-D7EA-4915-A15B-42DF85E4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39049-5B69-4CCE-8833-18CD74AB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D2B5D-9B8B-4C2E-90D2-9B9E37D8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3518D-10B6-4F17-9B49-3CB3F2CF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E2B25-BE51-4B80-8ECB-0BDF208A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52F09-2DDB-428B-8E7E-764BA16B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58ED-B612-4CE2-944B-B3FD05DC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1F128-7F6E-4872-8575-91B89398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3A3C2-6912-4A19-A1F0-5296ED92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5035C-5075-4F9C-8722-E0894DBF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6329C-7443-43CE-A6DA-3B86022A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11D2C-AA9F-4DF9-A6A1-302A6278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9C2B0-013C-4345-BE6C-80A47D34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71C80-031A-4137-92EF-DDA829AB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F3B1B-25F7-45F2-94C3-D0EB06A2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CBD44-09B9-4237-ADC8-9C0466A6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46B3C-6F04-42AB-ACF4-AE7BFB94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7C9A-F477-4A34-B6A0-636847A8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35078-7364-4CE0-B275-E732ED26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082A1-5357-4BB8-BC2E-9B235F5E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45592-8DA0-4C02-B3D4-57368467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FCDEC-7860-4548-8104-647D491F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654F4-C3DC-479E-AE67-665A0B21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56101-A824-4910-9E2F-0AE74DAC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860E5-3686-4EC3-BF43-C598B12C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A1472-FF85-4C4E-AEBB-853834BE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21992-CA49-49C9-8B77-CBF07ADE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95DE3-3AD9-44D4-B55B-265E64AC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9AB-629D-4006-B130-E50A1FE4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3747B-2514-46E3-B0A1-05F74384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BD167-4765-4ACD-90E1-6B99BD5F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F69EF-9D89-410D-B394-0DB02B4C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7E068-ECF6-49CD-858A-07022ED0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A4262-3276-4086-ADC8-B4825719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127F3-5807-4170-8A0C-40EB86D0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83E16-F9A8-4D25-9F95-E09F03A7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9974F-27CE-47FB-89DE-4C15A983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72481-1B38-4C9B-AF26-4AE9D6BF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0139B-DB48-4561-9FE1-3F50CAE7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6B15-3B4C-4B1B-A307-FB25773265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7F91-FB0E-4999-9606-FD519242D6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0DD1-6511-4BC0-BE86-10FDF0093D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43E3-04A3-4F45-BD1B-9F3EBDA794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4849-8239-4094-A6A7-553B6E27374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EB2D-937D-4FEA-89EF-8822DB3562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7AC2-D6D1-4ABC-877A-E109636A46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0EF4-9A6D-478A-A986-E9CE2CB549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C9E3-89B1-4497-B332-D7E196C833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DB02-986E-4323-A0EF-A8B36F9C0E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6F65-B4EF-4507-85D0-EACB654445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A95A-308D-42CC-92B1-B710DE3FB8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Sopousek, L01_01 Chemická kinet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AF68-9947-4E85-9999-4BE0AB48719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6320 Chemical kinetic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lec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E11C-A123-45D1-A8D5-CA661ED54A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6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talytic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ction 1: homogeneous catalysis, acid-base catalysis, autocatalysis, enzyme catalysis, Michalisova-Menten equation, transient kinetics, integrated Michaelis-Menten equation, complex enzyme reactions (Cleland symbolism, the King-Altman method) inhib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1029" descr="http://www.millipore.com/publications.nsf/dda0cb48c91c0fb6852567430063b5d6/7b111b8ca85b07a085256fa20052b376/en_RTBody/2.FBC?OpenElement&amp;FieldElemFormat=gif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1028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 3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termination of Michaelis constants - Menten K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C31D-8F3F-4380-B5F7-EA3BDD7DC2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7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ction cataly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2: heterogeneous catalysis, surface coverage and chemisorption, adsorption isotherm (Langmuir, BET, Freundlich, Temkinova), uni and bimolecular reactions on the surface, product inhib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8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ain Reaction: initiation, promotion, termination, radical reactions, branched reaction, polymerization, combustion, explo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1028" descr="http://img.sparknotes.com/figures/6/62c26fd494fed99200569cfa94d97377/cat.gif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029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1031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543" name="Rectangle 1027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1030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0A27-4461-419C-8C5C-43B2612EB0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P9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cill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cillators (Lotka-Volterr, Brusselator, Oreg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or), limit cycle, recurrent equations by relaxation: temperature, pressure jump, ultrasound, micro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D:\Sopousek\Vyuka\Kinetika\Předchozí přednáška\Oscilace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  <p:sp>
        <p:nvSpPr>
          <p:cNvPr id="548" name="TextovéPole 1"/>
          <p:cNvSpPr/>
          <p:nvPr/>
        </p:nvSpPr>
        <p:spPr>
          <a:xfrm>
            <a:off x="1287360" y="5121360"/>
            <a:ext cx="6740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oscilations: Belousov – Zabotinsk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6947-192F-44C0-A031-D808A87638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0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pendence of the rate constant at temperature 1: Arrhenius equation, collision theory, probability factor, Lindemann theory of unimolecular re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1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pendence of the rate constant at a temperature of 2: potential energy surfaces activated complex, Eyring equation, reaction thermodynam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2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usion mechanisms. Fabric flows and diffusion coefficients. 1 and 2 Fick's law. Analytical and numerical solutions of diffusion equations, boundary conditions. ~ Diffusion in non-ideal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5" descr="http://www.iaq.dk/iap/iap1998/1998_06/Image6.gif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218B-0682-45DA-B5A6-EAC17FEA34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3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lectrode kinetics mechanism of electron transfer in homogeneous and heterogeneous environment (the interface electrode / solution), Marcus theory, power surges, Butler and Volmer equation, the coefficient of charge transfer rate of the electrode reaction electrode process with chemical reaction (overpriced, interposed a subsequent chemical reaction ), heterogeneous rate constant, an evaluation of heterogeneous expressways, constants using conventional electrochemical metho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4" descr="fig1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562B-ED80-46BF-928F-ACDBC2D3B6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rganization of lectures C6320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r and tutor: Doc. Dr.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iř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poušek, Ph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el. 549 497 138, sopousek@chemi.muni.cz, Department of Chemistry,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ffic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1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/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3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requisites: Completion of lectures physics. Chemistry I and I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s and study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s for admission to the examination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monstrate the ability to solv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inetic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btaining credi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the seminar C63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s (2+2) / Completion of examination or test vi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C0C0-2F82-47E9-91EC-95CC0F7A5A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Organization of seminar C6330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r and tutor: Doc. Dr.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iř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poušek, Ph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ology of exerci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tical training (ea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tuden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cula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ap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ng examples of experimental measurements (book, laboratory,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of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oftware acceler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XCEL, Math CAD, Mathematics: Wolf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uiring search for necessary information (internet, wifi internet connec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s (1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Knowledge of the themes discussed on lectures C63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ation of the movie on chemical kinetics (show, problem solv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C077-1A5B-48C5-9592-F5A54AD17A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5420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Vohlídal, Chemická kinetika, Karolinum, Praha 2001 (scrip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1E52-FA36-4FE2-BF29-B7BA2107D6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hemes (chronological)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L1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ory lecture. Why do chemical reactions take place? How can we describe their speed? Basic concepts of chemical kinetics. The types of chemical reactions, the elementary reactions molecula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1029" descr="http://www.engin.umich.edu/~cre/03chap/html/moledyn/MolecularDynamic_files/image113.gif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1030"/>
          <p:cNvSpPr/>
          <p:nvPr/>
        </p:nvSpPr>
        <p:spPr>
          <a:xfrm>
            <a:off x="5292720" y="2933640"/>
            <a:ext cx="385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1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ctic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as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rmodynam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028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37D0-7A28-4DC4-88E7-E865F6D4E3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te of reaction, the extent of reaction, rate equation, order of reaction. Reaction unidirectional (1st and 2nd order, consequential, simultaneous, consequential,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analytical and numerical solutions of reaction schemes of unidirectional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15FB-E0C5-424A-956C-0D83ED3B9F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40388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tion of the reaction: the integral method, the method of fractional times (half-reaction, the mean lifetime), methods of targeted experiments (isolation method, the method of initial rates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030"/>
          <p:cNvSpPr/>
          <p:nvPr/>
        </p:nvSpPr>
        <p:spPr>
          <a:xfrm>
            <a:off x="0" y="3276720"/>
            <a:ext cx="419112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ical solutions of reaction schemes and their graphical visualization. Determination of the reaction order from experimental data. Linear and nonlinear regression.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103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1032"/>
          <p:cNvSpPr/>
          <p:nvPr/>
        </p:nvSpPr>
        <p:spPr>
          <a:xfrm>
            <a:off x="4191120" y="4724280"/>
            <a:ext cx="4647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: 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bsequent irreversible first-order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--&gt; B -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2AE1-0B82-4BC6-B95D-2636F0BA59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ible reaction: a dynamic equilibrium, steady state, equilibrium constant speed linear and exponential eq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Picture 7" descr="http://www.psigate.ac.uk/newsite/reference/plambeck/chem2/p02154g1.gif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8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and numerical solutions of reaction with a reversible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Zástupný symbol pro číslo snímku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88F9-23F6-4B9A-9D73-69ACA75116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P5: </a:t>
            </a:r>
            <a:r>
              <a:rPr b="0" lang="cs-CZ" sz="2400" spc="-1" strike="noStrike">
                <a:solidFill>
                  <a:srgbClr val="330099"/>
                </a:solidFill>
                <a:latin typeface="Times New Roman"/>
              </a:rPr>
              <a:t>Experiment. Batch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 reaction mixture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532" name="Picture 3077" descr="D:\Vyuka\FCh-základní praktikum\Fotografie praktika a úloh\7c_zmydelneni.jpg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075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5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technical problems with the experiment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opousek</cp:lastModifiedBy>
  <dcterms:modified xsi:type="dcterms:W3CDTF">2014-02-19T16:38:43Z</dcterms:modified>
  <cp:revision>43</cp:revision>
  <dc:subject/>
  <dc:title>Prezentace aplikace PowerPoint</dc:title>
</cp:coreProperties>
</file>