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E03F-4FF6-4CF7-B20F-50C9961BCF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599A-C61B-486C-9A95-C364F53E19DC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241E-F16E-4D06-904D-789402388934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A97E-380A-4EC8-8F75-98B238739EE6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4FE4-15BE-4DA6-BA29-A6AE1A93C433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F222-5E2F-4A72-AB92-62F5252A1B3B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1C09-68D7-48FB-ABFD-54E3D3EAD0C5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01A-E3BA-47E0-9BA9-EC4D6E1F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239-0DDC-409B-AA85-43837977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9AC-466B-4EDB-BD69-F00D801E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5A9-2756-43A4-B32F-5E659FDB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3F08-9629-4693-8F81-85330BAB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ADA1-436F-4F64-B4D9-AF290C9C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911E-428C-4CA7-85CF-98CE9B32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9B80-FA8E-4834-924E-6D8EB032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DE72-B7A4-41EA-B44A-4CF24857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DCCB-391F-42B7-8DB5-D67001DE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F968-0F6E-4286-A25B-BAB6458B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CB8-393C-4D56-A577-B4A4473D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FD8D-64D2-404E-B645-9F3D41D4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52C5-151B-4FC3-A194-FFF47985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C57F-6161-4ECD-8D11-9190660C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FE61-F7E1-420F-B993-167ADB12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F1C3-155E-4EA4-91FF-3299A225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926-5648-4894-9297-83DEC422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13B-B4A8-43BD-87E0-B366CB03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097-F108-4786-AE43-4E80A4F7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AE2-B9F8-4830-9F4B-C6491AA9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3B6-9D45-4DC6-AD25-6276583E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09F-4E5F-4D4E-996F-BF0683FB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5BE-BBFA-499F-B81C-DF42E7F4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6845-CC77-48BC-A430-D21759EF4E0C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8D47-7C90-43AC-B442-701905D9B0EE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chemed.chem.wisc.edu/JCEWWW/Features/eChemists/Bios/Menten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al kinetics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850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tudied the rate of inversion of sucros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hydrolysis into D-(+)-glucose and D-(-)-fructose in the presence of an acid) and found it to be proportional to the concentrations of both the sugar and the acid.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ormulated their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law of mass acti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," according to which the reaction "forces" are proportional to the product of the concentrations of the reactants: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r [S]s/([A]a [B]b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where a, b, r and s are the stoichiometric coefficients in the chemical equation A+B=R+S. So the rate of the forward reaction is proportional to [A]a [B]b and that of the reverse reaction is proportional to {R]r [S]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alyzed the reactions between H2O2 and HI and between KMnO4 and (COOH)2.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hey wrote the corresponding differential equations, integrated them and determined the concentration vs. time relationships.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They also proposed an equation for the temperature dependence of the reaction rate, k = A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published his "Studies of Chemical Dynamics" (Études de dynamique chimique), in which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he generalized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further developed the work of Wilhelmy (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acharoz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In particular, he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introduced the differential method of analysis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He also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analyzed the temperature dependence of the equilibrium constant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now called the "van't Hoff equation") and of forward and reverse reaction rat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introduces the terms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reaction order" and "half-lif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" in his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urther analyzed the temperature dependence of reaction rate,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 = A exp(-B/T),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gave it an "energy barrier" interpretation; this is now called the "Arrhenius equation.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ss Menten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chaelis-Menten equation (1912),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zyme kinetics (Professor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a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79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years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age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Picture 8" descr="http://employees.csbsju.edu/hjakubowski/classes/ch331/transkinetics/Menten.GIF"/>
          <p:cNvPicPr/>
          <p:nvPr/>
        </p:nvPicPr>
        <p:blipFill>
          <a:blip r:embed="rId1"/>
          <a:stretch/>
        </p:blipFill>
        <p:spPr>
          <a:xfrm>
            <a:off x="4572000" y="2133720"/>
            <a:ext cx="3429000" cy="4022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Termodynami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 of findings from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mmary of findings from history. Many concepts and ideas encountered in chemical kinetics has long been know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etting some kinetic information is very demanding (reaction mechanisms, reaction coordinate, ...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dern kinetics is interdisciplinary (biochemical kinetics, molecular dynamics, quantum chemistry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table women and men of science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jchemed.chem.wisc.edu/JCEWWW/Features/eChemists/Bios/Menten.html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42:42Z</dcterms:modified>
  <cp:revision>24</cp:revision>
  <dc:subject/>
  <dc:title>Prezentace aplikace PowerPoint</dc:title>
</cp:coreProperties>
</file>