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5867-4F85-4DB5-9223-ED1C8A8CDD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5938-91E9-4823-8203-F347513CF55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3BCA-0891-4119-8E93-7A33762769D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FCA2-13E4-46D0-8A4C-30486B563F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D56B-E2D6-445C-A8B5-0E783F7B5A6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A7DB-3333-462D-8BFA-4C7A05B2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B5A3-8297-4393-902C-0BC21C6D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F2176-003E-4676-8016-47C590A2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49948-9884-49BF-BC80-1DDF3D90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0F903-90DC-4C3E-B9CF-C1FD83C5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251F1C-FE17-4DAC-AB8B-ABC47373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5ACC2-1394-46CC-978B-03C73FF9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17021-2066-419B-B449-D588F4D6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F657E-047E-4F7B-8539-FF154B0E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E84A2-F9A3-4ED5-8A6F-B284B2C9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8790C-2A81-4FAF-98CE-A92B9DC3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2B679-5DF9-4E73-BD46-5854CEE4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240-E227-4A89-8D26-2230E855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DE0D1-473D-49EB-BEC9-7F05272D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B6FDE-24D1-4066-864F-CEFD7102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BE37E-6041-411A-B28E-839C8B5F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98284-3677-4D3A-87AE-77861A58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B9769-7D18-45DA-8689-C18E00CB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BC1D0-8BEF-47CC-9D7E-F07C7EEA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16EC9-438B-470B-BD6B-2C1825BF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770A1-5BCA-465A-AB73-A471E1C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0EA64-98DE-433F-92F2-45C742E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79075-7742-4F9A-9F0C-E5E52BEF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005-D9CD-436B-B1BB-D2D56B60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5E036-DC52-4325-B201-0FD5C865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990E3-1B63-4906-B8E5-FEED8BCA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7984C-C184-41D9-A5DA-501E9D33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37721-20DA-4E49-8486-08ED8791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7A6AB-A7B4-4F1B-AC8A-7B837B96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D64BB-C9EC-4C43-8A26-1ACC050D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2A709-2DFA-4ADF-8F1A-EBFA4B57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E1360-0FC0-4290-9316-BF55F82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DADAD-DD7E-4C08-9586-8F8DBF9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12448-CB98-457B-B33C-E27EEFAC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DB6E-D1A8-47A7-8488-23F90623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E922DA-C8EB-47DA-A6BD-49807560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E14D2-39D6-4F43-A43C-24E5F175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A1CEB-CC35-4689-9D94-6E474472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AC993-098A-41C9-9072-4F77A7CF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B9F6E-AD2A-4B1E-922A-A13D1C00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3ED57-468E-4CAE-9F53-58DD6AD0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EF9CA-0D8C-4775-B5F4-B88E3DA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09E3D-2026-4E50-9DDA-F698A7DB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9FF8F-A3DC-4424-B043-2B9095C2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ADBE7-9954-4C85-BAA1-33E3B0C6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2A7DC-7092-4337-B5B8-55FF1902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42E29-A142-43F2-86E0-44CE2AA3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EFFBF-935D-4D27-8D26-C0350D8E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D0B7E-24C1-4027-A6EE-4771D4FA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9309B-3AC3-4455-AB5A-2078E526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04EBA-2263-45FC-A482-DD04C207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2BA4-10FE-4541-8300-CCA3D166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15F8-A0B9-4822-BB74-AE3570C3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D371-D8D2-4BB9-9F24-45F07EB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EF1C-BAE3-42D8-AB05-8EE2D572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A8C-5362-443E-B29D-7CF2519A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573-B15C-4287-8866-22CD4896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0E9E-D447-4B02-9B5F-00849AF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5CC8-A965-415C-B4F9-BD5CFE09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B687-DCF2-420A-AD57-8EC521BC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DC5E-BDA4-4C22-A12B-6E0A0EB0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1532-2B0D-4B4E-907F-8EF94431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9753-ED36-440A-AC2A-6234D130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A98D5-9A0E-4D1E-8B85-0EC4F3CD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06183-C0DC-467E-9F2A-26FE3671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859E-7D19-4253-83E6-A968074D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72A2-3D95-4283-907D-3E46059B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C04-C8BD-4334-B0B3-033B91B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22DA-25A1-475B-B806-3E3AC08D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EEC5-D1F4-4EDE-A4DB-E527683F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527DE-734F-4CB5-AAE2-0D21708E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33A1-EE5E-4127-A883-DEDFA05C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E1B9B-80EB-46A8-ACF1-4029B991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C18C0-D907-432C-9200-EDC23F15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031B-3958-4EB0-A556-B3D1480C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82D2-9E07-4704-91D4-AB5B4D48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D968-A3A9-423A-94E8-B164DF18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317D6-0CC1-494B-9A2E-4B183E90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365-AD30-4C62-AD26-95623785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A6B10-5AB4-44A9-B396-29632898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F4886-9E9F-4CC5-B922-DC339C42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D507D-6A2F-42B3-8658-C71C0946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0408-C99E-46B2-B90D-00939567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B817-2568-4DA6-894D-D75CDF2E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978D-2B29-4964-BA30-5E3A0DEC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7129-0BDF-448B-8B3A-01984E0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28F77-1890-4890-8ACD-404C0E20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D6E2B-86F1-4BFB-8F5C-C0C9FB6A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83BE1-0895-451C-B139-14F9414C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4E7-A58D-4B08-ACC6-E6D344B8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E5A4-E051-4BF3-BF52-7ED7B1E0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1A2FA-15A9-4B2D-8834-11C645C9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89FBC-4781-440F-BA34-663589F1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B4CCB-9D9F-411A-AD38-F0308536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5E8C1-A4CC-477C-9531-5F67AAF8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CBD5A-C366-4D3A-8402-D62D0538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559BD-1D28-4983-B516-B001F051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7E4B6-F77A-4D2E-9186-5B4B9051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26041-39DE-4E3F-BC7F-2E923FD8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AFC2B-348F-4274-AAD7-32A0697E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F296-481A-41FA-85A1-87B399B9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1CB8C-5DDF-4D61-8954-34F2B4A69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1E40F-79A8-46C2-8EF8-264903C5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61C08-1AB8-4588-A674-D63E03D1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8B982-E1A0-4E35-948A-8F21AC6A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B69CD-765E-4070-9B32-6735CBBC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C6256-E28C-4ED9-A824-B6B9E785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CDCE9-28E0-47C2-8C8D-4E421375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BD118-6E4B-4BD8-A68A-E1DC7E7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20FBA-D94B-46E6-8A6F-BA1C431E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AEB13-FDBE-4050-8EDA-DBE58AD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7E9-938E-4C8D-AF27-9B2431B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F4C94-B313-43BF-BF16-09D9104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7A4BF-2990-4244-8B4D-335EAD61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05F68-A975-4111-B862-AA3FDBC5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6192-DD6A-41D4-8789-B97276DC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58886-0494-4C2A-9CB6-7B4663DB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6C35-F0D0-4ED7-B925-699DD800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5AE0A-F25D-4235-946C-064C6E04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49A27-1793-4277-8863-BF591009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809DD-7173-4B17-BD47-2EDDACC2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4839E-1B16-4F93-95C9-C0947F3B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7A1A-388B-4941-A0DE-BE706C73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25EFD-4B44-4900-9632-B6DEC563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F04D1-9703-45B2-85EB-ADAFBABE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FD317-54C6-4C22-A04D-CB2D445A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C4862-F0F0-4402-9E88-D47685C3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056E3-51DC-48B4-911B-AF272340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F8BE2-BB3D-4FBA-92E8-A372EBEA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92466-76C9-4BE9-BC7B-3B68518D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57FBF-C0E0-46A5-9906-FE262680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E1686-3805-4A1E-9828-126AD783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16A60-BE92-4B18-B624-726B8FD2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20C-E62E-48E2-9316-D0FD3EDA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DA1D4-911E-4763-816A-214B22D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3F99B-7AD3-427C-A6BB-C1FCFD3B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95761-70F4-46CC-BF4F-8FE862EF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DCEB9-D8B5-4FE7-9CA6-8649428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ADE56-1014-44DF-A15E-72EA9120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94AB2-3C63-446A-86CF-4B683854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90727-C31C-49B7-AA83-5934EFD5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4B878-513A-4373-A6D9-EBFA51DB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4674A-EC24-4C65-8B57-51190835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71C41-0197-4DA0-8250-9073A02C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4AC3-BD3F-49CC-8409-5206B3C5D0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47D5-70B5-4783-9715-508DB75CCD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5542-F7BE-456B-9696-E263061937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65C4-A5EB-473C-9971-66997852AE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0065-2AA2-46AA-B069-B5F3E6BD634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C40E-3A90-402F-B2AF-D57678E075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8D5F-07F6-4729-85E2-42FBB01B3A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D7E9-236E-4544-8325-68D024A96E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D40C-66D5-40D0-8040-EBA024F5AA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CDFA-7BDB-4198-9FFA-630A2F164E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0511-B5D8-4DF7-A990-BE8D0DF067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0099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3BA7-67F4-4EA9-8BD1-D1ED80CB0C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7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Sopousek, L01_01 Chemická kinet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AF3F-F08D-4527-ADA8-36A8CFA52B0F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6320 Chemical kinetic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 lec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D38D-A540-480A-BC4A-A5A29EF9FC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6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talytic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1: homogeneous catalysis, acid-base catalysis, autocatalysis, enzyme catalysis, Michalisova-Menten equation, transient kinetics, integrated Michaelis-Menten equation, complex enzyme reactions (Cleland symbolism, the King-Altman method)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1029" descr="http://www.millipore.com/publications.nsf/dda0cb48c91c0fb6852567430063b5d6/7b111b8ca85b07a085256fa20052b376/en_RTBody/2.FBC?OpenElement&amp;FieldElemFormat=gif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1028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g 3.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etermination of Michaelis constants - Menten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F0F8-0B29-4BD1-93B9-4F04884B5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7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eaction catal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: heterogeneous catalysis, surface coverage and chemisorption, adsorption isotherm (Langmuir, BET, Freundlich, Temkinova), uni and bimolecular reactions on the surface, product inhib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8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hain Reaction: initiation, promotion, termination, radical reactions, branched reaction, polymerization, combustion, explo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028" descr="http://img.sparknotes.com/figures/6/62c26fd494fed99200569cfa94d97377/cat.gif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029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1031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543" name="Rectangle 1027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1030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D736-42FD-469E-A3F2-EFFDC72037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P9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a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mical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scillators (Lotka-Volterr, Brusselator, Ore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or), limit cycle, recurrent equations by relaxation: temperature, pressure jump, ultrasound, micro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D:\Sopousek\Vyuka\Kinetika\Předchozí přednáška\Oscilace.jpg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548" name="TextovéPole 1"/>
          <p:cNvSpPr/>
          <p:nvPr/>
        </p:nvSpPr>
        <p:spPr>
          <a:xfrm>
            <a:off x="1287360" y="5121360"/>
            <a:ext cx="6740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mical oscilations: Belousov – Zabotinsk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C094-16D5-4CAA-9E90-8CAEE9581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0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temperature 1: Arrhenius equation, collision theory, probability factor, Lindemann theory of unimolecular rea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pendence of the rate constant at a temperature of 2: potential energy surfaces activated complex, Eyring equation, reaction thermodynam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usion mechanisms. Fabric flows and diffusion coefficients. 1 and 2 Fick's law. Analytical and numerical solutions of diffusion equations, boundary conditions. ~ Diffusion in non-ideal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Picture 5" descr="http://www.iaq.dk/iap/iap1998/1998_06/Image6.gif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A520-201F-48F6-B58A-E8E46F21B1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13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lectrode kinetics mechanism of electron transfer in homogeneous and heterogeneous environment (the interface electrode / solution), Marcus theory, power surges, Butler and Volmer equation, the coefficient of charge transfer rate of the electrode reaction electrode process with chemical reaction (overpriced, interposed a subsequent chemical reaction ), heterogeneous rate constant, an evaluation of heterogeneous expressways, constants using conventional electrochemical metho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Picture 4" descr="fig1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01D6-7FAF-43DE-92BF-809E0B8AB7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0099"/>
                </a:solidFill>
                <a:latin typeface="Times New Roman"/>
              </a:rPr>
              <a:t>Organization of lectures C6320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el. 549 497 138, sopousek@chemi.muni.cz, Department of Chemistry,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ffice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12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/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requisites: Completion of lectures physics. Chemistry I and I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ctures and study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s for admission to the examination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monstrate the ability to solv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inetic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btaining credi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the seminar C63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s (2+2) / Completion of examination or test via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923E-C20F-4F4D-8555-00AAF9164F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0099"/>
                </a:solidFill>
                <a:latin typeface="Times New Roman"/>
              </a:rPr>
              <a:t>Organization of seminar C6330</a:t>
            </a:r>
            <a:endParaRPr b="0" lang="en-US" sz="36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r and tutor: Doc. Dr.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iř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poušek, Ph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ology of exerci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actical training (ea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tuden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o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ng examples of experimental measurements (book, laboratory,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o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software acceler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XCEL, Math CAD, Mathematics: Wolfr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00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ing search for necessary information (internet, wifi internet connec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s (1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nowledge of the themes discussed on lectures C63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ation of the movie on chemical kinetics (show, problem solv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D566-EE04-45A9-8A65-4C971E46E5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542000" cy="82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Literature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J. Vohlídal, Chemická kinetika, Karolinum, Praha 2001 (scri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B718-4B3C-4D22-924F-94EDE39497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99"/>
                </a:solidFill>
                <a:latin typeface="Times New Roman"/>
              </a:rPr>
              <a:t>Themes (chronological)</a:t>
            </a:r>
            <a:endParaRPr b="0" lang="en-US" sz="4400" spc="-1" strike="noStrike">
              <a:solidFill>
                <a:srgbClr val="330099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L1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ductory lecture. Why do chemical reactions take place? How can we describe their speed? Basic concepts of chemical kinetics. The types of chemical reactions, the elementary reactions molecula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Picture 1029" descr="http://www.engin.umich.edu/~cre/03chap/html/moledyn/MolecularDynamic_files/image113.gif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1030"/>
          <p:cNvSpPr/>
          <p:nvPr/>
        </p:nvSpPr>
        <p:spPr>
          <a:xfrm>
            <a:off x="5292720" y="2933640"/>
            <a:ext cx="3851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1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ctic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rmodyna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028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38A5-198A-4D44-8DE0-937098C7FB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te of reaction, the extent of reaction, rate equation, order of reaction. Reaction unidirectional (1st and 2nd order, consequential, simultaneous, consequential,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analytical and numerical solutions of reaction schemes of unidirectional re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A7B5-1966-48A9-9018-219699D9AA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40388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-365400">
              <a:lnSpc>
                <a:spcPct val="9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tion of the reaction: the integral method, the method of fractional times (half-reaction, the mean lifetime), methods of targeted experiments (isolation method, the method of initial rate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030"/>
          <p:cNvSpPr/>
          <p:nvPr/>
        </p:nvSpPr>
        <p:spPr>
          <a:xfrm>
            <a:off x="0" y="3276720"/>
            <a:ext cx="419112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spcBef>
                <a:spcPts val="499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erical solutions of reaction schemes and their graphical visualization. Determination of the reaction order from experimental data. Linear and nonlinear regression.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Picture 1031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1032"/>
          <p:cNvSpPr/>
          <p:nvPr/>
        </p:nvSpPr>
        <p:spPr>
          <a:xfrm>
            <a:off x="4191120" y="4724280"/>
            <a:ext cx="4647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gure: 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ubsequent irreversible first-order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--&gt; B -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Zástupný symbol pro číslo snímku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A668-7CCD-4A1E-A875-01E88E16B1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sible reaction: a dynamic equilibrium, steady state, equilibrium constant speed linear and exponential eq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7" descr="http://www.psigate.ac.uk/newsite/reference/plambeck/chem2/p02154g1.gif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8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009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and numerical solutions of reaction with a reversibl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Zástupný symbol pro číslo snímku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0765-2291-43FA-9341-C6AD539138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0099"/>
                </a:solidFill>
                <a:latin typeface="Times New Roman"/>
              </a:rPr>
              <a:t>P5: </a:t>
            </a:r>
            <a:r>
              <a:rPr b="0" lang="cs-CZ" sz="2400" spc="-1" strike="noStrike">
                <a:solidFill>
                  <a:srgbClr val="330099"/>
                </a:solidFill>
                <a:latin typeface="Times New Roman"/>
              </a:rPr>
              <a:t>Experiment. Batch</a:t>
            </a:r>
            <a:r>
              <a:rPr b="0" lang="en-US" sz="2400" spc="-1" strike="noStrike">
                <a:solidFill>
                  <a:srgbClr val="330099"/>
                </a:solidFill>
                <a:latin typeface="Times New Roman"/>
              </a:rPr>
              <a:t> reaction mixture</a:t>
            </a:r>
            <a:endParaRPr b="0" lang="en-US" sz="2400" spc="-1" strike="noStrike">
              <a:solidFill>
                <a:srgbClr val="330099"/>
              </a:solidFill>
              <a:latin typeface="Times New Roman"/>
            </a:endParaRPr>
          </a:p>
        </p:txBody>
      </p:sp>
      <p:pic>
        <p:nvPicPr>
          <p:cNvPr id="532" name="Picture 3077" descr="D:\Vyuka\FCh-základní praktikum\Fotografie praktika a úloh\7c_zmydelneni.jpg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075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5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technical problems with the experiment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pousek</dc:creator>
  <dc:description/>
  <dc:language>en-US</dc:language>
  <cp:lastModifiedBy>sopousek</cp:lastModifiedBy>
  <dcterms:modified xsi:type="dcterms:W3CDTF">2014-02-19T16:38:43Z</dcterms:modified>
  <cp:revision>43</cp:revision>
  <dc:subject/>
  <dc:title>Prezentace aplikace PowerPoint</dc:title>
</cp:coreProperties>
</file>