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06AD-4F59-4B42-8180-666B1A7250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4F16-55FD-461C-BE65-A66895587A09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A57-AAAB-4059-8F3F-993E0EB04E91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BC4-BC29-4279-8147-AAC48956FFB5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008B-E9A1-4A42-B16E-BD785CD83BA2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49FA-6B54-4531-8F31-715D7A510E67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ABF-2C57-4851-AD20-8075D9BE6DDD}" type="slidenum">
              <a:rPr b="0" lang="cs-CZ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99ED-39EE-4FF0-B6C5-38F517D2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5D9-97A6-440B-9E50-FA49AAB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AF3-9D43-4BF4-8A65-F386B3A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50A-A7EA-4A65-980D-D4774589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770B-19EE-4A29-ABE2-AA8A7063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F204-BE88-4E8A-8215-13AC8302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5D0D-725E-4679-B5EC-AC4D3B25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0791-91B1-48A1-8D33-763A14F9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6FDB-8511-408A-854F-45ADCA3E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1301-A80D-4825-BB20-9E0F334F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3569-392A-429D-85DC-8AD0C957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805F-1390-4041-A1B2-8E66F337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C450-F280-4556-BEBC-FB22457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EA77-C467-4A5A-981B-62A12FD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29F6-3566-4C42-9401-2EDDDD50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FE25-529F-4712-8789-29BA7A31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5C63-5547-4B8B-A197-07235C9D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84-1FAD-41A6-9186-DB0B5180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815-5C64-43A5-A23C-05A01DBC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82F-A8EC-4C3C-A1B1-2BCE0689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14A5-FF4C-4C23-AABA-EC577FEB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9CA-03F8-4E78-9F8D-4683C7D8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DD8-F1C9-4EB0-B431-56C01B8B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8F4-ADF2-4B1A-B88F-3CC9E607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1027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1028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1029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1030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1031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1032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1033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34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035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036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037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038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039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040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041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042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043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1044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1045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1046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1047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1048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1049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1050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1051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1052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1053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1054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1055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1056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1057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1058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1059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1060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1061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1062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1063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1064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1065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1066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1067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1068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1069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1070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1071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1072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1073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1074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1075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1076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1077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1078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1079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1080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1081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1082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1083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1084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1085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1086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1087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1088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1089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1090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1091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1092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1093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1094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1095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1096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1097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1098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1099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1100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1101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1102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1103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1104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1105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1106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1107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1108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1109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1110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1111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1112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1113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1114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1115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1116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1117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1118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1119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1120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1121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1122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1123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124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125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126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127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128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129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130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99C-DA47-4883-A295-C63943E3136F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026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Rectangle 1027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Group 1028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Line 1029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Line 1030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Line 1031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1032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1033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1034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1035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36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037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038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039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040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041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042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043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044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045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1046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1047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1048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1049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1050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1051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1052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1053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1054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1055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1056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1057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1058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1059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1060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1061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1062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1063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1064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1065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1066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1067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1068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1069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1070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1071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1072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1073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1074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1075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1076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077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078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079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080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081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082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083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1084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1085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1086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1087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1088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1089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1090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1091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1092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1093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1094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1095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1096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1097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1098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1099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1100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1101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1102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1103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1104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1105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1106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1107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1108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1109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1110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1111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1112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1113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1114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1115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1116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1117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1118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1119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1120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1121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1122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1123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1124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1125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126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Rectangle 1132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Rectangle 1133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FDAA-C33D-41A2-A97C-2D31C394225A}" type="slidenum">
              <a:rPr b="0" lang="cs-CZ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jchemed.chem.wisc.edu/JCEWWW/Features/eChemists/Bios/Menten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C6320 Chemical kinetics:</a:t>
            </a:r>
            <a:br>
              <a:rPr sz="4000"/>
            </a:br>
            <a:br>
              <a:rPr sz="4000"/>
            </a:b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History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0000"/>
                </a:solidFill>
                <a:latin typeface="ArialNarrow"/>
              </a:rPr>
              <a:t>Ref: "The World of Physical Chemistry," by K. J. Laidler, Oxford Univ. Press, 1993)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4360" y="198072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50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Wilhelmy (German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tudied the rate of inversion of sucros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hydrolysis into D-(+)-glucose and D-(-)-fructose in the presence of an acid) and found it to be proportional to the concentrations of both the sugar and the acid. (viz experimentální úloha v praktiku fyzikální chemie)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Guldberg and Waage (Norway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ormulated their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law of mass acti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," according to which the reaction "forces" are proportional to the product of the concentrations of the reactants: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=[R]r [S]s/([A]a [B]b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where a, b, r and s are the stoichiometric coefficients in the chemical equation A+B=R+S. So the rate of the forward reaction is proportional to [A]a [B]b and that of the reverse reaction is proportional to {R]r [S]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65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 (UK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alyzed the reactions between H2O2 and HI and between KMnO4 and (COOH)2.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They wrote the corresponding differential equations, integrated them and determined the concentration vs. time relationships.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They also proposed an equation for the temperature dependence of the reaction rate, k = A 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4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van't Hoff (The Netherlands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published his "Studies of Chemical Dynamics" (Études de dynamique chimique), in which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he generalized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further developed the work of Wilhelmy (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sacharoza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Harcourt and Esson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In particular, he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introduced the differential method of analysis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. He also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analyzed the temperature dependence of the equilibrium constant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(now called the "van't Hoff equation") and of forward and reverse reaction rat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7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Ostwald (Germany; Latvia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introduces the terms "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reaction order" and "half-life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" in his "Lehrbuch der allgemeinen Chemie.„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1889: </a:t>
            </a:r>
            <a:r>
              <a:rPr b="0" lang="cs-CZ" sz="2000" spc="-1" strike="noStrike">
                <a:solidFill>
                  <a:srgbClr val="ff0066"/>
                </a:solidFill>
                <a:latin typeface="Arial"/>
              </a:rPr>
              <a:t>Arrhenius (Sweden)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further analyzed the temperature dependence of reaction rate, </a:t>
            </a:r>
            <a:r>
              <a:rPr b="1" lang="cs-CZ" sz="2000" spc="-1" strike="noStrike">
                <a:solidFill>
                  <a:srgbClr val="003366"/>
                </a:solidFill>
                <a:latin typeface="Arial"/>
              </a:rPr>
              <a:t>k = A exp(-B/T),</a:t>
            </a: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and gave it an "energy barrier" interpretation; this is now called the "Arrhenius equation."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ss Menten (Maude Lenora Menten, *1879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ichaelis-Menten equation (1912),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nzyme kinetics (Professor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a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79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years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age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8" descr="http://employees.csbsju.edu/hjakubowski/classes/ch331/transkinetics/Menten.GIF"/>
          <p:cNvPicPr/>
          <p:nvPr/>
        </p:nvPicPr>
        <p:blipFill>
          <a:blip r:embed="rId1"/>
          <a:stretch/>
        </p:blipFill>
        <p:spPr>
          <a:xfrm>
            <a:off x="4572000" y="2133720"/>
            <a:ext cx="3429000" cy="4022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Termodynamik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53452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ummary of findings from hist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ummary of findings from history. Many concepts and ideas encountered in chemical kinetics has long been known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etting some kinetic information is very demanding (reaction mechanisms, reaction coordinate, ...)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odern kinetics is interdisciplinary (biochemical kinetics, molecular dynamics, quantum chemistry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82880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table women and men of science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jchemed.chem.wisc.edu/JCEWWW/Features/eChemists/Bios/Menten.html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42:42Z</dcterms:modified>
  <cp:revision>24</cp:revision>
  <dc:subject/>
  <dc:title>Prezentace aplikace PowerPoint</dc:title>
</cp:coreProperties>
</file>