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6.wmf" ContentType="image/x-wmf"/>
  <Override PartName="/ppt/media/image8.png" ContentType="image/png"/>
  <Override PartName="/ppt/media/image7.wmf" ContentType="image/x-wmf"/>
  <Override PartName="/ppt/media/image12.png" ContentType="image/png"/>
  <Override PartName="/ppt/media/image9.wmf" ContentType="image/x-wmf"/>
  <Override PartName="/ppt/media/image34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32.png" ContentType="image/png"/>
  <Override PartName="/ppt/media/image15.wmf" ContentType="image/x-wmf"/>
  <Override PartName="/ppt/media/image5.png" ContentType="image/png"/>
  <Override PartName="/ppt/media/image35.png" ContentType="image/png"/>
  <Override PartName="/ppt/media/image20.png" ContentType="image/png"/>
  <Override PartName="/ppt/media/image18.wmf" ContentType="image/x-wmf"/>
  <Override PartName="/ppt/media/image36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6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73E0-AC1D-4C71-9357-182272B67F9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F253-C83C-4A0A-9063-CCE6C646DA39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2EA0-3C3D-46EA-98B2-B11786EC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9EAC-DA11-4566-A9C6-32BFE69E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21C-C728-4136-98D2-28349338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DD76-9B7E-46E3-90FA-2399BAFC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EBF7-EF00-4AFA-8615-12B114CA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9288-EC98-4C68-ADB1-3D407DDF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CA6B-F604-4C33-83D9-E1CA14DD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C3FE-1F2F-487C-A18E-A1044E62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7321-0083-4DFC-A255-1760E9D3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EE10-0961-4C45-8BDD-BE0BC46F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D45E-073D-4803-8962-FCF21ECE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966F-5A16-40CB-89AA-12DB3F28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EC4D-C408-4A58-BA8F-641CD32C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7169-94F8-4456-983F-D506DCC3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502F-57EF-4B68-AF72-0D38E3B1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2DA3-D7B3-4AC4-A9D7-5FF2CD3F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9505-3D13-436B-A826-74897B6F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8C9-B461-457D-A51F-EF95A409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9095-35C5-4588-AAF4-FB017385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3791-68E1-457E-9942-6653912D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A28-DB0B-4B27-82F9-E4576D7A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0CB1-A324-4C9A-AFA6-64D3F620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E3C-DB2B-4420-A583-26D196E7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F968-6F21-4AAC-83FF-502A0908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0048-3114-4B21-8D16-8A23BB875F9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BA44-405A-4BCA-8D75-DD28B76E7A1C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ermodynamics of chemical reactions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49" name="Picture 4" descr="C:\Documents and Settings\Sopoušek\Dokumenty\Obrázky\Chemické reakce\reakce barevná.bmp"/>
          <p:cNvPicPr/>
          <p:nvPr/>
        </p:nvPicPr>
        <p:blipFill>
          <a:blip r:embed="rId1"/>
          <a:stretch/>
        </p:blipFill>
        <p:spPr>
          <a:xfrm>
            <a:off x="4114800" y="2286000"/>
            <a:ext cx="41148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304920" y="1268280"/>
            <a:ext cx="8839080" cy="5589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609480" y="228600"/>
            <a:ext cx="7772400" cy="896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Reaction c</a:t>
            </a: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lassification (one of the views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ovéPole 1"/>
          <p:cNvSpPr/>
          <p:nvPr/>
        </p:nvSpPr>
        <p:spPr>
          <a:xfrm>
            <a:off x="2843280" y="1484280"/>
            <a:ext cx="2881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Chemical rea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ovéPole 6"/>
          <p:cNvSpPr/>
          <p:nvPr/>
        </p:nvSpPr>
        <p:spPr>
          <a:xfrm>
            <a:off x="900000" y="2098800"/>
            <a:ext cx="1584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Element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(one ste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TextovéPole 7"/>
          <p:cNvSpPr/>
          <p:nvPr/>
        </p:nvSpPr>
        <p:spPr>
          <a:xfrm>
            <a:off x="4572000" y="2205000"/>
            <a:ext cx="3809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Complex – Non -Element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(seqyunce of elementary reaction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ovéPole 8"/>
          <p:cNvSpPr/>
          <p:nvPr/>
        </p:nvSpPr>
        <p:spPr>
          <a:xfrm>
            <a:off x="682560" y="285912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Mono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ovéPole 10"/>
          <p:cNvSpPr/>
          <p:nvPr/>
        </p:nvSpPr>
        <p:spPr>
          <a:xfrm>
            <a:off x="682560" y="342900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bi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ovéPole 11"/>
          <p:cNvSpPr/>
          <p:nvPr/>
        </p:nvSpPr>
        <p:spPr>
          <a:xfrm>
            <a:off x="682560" y="404352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trimolecula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ovéPole 12"/>
          <p:cNvSpPr/>
          <p:nvPr/>
        </p:nvSpPr>
        <p:spPr>
          <a:xfrm>
            <a:off x="2843280" y="3032280"/>
            <a:ext cx="2520720" cy="368280"/>
          </a:xfrm>
          <a:prstGeom prst="rect">
            <a:avLst/>
          </a:prstGeom>
          <a:solidFill>
            <a:srgbClr val="ecd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Open sequenc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ovéPole 13"/>
          <p:cNvSpPr/>
          <p:nvPr/>
        </p:nvSpPr>
        <p:spPr>
          <a:xfrm>
            <a:off x="6012000" y="3063960"/>
            <a:ext cx="2520720" cy="368280"/>
          </a:xfrm>
          <a:prstGeom prst="rect">
            <a:avLst/>
          </a:prstGeom>
          <a:solidFill>
            <a:srgbClr val="ecdb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 New Roman"/>
              </a:rPr>
              <a:t>Cyclic sequenc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ovéPole 14"/>
          <p:cNvSpPr/>
          <p:nvPr/>
        </p:nvSpPr>
        <p:spPr>
          <a:xfrm>
            <a:off x="2843280" y="3443400"/>
            <a:ext cx="18000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onsequ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ovéPole 16"/>
          <p:cNvSpPr/>
          <p:nvPr/>
        </p:nvSpPr>
        <p:spPr>
          <a:xfrm>
            <a:off x="2846520" y="4064040"/>
            <a:ext cx="18018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ompetit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ovéPole 17"/>
          <p:cNvSpPr/>
          <p:nvPr/>
        </p:nvSpPr>
        <p:spPr>
          <a:xfrm>
            <a:off x="2803680" y="5157720"/>
            <a:ext cx="1881000" cy="337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Equilibriu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ovéPole 18"/>
          <p:cNvSpPr/>
          <p:nvPr/>
        </p:nvSpPr>
        <p:spPr>
          <a:xfrm>
            <a:off x="5165640" y="4508640"/>
            <a:ext cx="1692360" cy="82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hain rea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(Compsumtion of active center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ovéPole 19"/>
          <p:cNvSpPr/>
          <p:nvPr/>
        </p:nvSpPr>
        <p:spPr>
          <a:xfrm>
            <a:off x="6948360" y="4581360"/>
            <a:ext cx="2195640" cy="824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Catalyt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(Stational concentration of  active center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ovéPole 21"/>
          <p:cNvSpPr/>
          <p:nvPr/>
        </p:nvSpPr>
        <p:spPr>
          <a:xfrm>
            <a:off x="5219640" y="5511960"/>
            <a:ext cx="3313080" cy="337320"/>
          </a:xfrm>
          <a:prstGeom prst="rect">
            <a:avLst/>
          </a:prstGeom>
          <a:solidFill>
            <a:srgbClr val="ab7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Linear (one cycl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ovéPole 22"/>
          <p:cNvSpPr/>
          <p:nvPr/>
        </p:nvSpPr>
        <p:spPr>
          <a:xfrm>
            <a:off x="5240160" y="6002280"/>
            <a:ext cx="3313440" cy="337320"/>
          </a:xfrm>
          <a:prstGeom prst="rect">
            <a:avLst/>
          </a:prstGeom>
          <a:solidFill>
            <a:srgbClr val="ab75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Times New Roman"/>
              </a:rPr>
              <a:t>Branched (several cyc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Discussion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5" name="Picture 4" descr="C:\Documents and Settings\Sopoušek\Dokumenty\Obrázky\Chemické reakce\reakce ch4+H2o.gif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454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C:\Documents and Settings\Sopoušek\Dokumenty\Obrázky\Chemické reakce\H2_O2.gif"/>
          <p:cNvPicPr/>
          <p:nvPr/>
        </p:nvPicPr>
        <p:blipFill>
          <a:blip r:embed="rId2"/>
          <a:stretch/>
        </p:blipFill>
        <p:spPr>
          <a:xfrm>
            <a:off x="56386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6"/>
          <p:cNvSpPr/>
          <p:nvPr/>
        </p:nvSpPr>
        <p:spPr>
          <a:xfrm>
            <a:off x="6324480" y="1295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ind mistake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212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Termodynamic reasons of  reactions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ontaneous processes are accompanied by the growth of entropy (see explanation lit.: Olmsted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ntropy of pure substances and compounds can be calculated from 3.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entence of thermodynamic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a closed system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onstant P and T is the Gibbs energy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(Free entalpy) th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riterion of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tability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a closed system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onstant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 is the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Helmholz (Free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nergy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th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riterion of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stabilit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4"/>
          <a:stretch/>
        </p:blipFill>
        <p:spPr>
          <a:xfrm>
            <a:off x="1403280" y="5229360"/>
            <a:ext cx="2454480" cy="461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4859280" y="5229360"/>
            <a:ext cx="2590920" cy="4597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7dafe1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7dafe1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7480"/>
            <a:ext cx="693432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How is the Gibbs energy of a chemical reaction?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33224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80880" y="10666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or examp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2133720" cy="1039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2"/>
          <a:stretch/>
        </p:blipFill>
        <p:spPr>
          <a:xfrm>
            <a:off x="533520" y="4343400"/>
            <a:ext cx="7791480" cy="558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2361960" cy="1009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2438280" y="6095880"/>
            <a:ext cx="1184400" cy="532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38088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In equilibr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335480" y="334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2"/>
              <p:cNvSpPr txBox="1"/>
              <p:nvPr/>
            </p:nvSpPr>
            <p:spPr>
              <a:xfrm>
                <a:off x="2895480" y="990720"/>
                <a:ext cx="182880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4" name="Picture 15" descr=""/>
          <p:cNvPicPr/>
          <p:nvPr/>
        </p:nvPicPr>
        <p:blipFill>
          <a:blip r:embed="rId5"/>
          <a:stretch/>
        </p:blipFill>
        <p:spPr>
          <a:xfrm>
            <a:off x="5486400" y="838080"/>
            <a:ext cx="3429000" cy="34084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6"/>
          <p:cNvSpPr/>
          <p:nvPr/>
        </p:nvSpPr>
        <p:spPr>
          <a:xfrm>
            <a:off x="228600" y="1981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Extent of reac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6" name="Picture 17" descr=""/>
          <p:cNvPicPr/>
          <p:nvPr/>
        </p:nvPicPr>
        <p:blipFill>
          <a:blip r:embed="rId6"/>
          <a:stretch/>
        </p:blipFill>
        <p:spPr>
          <a:xfrm>
            <a:off x="457200" y="3352680"/>
            <a:ext cx="1371600" cy="420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8" descr=""/>
          <p:cNvPicPr/>
          <p:nvPr/>
        </p:nvPicPr>
        <p:blipFill>
          <a:blip r:embed="rId7"/>
          <a:stretch/>
        </p:blipFill>
        <p:spPr>
          <a:xfrm>
            <a:off x="457200" y="2819520"/>
            <a:ext cx="1295280" cy="4521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9"/>
          <p:cNvSpPr/>
          <p:nvPr/>
        </p:nvSpPr>
        <p:spPr>
          <a:xfrm>
            <a:off x="4114800" y="525780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chemical reaction causes effort to reduce G system (integr. condition), which react so long as there is a leveling of the chemical potential (differential cond.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3505320" y="1295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0" name="Picture 21" descr=""/>
          <p:cNvPicPr/>
          <p:nvPr/>
        </p:nvPicPr>
        <p:blipFill>
          <a:blip r:embed="rId8"/>
          <a:stretch/>
        </p:blipFill>
        <p:spPr>
          <a:xfrm>
            <a:off x="2514600" y="1752480"/>
            <a:ext cx="25909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13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 Black"/>
              </a:rPr>
              <a:t>Gibbs energy of reaction</a:t>
            </a:r>
            <a:endParaRPr b="0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890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3173760" y="1066680"/>
            <a:ext cx="2200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+3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2 NH</a:t>
            </a:r>
            <a:r>
              <a:rPr b="0" lang="cs-CZ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1371600" cy="690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0" y="266688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The general mathematical notation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3809880" cy="843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"/>
          <p:cNvPicPr/>
          <p:nvPr/>
        </p:nvPicPr>
        <p:blipFill>
          <a:blip r:embed="rId4"/>
          <a:stretch/>
        </p:blipFill>
        <p:spPr>
          <a:xfrm>
            <a:off x="6019920" y="3429000"/>
            <a:ext cx="2286000" cy="873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0"/>
          <p:cNvSpPr/>
          <p:nvPr/>
        </p:nvSpPr>
        <p:spPr>
          <a:xfrm>
            <a:off x="4724280" y="36576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Els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5"/>
          <a:stretch/>
        </p:blipFill>
        <p:spPr>
          <a:xfrm>
            <a:off x="609480" y="5013360"/>
            <a:ext cx="2971800" cy="744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3886200" y="510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where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6"/>
          <a:stretch/>
        </p:blipFill>
        <p:spPr>
          <a:xfrm>
            <a:off x="4800600" y="4952880"/>
            <a:ext cx="914400" cy="6415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6629400" y="5105520"/>
            <a:ext cx="19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</a:rPr>
              <a:t>For exampl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41259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3745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8"/>
              <p:cNvSpPr txBox="1"/>
              <p:nvPr/>
            </p:nvSpPr>
            <p:spPr>
              <a:xfrm>
                <a:off x="5943600" y="5562720"/>
                <a:ext cx="25797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≃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Text Box 20"/>
          <p:cNvSpPr/>
          <p:nvPr/>
        </p:nvSpPr>
        <p:spPr>
          <a:xfrm>
            <a:off x="533520" y="5943600"/>
            <a:ext cx="487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reaction runs until Q reaches its equilibrium value (K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80" y="210600"/>
            <a:ext cx="878544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 Black"/>
              </a:rPr>
              <a:t>The changes of thermodynamic functions and spontaneity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04920" y="242424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Low temperature prevails enthalpy contribution </a:t>
            </a:r>
            <a:br>
              <a:rPr sz="2400"/>
            </a:b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High temperature prevails entropic contribu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1360" y="186840"/>
            <a:ext cx="807876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Stability of gypsum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69360"/>
            <a:ext cx="725976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Calculations of thermodynamic functions</a:t>
            </a: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 of </a:t>
            </a: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eaction</a:t>
            </a: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6843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From formatio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Gibbs energy of the reactants 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04920" y="29718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alogously to the enthalpy and entropy: .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960" y="186840"/>
            <a:ext cx="762156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ell effectivit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04920" y="1981080"/>
            <a:ext cx="46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Simple oxidation of glucose 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04920" y="914400"/>
            <a:ext cx="46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1) Total reaction inside cellreakce v buňc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3) Conversion 36 ADP to 36 ATP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0"/>
          <p:cNvSpPr/>
          <p:nvPr/>
        </p:nvSpPr>
        <p:spPr>
          <a:xfrm>
            <a:off x="304920" y="4114800"/>
            <a:ext cx="837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overall effect of the combination of reactions in the cell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(2) a (3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09480" y="52578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sult: Although 1100kJ is stored in ATP, the rest (ie 1770kJ) is not used and is converted into the thermal motion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j. cell efficiency is 38%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77880" y="692280"/>
            <a:ext cx="74073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Basic relations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762120" y="510552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Possible effect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28600" y="6019920"/>
            <a:ext cx="21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</a:rPr>
              <a:t>In equilibriu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4-02-19T17:09:19Z</dcterms:modified>
  <cp:revision>56</cp:revision>
  <dc:subject/>
  <dc:title>C6730 Fázové rovnováhy</dc:title>
</cp:coreProperties>
</file>