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12DA-4821-43E6-B9C5-36761B7B0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6519-4FC0-44C9-AAF4-F6AEC7F2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0F8A-B77F-4BA7-B858-B12C9BE01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CD2E-2B5F-49CD-AC6D-3449B6D41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9351-4805-4085-A63E-29527CA0E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6846-BA6E-4494-8A90-58E8B424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FEE5-B84C-4D69-8E48-4761C9AE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62698-FFFC-4114-9756-A11C5169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7B19-36B2-4AC3-8478-F34307F3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4EC8-7DAB-425E-BBF0-7FDC05EC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9B995-420A-428E-9CF8-E328CCFE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AA9F-AD79-411C-A333-ACB7E7A3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2A3D2-DAF7-4B02-B9C8-42EFA8CE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AB5D-CAE9-407E-998A-9EE0C82D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86D6C-836E-4861-8B75-9C4B5BE4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DBB3-12DD-498F-8037-DA1A6D6A6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4B40-1FA8-47DF-B5D2-ECB322482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39CC-5911-4CC8-9397-073F28DC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C435-6986-4108-8098-B90A442F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6AB0-6933-422B-89F2-F4DF1B63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96C2-2F9A-4154-B3B3-B75246B2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57A0-DE1E-4D74-B559-67047F8E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C65A-3D26-411A-A2D4-AA082A2B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937C-A55E-47EE-AC26-A8D12EC6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38CC-12A9-4433-A87E-C1F4C514C69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645F-5E62-4CF9-98BE-A6AC313B6E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jergym.hiedu.cz/~canovm/mechanic/pravidl2/haber/haber.html" TargetMode="External"/><Relationship Id="rId2" Type="http://schemas.openxmlformats.org/officeDocument/2006/relationships/hyperlink" Target="http://www.jergym.hiedu.cz/~canovm/mechanic/pravidl2/haber/haber.html" TargetMode="External"/><Relationship Id="rId3" Type="http://schemas.openxmlformats.org/officeDocument/2006/relationships/hyperlink" Target="http://www.jergym.hiedu.cz/~canovm/mechanic/pravidl2/haber/haber.html" TargetMode="External"/><Relationship Id="rId4" Type="http://schemas.openxmlformats.org/officeDocument/2006/relationships/hyperlink" Target="http://www.jergym.hiedu.cz/~canovm/mechanic/pravidl2/haber/haber.html" TargetMode="External"/><Relationship Id="rId5" Type="http://schemas.openxmlformats.org/officeDocument/2006/relationships/hyperlink" Target="http://www.jergym.hiedu.cz/~canovm/mechanic/pravidl2/haber/haber.html" TargetMode="External"/><Relationship Id="rId6" Type="http://schemas.openxmlformats.org/officeDocument/2006/relationships/hyperlink" Target="http://www.jergym.hiedu.cz/~canovm/mechanic/pravidl2/haber/haber.html" TargetMode="External"/><Relationship Id="rId7" Type="http://schemas.openxmlformats.org/officeDocument/2006/relationships/hyperlink" Target="http://www.jergym.hiedu.cz/~canovm/mechanic/pravidl2/haber/haber.html" TargetMode="External"/><Relationship Id="rId8" Type="http://schemas.openxmlformats.org/officeDocument/2006/relationships/hyperlink" Target="http://www.jergym.hiedu.cz/~canovm/mechanic/pravidl2/haber/haber.html" TargetMode="External"/><Relationship Id="rId9" Type="http://schemas.openxmlformats.org/officeDocument/2006/relationships/hyperlink" Target="http://www.jergym.hiedu.cz/~canovm/mechanic/pravidl2/haber/haber.html" TargetMode="External"/><Relationship Id="rId10" Type="http://schemas.openxmlformats.org/officeDocument/2006/relationships/hyperlink" Target="http://www.jergym.hiedu.cz/~canovm/mechanic/pravidl2/haber/haber.html" TargetMode="External"/><Relationship Id="rId11" Type="http://schemas.openxmlformats.org/officeDocument/2006/relationships/hyperlink" Target="http://www.jergym.hiedu.cz/~canovm/mechanic/pravidl2/haber/haber.html" TargetMode="External"/><Relationship Id="rId12" Type="http://schemas.openxmlformats.org/officeDocument/2006/relationships/hyperlink" Target="http://www.jergym.hiedu.cz/~canovm/mechanic/pravidl2/haber/haber.html" TargetMode="External"/><Relationship Id="rId13" Type="http://schemas.openxmlformats.org/officeDocument/2006/relationships/hyperlink" Target="http://www.jergym.hiedu.cz/~canovm/mechanic/pravidl2/haber/haber.html" TargetMode="External"/><Relationship Id="rId14" Type="http://schemas.openxmlformats.org/officeDocument/2006/relationships/hyperlink" Target="http://www.jergym.hiedu.cz/~canovm/mechanic/pravidl2/haber/haber.html" TargetMode="External"/><Relationship Id="rId15" Type="http://schemas.openxmlformats.org/officeDocument/2006/relationships/hyperlink" Target="http://www.jergym.hiedu.cz/~canovm/mechanic/pravidl2/haber/haber.html" TargetMode="External"/><Relationship Id="rId16" Type="http://schemas.openxmlformats.org/officeDocument/2006/relationships/hyperlink" Target="http://www.jergym.hiedu.cz/~canovm/mechanic/pravidl2/haber/haber.html" TargetMode="External"/><Relationship Id="rId17" Type="http://schemas.openxmlformats.org/officeDocument/2006/relationships/hyperlink" Target="http://dl.cuni.cz/cuni/mod/resource/view.php?id=9459" TargetMode="External"/><Relationship Id="rId18" Type="http://schemas.openxmlformats.org/officeDocument/2006/relationships/hyperlink" Target="http://dl.cuni.cz/cuni/mod/resource/view.php?id=9459" TargetMode="External"/><Relationship Id="rId19" Type="http://schemas.openxmlformats.org/officeDocument/2006/relationships/hyperlink" Target="http://dl.cuni.cz/cuni/mod/resource/view.php?id=9459" TargetMode="External"/><Relationship Id="rId20" Type="http://schemas.openxmlformats.org/officeDocument/2006/relationships/hyperlink" Target="http://dl.cuni.cz/cuni/mod/resource/view.php?id=9459" TargetMode="External"/><Relationship Id="rId21" Type="http://schemas.openxmlformats.org/officeDocument/2006/relationships/hyperlink" Target="http://dl.cuni.cz/cuni/mod/resource/view.php?id=9459" TargetMode="External"/><Relationship Id="rId22" Type="http://schemas.openxmlformats.org/officeDocument/2006/relationships/hyperlink" Target="http://dl.cuni.cz/cuni/mod/resource/view.php?id=9459" TargetMode="External"/><Relationship Id="rId23" Type="http://schemas.openxmlformats.org/officeDocument/2006/relationships/hyperlink" Target="http://dl.cuni.cz/cuni/mod/resource/view.php?id=9459" TargetMode="External"/><Relationship Id="rId24" Type="http://schemas.openxmlformats.org/officeDocument/2006/relationships/hyperlink" Target="http://dl.cuni.cz/cuni/mod/resource/view.php?id=9459" TargetMode="External"/><Relationship Id="rId25" Type="http://schemas.openxmlformats.org/officeDocument/2006/relationships/hyperlink" Target="http://dl.cuni.cz/cuni/mod/resource/view.php?id=9459" TargetMode="External"/><Relationship Id="rId26" Type="http://schemas.openxmlformats.org/officeDocument/2006/relationships/hyperlink" Target="http://dl.cuni.cz/cuni/mod/resource/view.php?id=9459" TargetMode="External"/><Relationship Id="rId27" Type="http://schemas.openxmlformats.org/officeDocument/2006/relationships/hyperlink" Target="http://dl.cuni.cz/cuni/mod/resource/view.php?id=9459" TargetMode="External"/><Relationship Id="rId28" Type="http://schemas.openxmlformats.org/officeDocument/2006/relationships/hyperlink" Target="http://dl.cuni.cz/cuni/mod/resource/view.php?id=9459" TargetMode="External"/><Relationship Id="rId29" Type="http://schemas.openxmlformats.org/officeDocument/2006/relationships/hyperlink" Target="http://dl.cuni.cz/cuni/mod/resource/view.php?id=9459" TargetMode="External"/><Relationship Id="rId30" Type="http://schemas.openxmlformats.org/officeDocument/2006/relationships/hyperlink" Target="http://dl.cuni.cz/cuni/mod/resource/view.php?id=9459" TargetMode="External"/><Relationship Id="rId31" Type="http://schemas.openxmlformats.org/officeDocument/2006/relationships/hyperlink" Target="http://dl.cuni.cz/cuni/mod/resource/view.php?id=9459" TargetMode="External"/><Relationship Id="rId32" Type="http://schemas.openxmlformats.org/officeDocument/2006/relationships/hyperlink" Target="http://dl.cuni.cz/cuni/mod/resource/view.php?id=9459" TargetMode="External"/><Relationship Id="rId33" Type="http://schemas.openxmlformats.org/officeDocument/2006/relationships/hyperlink" Target="http://dl.cuni.cz/cuni/mod/resource/view.php?id=9459" TargetMode="External"/><Relationship Id="rId34" Type="http://schemas.openxmlformats.org/officeDocument/2006/relationships/hyperlink" Target="http://www.jergym.hiedu.cz/~canovm/mechanic/pravidl2.html" TargetMode="External"/><Relationship Id="rId35" Type="http://schemas.openxmlformats.org/officeDocument/2006/relationships/hyperlink" Target="http://www.jergym.hiedu.cz/~canovm/mechanic/pravidl2.html" TargetMode="External"/><Relationship Id="rId36" Type="http://schemas.openxmlformats.org/officeDocument/2006/relationships/hyperlink" Target="http://www.jergym.hiedu.cz/~canovm/mechanic/pravidl2.html" TargetMode="External"/><Relationship Id="rId37" Type="http://schemas.openxmlformats.org/officeDocument/2006/relationships/hyperlink" Target="http://www.jergym.hiedu.cz/~canovm/mechanic/pravidl2.html" TargetMode="External"/><Relationship Id="rId38" Type="http://schemas.openxmlformats.org/officeDocument/2006/relationships/hyperlink" Target="http://www.jergym.hiedu.cz/~canovm/mechanic/pravidl2.html" TargetMode="External"/><Relationship Id="rId39" Type="http://schemas.openxmlformats.org/officeDocument/2006/relationships/hyperlink" Target="http://www.jergym.hiedu.cz/~canovm/mechanic/pravidl2.html" TargetMode="External"/><Relationship Id="rId40" Type="http://schemas.openxmlformats.org/officeDocument/2006/relationships/hyperlink" Target="http://www.jergym.hiedu.cz/~canovm/mechanic/pravidl2.html" TargetMode="External"/><Relationship Id="rId41" Type="http://schemas.openxmlformats.org/officeDocument/2006/relationships/hyperlink" Target="http://www.jergym.hiedu.cz/~canovm/mechanic/pravidl2.html" TargetMode="External"/><Relationship Id="rId42" Type="http://schemas.openxmlformats.org/officeDocument/2006/relationships/hyperlink" Target="http://www.jergym.hiedu.cz/~canovm/mechanic/pravidl2.html" TargetMode="External"/><Relationship Id="rId43" Type="http://schemas.openxmlformats.org/officeDocument/2006/relationships/hyperlink" Target="http://www.jergym.hiedu.cz/~canovm/mechanic/pravidl2.html" TargetMode="External"/><Relationship Id="rId44" Type="http://schemas.openxmlformats.org/officeDocument/2006/relationships/hyperlink" Target="http://www.jergym.hiedu.cz/~canovm/mechanic/pravidl2.html" TargetMode="External"/><Relationship Id="rId45" Type="http://schemas.openxmlformats.org/officeDocument/2006/relationships/hyperlink" Target="http://www.jergym.hiedu.cz/~canovm/mechanic/pravidl2.html" TargetMode="External"/><Relationship Id="rId4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aber-Boshova syntéza amoniaku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(aneb počátek blahobyt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opousek, L01_02 Chemická kineti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D3547-9C4E-4464-81B8-970A33F8749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kazy na 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obelova cena (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6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7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8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0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1"/>
              </a:rPr>
              <a:t>/pravidl2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2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4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6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imace výroby NH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vnice: 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7"/>
              </a:rPr>
              <a:t>http:/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8"/>
              </a:rPr>
              <a:t>dl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9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0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2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4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5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6"/>
              </a:rPr>
              <a:t>mod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7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8"/>
              </a:rPr>
              <a:t>resource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0"/>
              </a:rPr>
              <a:t>view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2"/>
              </a:rPr>
              <a:t>php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3"/>
              </a:rPr>
              <a:t>?id=9459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alší odkazy na významné reakce organických chemik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4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5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6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7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8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9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0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1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2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3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4"/>
              </a:rPr>
              <a:t>/pravidl2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5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E3C3-6891-4312-AFF6-1F5BDB9DC1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moni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astní syntéza amoniaku ze syntézní směsi N2 a H2 probíhá katalytickou reakcí při vysokém tlaku a teplotě (20-100 kPa, 500) podle rovnice: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2 + 3H2 --------&gt; 2 NH3 + 46,05 kJ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robený amoniak může být používán k přímému hnojení, nebo je výchozí surovinou pro výrobu kyseliny dusičné, ledků, močoviny, N roztoků, vícesložkových hnojiv.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oba dusíkatých hnojiv je energeticky náročná. Na výrobu 1 kg čistého N v hnojivu je zapotřebí podle druhu použité technologie 1,5 i více litrů nafty.</a:t>
            </a:r>
            <a:br>
              <a:rPr sz="2000"/>
            </a:br>
            <a:br>
              <a:rPr sz="20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0344-D7F6-437B-88B8-8621A45607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šek Jiří</cp:lastModifiedBy>
  <dcterms:modified xsi:type="dcterms:W3CDTF">2010-02-22T13:28:48Z</dcterms:modified>
  <cp:revision>22</cp:revision>
  <dc:subject/>
  <dc:title>Prezentace aplikace PowerPoint</dc:title>
</cp:coreProperties>
</file>