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wmf" ContentType="image/x-wmf"/>
  <Override PartName="/ppt/media/image33.png" ContentType="image/png"/>
  <Override PartName="/ppt/media/image13.wmf" ContentType="image/x-wmf"/>
  <Override PartName="/ppt/media/image9.wmf" ContentType="image/x-wmf"/>
  <Override PartName="/ppt/media/image39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30.wmf" ContentType="image/x-wmf"/>
  <Override PartName="/ppt/media/image10.png" ContentType="image/png"/>
  <Override PartName="/ppt/media/image43.png" ContentType="image/png"/>
  <Override PartName="/ppt/media/image44.jpeg" ContentType="image/jpeg"/>
  <Override PartName="/ppt/media/image5.png" ContentType="image/png"/>
  <Override PartName="/ppt/media/image35.png" ContentType="image/png"/>
  <Override PartName="/ppt/media/image46.wmf" ContentType="image/x-wmf"/>
  <Override PartName="/ppt/media/image40.png" ContentType="image/png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5A9E-2CB3-4F9B-AA14-2B676C9EAF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D7DD-7E05-4533-90D3-2F2D02764A79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78B-F72C-474C-BC50-42133C4A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953-DA1A-478A-B1B6-46FD96F8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914-3CD0-4D9B-A327-78A80AAA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E49-8AAC-420D-97D1-7199E08E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E8AB-F709-425F-B627-68766CEB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B4A1-FA64-4BF4-AE8E-BBEC97A6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9406-7A65-466D-AF92-53569281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DAD6-FCF7-4E5A-8299-DB942699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982A-547F-468C-8B9B-A63F2DEB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B778-E237-40A8-B743-10952CB4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07FD-FFD3-41ED-8A81-CF1F7E5C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403-B407-4E17-B0F8-32C425F0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4341-7DEE-4EBA-8949-7D4D6F77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C090-0D7C-4EBB-A255-0A13D959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5C34-DA95-43AD-87B7-02EBFA7D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8E64-A55D-4CB2-A45F-82CA2653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B8E-5D18-41EA-AC41-D599722B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825-520A-4434-8286-2EA9C96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E65-6610-42C7-B323-AFABFE42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5E2-9891-4DB8-89BD-8206E21E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267-4881-4254-A1D6-056B7FE1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502-A790-4F7E-B902-571E019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31C-F08C-492C-A048-1A95BE5F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10D-BC39-4B6C-B7FF-D3C2911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C51D-DBA9-42AA-857B-A315A4E688F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0225-E73C-4C7A-A4CC-683002395F9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6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89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4143240" y="3252960"/>
            <a:ext cx="857520" cy="352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3"/>
          <a:stretch/>
        </p:blipFill>
        <p:spPr>
          <a:xfrm>
            <a:off x="7832880" y="1609560"/>
            <a:ext cx="571320" cy="235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4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9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8:00:15Z</dcterms:modified>
  <cp:revision>148</cp:revision>
  <dc:subject/>
  <dc:title>C6730 Fázové rovnováhy</dc:title>
</cp:coreProperties>
</file>