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2.gif" ContentType="image/gi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31.wmf" ContentType="image/x-wmf"/>
  <Override PartName="/ppt/media/image4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.jpeg" ContentType="image/jpeg"/>
  <Override PartName="/ppt/media/image1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6685-2E81-4633-9FF1-CE852AFDA6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51AB-307F-4E02-964D-894A78A96A9C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ADE-8E83-4D06-BDC8-F608005C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382-C2AE-49EE-AB79-15787D4C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D8F-3FF6-4C34-9AE1-8FE2584F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875-15C7-459E-AE3C-F51E383B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85A6-BFBB-4AB5-BCBF-03CE0936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93E2-473A-49B4-B34C-C757D6EB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1AF9-CDFF-47B3-9D6B-6F7CD70C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0B9A-393D-4660-A9B9-7AB623F6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7C8C-05F9-4107-88BA-0DF24D67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CB47-2A9C-4C03-A4A3-E0C60B22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DA7C-BD97-417C-8ED7-3CD9DA7A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442A-D5DE-49E7-B969-CBC92797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0DBF-02E2-4F52-A493-D24DF4F5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B65F-DD7F-4736-9E1B-DB7C77BB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637D-2FD9-4293-9159-4EE240F1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05E8-F250-40F4-9605-49EE5368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F484-75A3-4764-8F61-B76BAC37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329-FC1A-4513-9A1E-20EFACC2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F2D-C952-4DA2-83A1-FA68E884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34E-ED40-49AE-82C5-C1439500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7BE-700E-45F0-B623-07B5FA58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284-AFB7-4BDE-9B25-ACB81D94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754-97D2-43FB-85E6-DA626404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D31-ADDC-410E-99D4-ECAF48AD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3EA8-1B2A-478A-9374-A17E33798B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45BD-C168-4428-9BA6-F1F813B40C5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28600" y="414036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8153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2382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189000" y="76500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619760" cy="516384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5" name="Přímá spojnice se šipkou 5"/>
          <p:cNvCxnSpPr/>
          <p:nvPr/>
        </p:nvCxnSpPr>
        <p:spPr>
          <a:xfrm flipH="1" flipV="1">
            <a:off x="4787280" y="4292280"/>
            <a:ext cx="187236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7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Katalýza\350px-Ne Comp_inhib_svg.png"/>
          <p:cNvPicPr/>
          <p:nvPr/>
        </p:nvPicPr>
        <p:blipFill>
          <a:blip r:embed="rId2"/>
          <a:stretch/>
        </p:blipFill>
        <p:spPr>
          <a:xfrm>
            <a:off x="5410080" y="0"/>
            <a:ext cx="29210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7:31:52Z</dcterms:modified>
  <cp:revision>146</cp:revision>
  <dc:subject/>
  <dc:title>C6730 Fázové rovnováhy</dc:title>
</cp:coreProperties>
</file>