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F56-5A8F-4764-B7DA-F32BA3FB6C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8240-CB47-4679-9F37-AA0EBA4B4DD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067-B2CC-4A94-9B99-D2846A36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9EC-4EDE-4B09-BBE3-0B19897A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8B1-2DDC-4E0A-AE2F-6E4C3D62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C68-5B07-4CD1-A01B-818BE8F3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F4C2-D85B-4649-8F48-E3966F28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ECB1-B5A0-486A-A639-5264655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C488-D403-4E57-8581-200432E5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0834-5640-4487-B638-9C0A0E47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542-757E-415C-A8CF-3B017CD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C280-9689-4685-BA99-7BFC11E6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568B-923D-445F-8B65-55F76B5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573-C812-41E3-9BE1-C47C319D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AE15-6968-47FC-B100-4C0935B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0EA3-DB55-4FE3-9A26-873707C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0853-C2B5-4A64-9AA9-99B3E627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325E-2542-44E9-868E-8D1B9F6A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613A-8B5F-4A6A-A246-B1CE800C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23E-9581-4F47-8CE1-7865A9F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EDE-567F-4E78-8338-236A0701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BA8-529E-4D5E-BD8E-3ABB4B7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9B8-48CB-43C0-A5CA-73E78366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177-E3A4-466C-831F-6DE2466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D6D-C5E7-4786-8096-2FCDF8C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FD8-60E1-471B-AF21-EEAF318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45DF-634E-4972-8B54-B8C393AD0D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09EA-0B76-442D-AFEF-E5BF1C37AF4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1T14:40:44Z</dcterms:modified>
  <cp:revision>146</cp:revision>
  <dc:subject/>
  <dc:title>C6730 Fázové rovnováhy</dc:title>
</cp:coreProperties>
</file>