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C86-AB9B-4D47-9E60-BD43A662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47F-B228-43F2-A3B7-97348363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334-43F5-4DF5-AF3B-A4A4E09D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443-E308-4118-99F4-04E43245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11E-1B85-408F-BF2D-75EBAD2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184-4155-4ECA-AD5C-A94D13D1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B57-FF9F-45E7-999A-6341BA54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1D2-2AF9-40B3-9CB4-49D8F00A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AA7-1510-4C00-9AB8-76C383D1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2C5-B7C6-4D34-A1CE-79FA895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AC5-089F-4B0C-B054-6BE026CE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2E2-802E-457A-9368-14175D54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19F6-2069-4418-A757-8E70040D6C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57200" y="3713040"/>
            <a:ext cx="81532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505320" y="1752480"/>
            <a:ext cx="2695320" cy="19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838080" y="1676520"/>
            <a:ext cx="225612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1:30Z</dcterms:modified>
  <cp:revision>96</cp:revision>
  <dc:subject/>
  <dc:title>Soustava</dc:title>
</cp:coreProperties>
</file>