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8E3-AD97-4B64-9F7C-69D37B22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91A-645E-4303-B10A-63EF35CF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C69-7B54-4ECA-9C4F-55153AB4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D04-AE9C-4BD4-87CC-93A8FE59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CF2-A29F-45C7-9C72-00CE889C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ACF-4D2A-422D-A36B-8C4E0ABB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17E-BCA4-4447-A53F-53EF2281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9AC-7B7F-46AC-87B1-FA939478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445-1B66-4739-A1BE-D99DC870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DC5-F4DD-434E-8DA3-05F2DB75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82D-102F-4BC7-B9D8-6600CE8A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0D4-D572-4ECE-A1DF-DEE4367E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E758-42D6-49CE-8871-59AD46DA71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4" descr="http://www.chemguide.co.uk/physical/basicrates/reqnab1.gif"/>
          <p:cNvPicPr/>
          <p:nvPr/>
        </p:nvPicPr>
        <p:blipFill>
          <a:blip r:embed="rId1"/>
          <a:stretch/>
        </p:blipFill>
        <p:spPr>
          <a:xfrm>
            <a:off x="344520" y="1197000"/>
            <a:ext cx="61545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" descr="http://img.youtube.com/vi/nZiOyVElo-s/0.jpg"/>
          <p:cNvPicPr/>
          <p:nvPr/>
        </p:nvPicPr>
        <p:blipFill>
          <a:blip r:embed="rId2"/>
          <a:stretch/>
        </p:blipFill>
        <p:spPr>
          <a:xfrm>
            <a:off x="4427640" y="400536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48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56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686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229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07696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5-02-23T12:37:40Z</dcterms:modified>
  <cp:revision>102</cp:revision>
  <dc:subject/>
  <dc:title>Soustava</dc:title>
</cp:coreProperties>
</file>