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EAE-3A85-41AB-9D25-4CA2CFA9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D86-C9AF-4CA1-BFC0-7D07F59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690-5683-4872-844F-18564860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B10-CD89-42EA-A76A-7C2A4477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33A-64B4-4830-8D66-BB4320A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3C7-8001-4C89-AF6D-5E69C488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DD5-478F-4556-B03A-818FD83A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2E9-8DBD-4B22-8A31-76A88DC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441-DC3C-4687-B480-B7B3198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BCC-7027-450A-B039-233FBAF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427-C317-4B67-B947-82AEFB3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A36-9C52-4C3D-8667-07B9987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20B0-F9DD-41A4-8E99-D39791FF5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 jednosměrných rea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6:14Z</dcterms:modified>
  <cp:revision>113</cp:revision>
  <dc:subject/>
  <dc:title>Soustava</dc:title>
</cp:coreProperties>
</file>