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186-75F2-4871-8848-DEFC99FE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1C5-D0BC-4C47-8938-4F9FC6A0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1FA-88FD-45A1-8F73-7D1EC417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1BD-AA63-4925-B8F6-0673FCA1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939-C363-408B-9FFC-A24534B4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81F-8F15-48EF-B772-48133AC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6B5-8590-40DB-A82D-DA57BD85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D34-2AE2-498E-927B-7125839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0C5-DB1B-473E-B6C1-73E86F0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5D6-5317-4CA6-BA51-3BB8B4F3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90D-0649-4F03-9B01-F7AE6B9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930-EDD5-4769-957A-99F0094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E62D-37DB-4811-BB3C-0023EF2D1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07696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3T12:37:40Z</dcterms:modified>
  <cp:revision>102</cp:revision>
  <dc:subject/>
  <dc:title>Soustava</dc:title>
</cp:coreProperties>
</file>