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074-699F-4080-81FC-5E3C138C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CCB-CEA9-46B5-8911-9846B930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A98-1873-41BE-B570-B5C8FCC0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F8D-FEAA-41DE-9A39-E1331762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941-C9EF-4F96-9690-EC15EE9A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8BB-64B3-4E08-B7A2-4E2F665F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C28-F20C-464F-91C9-8E091356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E62-EEF5-49C8-95CA-168199FC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3A4-AF36-4A1F-B08E-9A4ABF66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93A-9E1D-4245-9299-0FE2CEAC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389-84B9-480D-9E7D-72A1FD8F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F47-35F4-44A3-B9DD-889EC02E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ACA9-FD91-4912-ADA8-9B687EA474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57200" y="3713040"/>
            <a:ext cx="81532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505320" y="1752480"/>
            <a:ext cx="2695320" cy="197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838080" y="1676520"/>
            <a:ext cx="225612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2-24T08:41:30Z</dcterms:modified>
  <cp:revision>96</cp:revision>
  <dc:subject/>
  <dc:title>Soustava</dc:title>
</cp:coreProperties>
</file>