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F96F-4022-4EFF-815D-F2311E4AD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E0C7-0BFB-4BA8-A9BF-E8D22489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A76B-E2D1-486F-B6FF-A7FE5BEFC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9965-669A-4953-A0B2-90C2A5391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8CB1-F476-4B78-8616-DDC11532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0AA7-5DC8-4EB2-8090-DC23FF70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861D-5A51-4359-AE87-D9D59EF6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CF80-609C-4A0D-A8EE-01EE1186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5B0F-090A-4E0E-A67F-A4F9E969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4BF0-3822-4E98-9D0E-7D5BBE55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D29B-A844-41AA-852B-69975F87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EEA1-5A39-4CEF-9379-888FA4FF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9FDE-21C6-4D03-9857-8FEBD98B25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reaction+n+order&amp;source=images&amp;cd=&amp;cad=rja&amp;docid=DfGfu3SQPbXabM&amp;tbnid=qMwaw1Twyggt9M:&amp;ved=0CAUQjRw&amp;url=http%3A%2F%2Fschools.aglasem.com%2F%3Fp%3D4368&amp;ei=jFwrUdGIO4uyhAfnpIGoAg&amp;bvm=bv.42768644,d.Yms&amp;psig=AFQjCNH0okKD0Y1TdSXhVUDyrIV3jIfcrA&amp;ust=1361882467155732" TargetMode="Externa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ní rovnice jednosměrných reakcí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1.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914400" y="1523880"/>
            <a:ext cx="9144000" cy="19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15228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Analytické řešení reakce prvního řá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…..rychlostní konstanta 1. řá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 reakční rychlost platí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v = 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-d[A]/dt =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 +d[P]/dt = 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k</a:t>
            </a:r>
            <a:r>
              <a:rPr b="1" lang="cs-CZ" sz="1800" spc="-1" strike="noStrike" baseline="-30000">
                <a:solidFill>
                  <a:srgbClr val="339966"/>
                </a:solidFill>
                <a:latin typeface="Verdana"/>
                <a:ea typeface="Arial"/>
              </a:rPr>
              <a:t>1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[A]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.  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ešní diferenciální rovnice: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5" descr="D:\Sopousek\Vyuka\Kinetika\Soubory z internetu\Následná reakce  Enz_ Kinetics_soubory\firstorder.gif"/>
          <p:cNvPicPr/>
          <p:nvPr/>
        </p:nvPicPr>
        <p:blipFill>
          <a:blip r:embed="rId1"/>
          <a:stretch/>
        </p:blipFill>
        <p:spPr>
          <a:xfrm>
            <a:off x="5562720" y="1676520"/>
            <a:ext cx="960480" cy="403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0" y="2305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D:\Sopousek\Vyuka\Kinetika\Soubory z internetu\Následná reakce  Enz_ Kinetics_soubory\integratedfirstord.gif"/>
          <p:cNvPicPr/>
          <p:nvPr/>
        </p:nvPicPr>
        <p:blipFill>
          <a:blip r:embed="rId2"/>
          <a:stretch/>
        </p:blipFill>
        <p:spPr>
          <a:xfrm>
            <a:off x="863640" y="3284640"/>
            <a:ext cx="3657600" cy="3468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://www.chem.purdue.edu/gchelp/howtosolveit/Kinetics/KineticsArt/A_vs_t_1st_order.JPG"/>
          <p:cNvPicPr/>
          <p:nvPr/>
        </p:nvPicPr>
        <p:blipFill>
          <a:blip r:embed="rId3"/>
          <a:stretch/>
        </p:blipFill>
        <p:spPr>
          <a:xfrm>
            <a:off x="4788000" y="3068640"/>
            <a:ext cx="3816360" cy="3557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\ r = k[A]"/>
          <p:cNvPicPr/>
          <p:nvPr/>
        </p:nvPicPr>
        <p:blipFill>
          <a:blip r:embed="rId4"/>
          <a:stretch/>
        </p:blipFill>
        <p:spPr>
          <a:xfrm>
            <a:off x="7524720" y="1878120"/>
            <a:ext cx="657360" cy="190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\ t_ \frac{1}{2} = \frac{ln2}{k}"/>
          <p:cNvPicPr/>
          <p:nvPr/>
        </p:nvPicPr>
        <p:blipFill>
          <a:blip r:embed="rId5"/>
          <a:stretch/>
        </p:blipFill>
        <p:spPr>
          <a:xfrm>
            <a:off x="7308720" y="4456080"/>
            <a:ext cx="704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259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Wolfram alpha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1" name="Obdélník 2"/>
          <p:cNvSpPr/>
          <p:nvPr/>
        </p:nvSpPr>
        <p:spPr>
          <a:xfrm>
            <a:off x="179280" y="5516640"/>
            <a:ext cx="25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wolframalpha.com/examples/Integral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916360" y="189000"/>
            <a:ext cx="5715000" cy="63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rafické znázornění závislostí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reakce 1. řádu</a:t>
            </a:r>
            <a:br>
              <a:rPr sz="700"/>
            </a:br>
            <a:endParaRPr b="0" lang="en-US" sz="1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4" name="Picture 3" descr="D:\Sopousek\Vyuka\Kinetika\Soubory z internetu\Následná reakce  Enz_ Kinetics_soubory\kinetfirstord.gif"/>
          <p:cNvPicPr/>
          <p:nvPr/>
        </p:nvPicPr>
        <p:blipFill>
          <a:blip r:embed="rId1"/>
          <a:stretch/>
        </p:blipFill>
        <p:spPr>
          <a:xfrm>
            <a:off x="395280" y="1197000"/>
            <a:ext cx="4541760" cy="5410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\ \ln{[A]} = -kt + \ln{[A]_0}"/>
          <p:cNvPicPr/>
          <p:nvPr/>
        </p:nvPicPr>
        <p:blipFill>
          <a:blip r:embed="rId2"/>
          <a:stretch/>
        </p:blipFill>
        <p:spPr>
          <a:xfrm>
            <a:off x="2843280" y="4581360"/>
            <a:ext cx="1714320" cy="190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1st.jpg"/>
          <p:cNvPicPr/>
          <p:nvPr/>
        </p:nvPicPr>
        <p:blipFill>
          <a:blip r:embed="rId3"/>
          <a:stretch/>
        </p:blipFill>
        <p:spPr>
          <a:xfrm>
            <a:off x="5292720" y="1773360"/>
            <a:ext cx="34574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75708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0-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8" name="Picture 4" descr="A plot of concentration of reactant versus time is a straight line for a zero order reaction.  The half life is greater when the concentration is greater."/>
          <p:cNvPicPr/>
          <p:nvPr/>
        </p:nvPicPr>
        <p:blipFill>
          <a:blip r:embed="rId1"/>
          <a:stretch/>
        </p:blipFill>
        <p:spPr>
          <a:xfrm>
            <a:off x="595440" y="3879720"/>
            <a:ext cx="4149720" cy="29131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"/>
          <p:cNvSpPr/>
          <p:nvPr/>
        </p:nvSpPr>
        <p:spPr>
          <a:xfrm>
            <a:off x="4775760" y="155772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Arrow"/>
          <p:cNvPicPr/>
          <p:nvPr/>
        </p:nvPicPr>
        <p:blipFill>
          <a:blip r:embed="rId2"/>
          <a:stretch/>
        </p:blipFill>
        <p:spPr>
          <a:xfrm>
            <a:off x="388800" y="46080"/>
            <a:ext cx="171720" cy="123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3"/>
          <a:stretch/>
        </p:blipFill>
        <p:spPr>
          <a:xfrm>
            <a:off x="560520" y="1395360"/>
            <a:ext cx="3421080" cy="2405160"/>
          </a:xfrm>
          <a:prstGeom prst="rect">
            <a:avLst/>
          </a:prstGeom>
          <a:ln w="0">
            <a:noFill/>
          </a:ln>
        </p:spPr>
      </p:pic>
      <p:sp>
        <p:nvSpPr>
          <p:cNvPr id="62" name="Obdélník 4"/>
          <p:cNvSpPr/>
          <p:nvPr/>
        </p:nvSpPr>
        <p:spPr>
          <a:xfrm>
            <a:off x="285840" y="25988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bdélník 5"/>
          <p:cNvSpPr/>
          <p:nvPr/>
        </p:nvSpPr>
        <p:spPr>
          <a:xfrm>
            <a:off x="2286000" y="3013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1" descr="http://chemwiki.ucdavis.edu/@api/deki/files/13136/=zero.jpg"/>
          <p:cNvPicPr/>
          <p:nvPr/>
        </p:nvPicPr>
        <p:blipFill>
          <a:blip r:embed="rId4"/>
          <a:stretch/>
        </p:blipFill>
        <p:spPr>
          <a:xfrm>
            <a:off x="5965920" y="3141720"/>
            <a:ext cx="2846160" cy="3490920"/>
          </a:xfrm>
          <a:prstGeom prst="rect">
            <a:avLst/>
          </a:prstGeom>
          <a:ln w="0">
            <a:noFill/>
          </a:ln>
        </p:spPr>
      </p:pic>
      <p:sp>
        <p:nvSpPr>
          <p:cNvPr id="65" name="TextovéPole 6"/>
          <p:cNvSpPr/>
          <p:nvPr/>
        </p:nvSpPr>
        <p:spPr>
          <a:xfrm>
            <a:off x="4740120" y="227664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talyzované reak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N-tý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7" name="Obdélník 2"/>
          <p:cNvSpPr/>
          <p:nvPr/>
        </p:nvSpPr>
        <p:spPr>
          <a:xfrm>
            <a:off x="4642200" y="170028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= k A </a:t>
            </a:r>
            <a:r>
              <a:rPr b="1" lang="cs-CZ" sz="2400" spc="-1" strike="noStrike" baseline="30000">
                <a:solidFill>
                  <a:srgbClr val="cc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" descr="http://farm9.staticflickr.com/8320/8038440831_ff0893c4b4_o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932120"/>
            <a:ext cx="3828960" cy="2124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http://www.haverford.edu/chem/Scarrow/GenChem/kinetics/lnfvst.gif"/>
          <p:cNvPicPr/>
          <p:nvPr/>
        </p:nvPicPr>
        <p:blipFill>
          <a:blip r:embed="rId3"/>
          <a:stretch/>
        </p:blipFill>
        <p:spPr>
          <a:xfrm>
            <a:off x="4643280" y="2492280"/>
            <a:ext cx="3600720" cy="3772080"/>
          </a:xfrm>
          <a:prstGeom prst="rect">
            <a:avLst/>
          </a:prstGeom>
          <a:ln w="0">
            <a:noFill/>
          </a:ln>
        </p:spPr>
      </p:pic>
      <p:sp>
        <p:nvSpPr>
          <p:cNvPr id="70" name="Obdélník 3"/>
          <p:cNvSpPr/>
          <p:nvPr/>
        </p:nvSpPr>
        <p:spPr>
          <a:xfrm>
            <a:off x="179280" y="60040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chemwiki.ucdavis.edu/Physical_Chemistry/Kinetics/Reaction_Rates/Second_Order_Re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2-hý řád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2" name="Picture 2" descr="The half life of a second order reaction increases as the concentraion decreases."/>
          <p:cNvPicPr/>
          <p:nvPr/>
        </p:nvPicPr>
        <p:blipFill>
          <a:blip r:embed="rId1"/>
          <a:stretch/>
        </p:blipFill>
        <p:spPr>
          <a:xfrm>
            <a:off x="4067280" y="2205000"/>
            <a:ext cx="4667040" cy="43718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286560" y="1261800"/>
            <a:ext cx="541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2A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nebo A + B 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cts (when [A] = [B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= rate = k[A]</a:t>
            </a:r>
            <a:r>
              <a:rPr b="1" lang="cs-CZ" sz="2400" spc="-1" strike="noStrike" baseline="30000">
                <a:solidFill>
                  <a:srgbClr val="cc0000"/>
                </a:solidFill>
                <a:latin typeface="Times New Roman"/>
              </a:rPr>
              <a:t>2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Arrow"/>
          <p:cNvPicPr/>
          <p:nvPr/>
        </p:nvPicPr>
        <p:blipFill>
          <a:blip r:embed="rId2"/>
          <a:stretch/>
        </p:blipFill>
        <p:spPr>
          <a:xfrm>
            <a:off x="541440" y="46080"/>
            <a:ext cx="171360" cy="123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Arrow"/>
          <p:cNvPicPr/>
          <p:nvPr/>
        </p:nvPicPr>
        <p:blipFill>
          <a:blip r:embed="rId3"/>
          <a:stretch/>
        </p:blipFill>
        <p:spPr>
          <a:xfrm>
            <a:off x="3057480" y="46080"/>
            <a:ext cx="17136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210960" y="981000"/>
            <a:ext cx="890280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Lineariza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9" name="Picture 4" descr="http://www.askiitians.com/iit-jee-physical-chemistry/chemical-kinetics/images/plots-rate-vs-concentrations.jpg"/>
          <p:cNvPicPr/>
          <p:nvPr/>
        </p:nvPicPr>
        <p:blipFill>
          <a:blip r:embed="rId1"/>
          <a:stretch/>
        </p:blipFill>
        <p:spPr>
          <a:xfrm>
            <a:off x="1114560" y="1557360"/>
            <a:ext cx="641016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opousek</cp:lastModifiedBy>
  <dcterms:modified xsi:type="dcterms:W3CDTF">2015-02-24T08:46:14Z</dcterms:modified>
  <cp:revision>113</cp:revision>
  <dc:subject/>
  <dc:title>Soustava</dc:title>
</cp:coreProperties>
</file>