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F518-5089-4AD6-B3AD-6D83550E67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8216-9BD6-46B0-9555-F4FF7F323E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A6E1-7F53-497A-9A12-F73E05E6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C68-480D-4572-9FDD-EDF442F7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4F0-7518-4047-BEAE-062E7505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D80-681E-4667-A56E-4F394E27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D59D-18CF-4C10-918B-BC86E971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D97D-EAE1-43C9-86A5-B1A6CAE7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C8B3-5B8C-4012-9EC7-2D6F3226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DD84-9D64-411C-B632-A11282F3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85E1-4165-43E1-86A3-AFF8A8D1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DAEE-7021-474D-A0EA-B24DC265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AA93-2F95-4D6A-94D5-35B14088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F3E-2636-40A7-BDF4-1658AEC0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F2CD-3161-4C94-AEA1-50D0198C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5046-FC0D-4943-AA23-08595DC1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BE99-DF60-4BB6-923B-2FDC69F7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33E4-6126-48E9-AD63-A3C69AB9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DAEE-A256-4A11-8AB0-A95DC734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9F965-B61C-4C9A-91F4-FB495768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13CC-8722-41F6-AA10-5B575CBA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75E4-3A3F-44CB-AF87-D6A5FC2C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835A-2053-4EF9-AFEE-88846050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103C-7F26-4890-A27C-2E9AF680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478-0A7E-4E8D-A8E1-9592DBEB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101B-AA3A-45E5-94A0-B6F438AD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E93BC-DB7D-40D7-9C44-9D95489B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E486A-45C7-4982-BCE5-0F099DBE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2A70-553C-4272-8701-49365178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34357-A648-422B-A52D-D314D45E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645A-4A53-4802-8707-D7372EDF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F06AE-7545-4860-A8AC-D874DB6A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3E6-9322-4C30-8486-71A92429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702-6741-49D5-A927-49CBCC69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F63-3AE5-462C-8E0D-1A391E72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76E-945B-42FE-A88E-1183F898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07E-6175-4319-9CE5-B8F099CA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C61-7BA9-4E70-A378-3CF62CED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FE9E-2A77-4450-9FFE-E1B06863B07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C39D-6A29-41FE-989A-86B76D550C4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c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7A32-5B32-4502-8EEB-6B30AD52903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emické reak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C5D6-8668-44EC-844D-6FA0FDBD5E4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FF9E-1928-420B-B161-0940B827051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3404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BBFC-98FA-4DB4-A50C-E14261680D4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33280" y="1109520"/>
            <a:ext cx="8677440" cy="46389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53784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okonale promíchávaný průtokový reak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1C2E-B9FC-4CC4-8EFF-C46D6C28A1F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28680" y="333360"/>
            <a:ext cx="8486640" cy="5657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16080" y="5925960"/>
            <a:ext cx="8705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C28A-70BC-42D1-B8D7-ECC5591280E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90440" y="433440"/>
            <a:ext cx="876312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08BA-08CA-49A6-9E1B-09760C54976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71360" y="614520"/>
            <a:ext cx="880128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laxační met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8335-B0A9-465C-B6C8-4B20F41EEC9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http://chemwiki.ucdavis.edu/@api/deki/files/17502/relaxation.png?size=bestfit&amp;width=395&amp;height=308&amp;revision=1"/>
          <p:cNvPicPr/>
          <p:nvPr/>
        </p:nvPicPr>
        <p:blipFill>
          <a:blip r:embed="rId1"/>
          <a:stretch/>
        </p:blipFill>
        <p:spPr>
          <a:xfrm>
            <a:off x="1547640" y="3141720"/>
            <a:ext cx="3762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5F6F-42D1-46C7-A4B5-E3C9CE5CDC0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468360" y="208080"/>
            <a:ext cx="7848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B0F8-1D1E-4852-95FF-6F16888DA8A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360" y="404640"/>
            <a:ext cx="8705880" cy="2076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217440" y="2781360"/>
            <a:ext cx="88203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0F06-6080-4182-B627-F423CA9EBBF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62000" y="1197000"/>
            <a:ext cx="88581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C8EB-E40A-4F28-ABD6-87EC10FB672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3680" y="549360"/>
            <a:ext cx="8950320" cy="5340240"/>
          </a:xfrm>
          <a:prstGeom prst="rect">
            <a:avLst/>
          </a:prstGeom>
          <a:ln w="0">
            <a:noFill/>
          </a:ln>
        </p:spPr>
      </p:pic>
      <p:sp>
        <p:nvSpPr>
          <p:cNvPr id="196" name="TextovéPole 1"/>
          <p:cNvSpPr/>
          <p:nvPr/>
        </p:nvSpPr>
        <p:spPr>
          <a:xfrm>
            <a:off x="1280880" y="5848200"/>
            <a:ext cx="64137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relaxační křivka má tvar jako u kinetiky 1.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4FF2-4761-426E-A0DF-ABC1221CF7B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74720" y="196920"/>
            <a:ext cx="759456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3958-85FF-4AB3-A4B0-FF40013216F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66680" y="952560"/>
            <a:ext cx="8810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3214-02DD-4E58-8E89-970AC3FF09B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47600" y="309600"/>
            <a:ext cx="88488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85DA-F8F8-4CB0-9FC1-2ADC978D83E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240" y="357120"/>
            <a:ext cx="90295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D0C8-8EB8-407B-ACB3-FFFAF93E480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531200" cy="62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DFDB-41A8-4BC1-A527-9AFA2A2B81F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09440" y="333360"/>
            <a:ext cx="8925120" cy="189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http://www1.phc.uni-kiel.de/cms/images/stories/Friedrichs/stossrohr_bunt_web.jpg"/>
          <p:cNvPicPr/>
          <p:nvPr/>
        </p:nvPicPr>
        <p:blipFill>
          <a:blip r:embed="rId2"/>
          <a:stretch/>
        </p:blipFill>
        <p:spPr>
          <a:xfrm>
            <a:off x="312840" y="2781360"/>
            <a:ext cx="6505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D580-C3DD-44D8-AD05-E4CEE873E4C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23840" y="260280"/>
            <a:ext cx="8896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alší metody studia rychlých reak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0356-CA98-49EC-A6EE-1CFF9B2EE6C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66760" y="2009880"/>
            <a:ext cx="86104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EE26-1B99-4FE0-AB60-B4861DE470D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90360" y="223920"/>
            <a:ext cx="896328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2169-C02B-4D82-9AD0-434EB89B6D3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23920" y="647640"/>
            <a:ext cx="8696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7439-A437-4994-B019-B58D7ACE7A5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61636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DF59-C44E-477F-BAA4-4A63FAE0B4D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95120" y="260280"/>
            <a:ext cx="8753760" cy="847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173160" y="1413000"/>
            <a:ext cx="8629560" cy="293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ttp://www.assignmenthelp.net/assignment_help/images/chemical-engineering/plug-flow-reactor.png"/>
          <p:cNvPicPr/>
          <p:nvPr/>
        </p:nvPicPr>
        <p:blipFill>
          <a:blip r:embed="rId3"/>
          <a:stretch/>
        </p:blipFill>
        <p:spPr>
          <a:xfrm>
            <a:off x="2195640" y="4106880"/>
            <a:ext cx="3744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273A-B86B-4E5D-9A0E-61D753C8E3C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23920" y="138240"/>
            <a:ext cx="869616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1" marL="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D882-6B9F-4472-803F-52F036F63C4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71360" y="404640"/>
            <a:ext cx="8753400" cy="239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96840" y="3409920"/>
            <a:ext cx="8827920" cy="2106720"/>
          </a:xfrm>
          <a:prstGeom prst="rect">
            <a:avLst/>
          </a:prstGeom>
          <a:ln w="0">
            <a:noFill/>
          </a:ln>
        </p:spPr>
      </p:pic>
      <p:sp>
        <p:nvSpPr>
          <p:cNvPr id="149" name="TextovéPole 1"/>
          <p:cNvSpPr/>
          <p:nvPr/>
        </p:nvSpPr>
        <p:spPr>
          <a:xfrm>
            <a:off x="1042920" y="595008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v dV nebude probíhat chemická reakce pak platí že se koncentrace na výtoku nezmě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62CE-1B91-4EEC-BD8E-174BAE8ECE3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324000" y="149400"/>
            <a:ext cx="849600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FA2E-564E-4399-829A-F2CFEA71D00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57320" y="260280"/>
            <a:ext cx="8829360" cy="3781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338040" y="4041720"/>
            <a:ext cx="8648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E038-5171-42B6-ABF3-A1B2EAE09CB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95280" y="262080"/>
            <a:ext cx="6481800" cy="65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3B5F-687F-4C71-BC6C-B1CF2E61FD7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69720" y="620640"/>
            <a:ext cx="8420400" cy="4105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44520" y="5084640"/>
            <a:ext cx="8410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5-03-24T08:57:40Z</dcterms:modified>
  <cp:revision>26</cp:revision>
  <dc:subject/>
  <dc:title>Prezentace aplikace PowerPoint</dc:title>
</cp:coreProperties>
</file>