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6548-EB95-4F87-A422-282CF920B32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F379-8D4B-4B2D-B52A-A76EE8BABED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D95-9EE1-4770-B26F-D0728AC8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F01-385D-49DA-A774-3883D11F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AB55D-2CAB-44AE-9CC6-F7E50FB3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57124-4FE5-4A79-BD94-6CC16F1A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BEA04-5F3F-4E77-8E0D-35420304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FB752-945D-4845-A7A3-036DAD58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95064-64A1-45A9-9CB9-A82D27AB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6A54E-CACC-4003-B9B2-E3CE1B91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3D3F8-FAA9-47B4-826C-0347CF55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19E9B-54F8-4F2E-B07B-5EBB2D04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EE4AB-8F8E-43F8-BFB8-D9D79D3B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6A897-4BE9-4D15-A296-6C82BD32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6B0-AE57-47B7-BB38-6CE752F8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CE27D-E3F9-4C56-B6D8-1F03545A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6A93C-27A2-4256-A246-450A494F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9A0BF-0FE4-4AD7-A38C-E3C7F914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28FA2-9CA5-4DD2-827B-00FE974F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337E1-55DC-46AD-8C28-82BF033D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CF223-BDC5-46F1-9F62-F35CF47F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43D36-BF4E-47D1-AFF3-008CF4C1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98500-0C99-416A-B332-A0343095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FA2C8-1705-4BB2-BAB8-18074A2C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39AB8-C375-4895-B5CE-071F9001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10D-3294-4FC3-BFAF-0A493DF3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8C87A-9849-4E63-BB55-E7575914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74BA2-69DA-4772-A62A-76E19CB6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6306B-BEAB-488F-8521-F7616145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99B17-E492-43F2-B115-483C0582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45113-36F1-4035-BA34-641E49A1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08F30-0489-480F-9234-84DE6DBA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04395-20EA-46FD-B35A-7F8AFC4A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227F3-F797-45F8-A9DA-414D8E11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D6C09-D791-4539-8692-5FA777C7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28D7D-801E-4F81-B27A-77CB5245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2C00-882B-491D-8587-72F8B083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6E957-7D0F-4FA9-BB80-53E657B9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AC5D9-39F3-4672-8D2C-126F14EA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1C523-7BE5-41DD-BD86-C295B362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CC1B2-2D06-4ABA-9936-B32A1C21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B2E82-70AF-491E-8054-33710EF5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54CDC-FC31-4B66-94EE-19AF0011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75201-2178-4485-ACE3-1CED6025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5651F-0E2D-43EF-9193-1AC0B8BA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F9B91-CDDD-4E1E-8E06-4B21986C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2D7A5-428D-43CA-8F32-4EAFA53E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5DB7-D215-42F9-B062-5EA0375C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31F55-0748-486A-82FF-CF9D349D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08934-57C0-46F9-AB38-8ED61BBC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3990F-4FA5-4C28-B5B3-174B4086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7A5CE-BF46-4D6B-B6CA-2D2C0544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14B24-1315-4A96-BADF-4D8AC336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CEEEB-3F3E-4591-96E5-43618CE8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729641-EC15-4DCF-971B-1EA4F70A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7FBA3-2EB5-4B59-8072-850871F7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3F972-6686-4E6A-8DD9-1A35B8B9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44A35-A187-4044-9FC9-1A1BD071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438C-6681-4515-AFEB-22BC284E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469AD-33CF-4D4D-A5FF-4EE05CCF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C1EBB-2607-469E-A377-707EA022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A29DDE-2B5C-42C5-A770-879EAA7F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74DAE-6309-42EB-95BC-E8697BE7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9024F-FECE-4C7B-9D95-51B637D0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2770D-74A6-4F59-B7CA-57F4C976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99ED6-A874-47D5-9403-808C3F03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4B36-842D-48E5-B345-74DD0848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EC75-9166-451A-8DD5-75617F98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E3F9-0070-437A-AE14-11B79CD7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2737-5395-4A61-B250-7472E87A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4E5-02B6-48AE-86DE-74F616BB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002E-D520-48E8-81DB-2AFAB1D1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461B-6538-4CE4-890B-DE24DCDD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A032-1FC2-4DF2-B7F7-33C6A99B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4921-3F85-4EE6-A6A2-DCC1F605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85D2-8CE2-4E70-9B79-403DA3A9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890B4-8A00-4213-97FA-32AFF3C1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EEFB2-8D6E-4D49-AD23-C33DC017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43703-0776-4F2A-A620-676AB3F1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54F9B-BB79-44EF-8101-230596C9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00349-2370-40C2-84F9-F1DA280E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3CD-4B88-4F9B-AA95-C0C89B59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D5AA7-EE64-4321-8B34-6FFD0242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B4AC8-0F70-441A-9F74-CC6B8490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2F6E6-F8B7-4BF2-8A24-25918B95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A0AF4-9542-41C6-8F91-EFAA7994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43DF2-30DF-4F54-AE4D-C3908CD7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72F22-E49A-431F-AA1B-31A978D0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C8078-1188-4E08-A60D-2B44C693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7C3BC-B7ED-4BF8-AAE3-B3A75780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1C4B6-4027-48CD-9778-61F92223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5147A-0EB4-47D7-8B78-18BD0447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1F1-8C74-407E-83E6-C94D1F13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ACA07-0072-49BA-9097-9E764F08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F3388-ACC3-4FF9-A5A2-034A525A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5EA54-4D9D-40E8-BAF9-993887DC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E1256-A0D3-4E0B-9417-13E79DB9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396BD-C61B-4F47-82AA-936A481D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75037-C9FD-4DF5-B439-11FBE21C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75159-E7C8-47AB-ADEC-D821322D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234EE-C55E-49E1-94CF-5325F1E3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ED8EE-A91B-4CC3-8088-6561D59A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00A91-FD9E-449C-A576-BC11E67E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D2C-016C-4FBA-AC6E-7D0B6729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F6EB5-DE53-4704-9372-EC08E4CE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DD6EF-D3C1-49F7-BBC7-E409FEAB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7D225-A418-433A-924B-BA5FE533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55A93-6CBA-44BA-886B-5533369F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23E28-4181-4843-9C6C-B3D68FA7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883A3-C4D9-4EF8-A1FB-D7BF95E3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A610B-1FB4-43EF-8F2C-2F8F428F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A566E-F8E4-43AE-9CCB-B3F3547C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DA0E8-5423-4409-AD58-22BDCFCD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7F319-398A-419C-A460-B33B6D73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226-BDB6-41C3-987D-B255EE9D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869F3-8D3A-4B82-9FFE-C62B2C5F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20C76-C2B6-4911-A208-82B92F7F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ECD61-3CD7-4F9A-8EA6-5E4FC22F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38038-8A27-4D67-ACF0-3764957E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AF456-98C5-42C5-AF54-90F22E54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71CA4-DBDC-4EBE-A030-9689E0E0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5FBDF-F6EC-4DE4-A22A-306FC359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7609B-4C9B-4650-81C6-C1B68BB7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325E0-54D6-4FF5-AC74-14A83DCE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CDECF-598F-4AFB-8B0C-4C42E439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1886-CD62-4541-852E-642F6D2F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6B241-C88E-46A7-B957-993AA826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090AF-42A9-43B5-9CB1-373A0704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EBE4C-945E-445D-AD20-74425A73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BE91C-8DA1-4F47-A87E-2EA2110A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D2365-138C-46CC-B74B-3B31D17F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A3DB3-81A6-44A3-852C-68EE4ECE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31E87-E36D-47B5-8B7A-49C847BB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EC883-8BD7-4CA2-BB34-055AE6D6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C2B2A-1890-4CB2-992E-C45FBCA9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534EC-9A89-480A-B211-533FD23B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CB1-AE1D-473F-9A68-6604FCB4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BFF0B-5D78-471D-92FD-E83D6B64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CB421-DCD2-49E3-8593-572E0E43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455C2-263A-4035-96B9-ADB98A10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D75F3-E8A2-4C94-BA61-3C7D0548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852DD-E5D8-4C3C-87F4-8451C76A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2A827-3C5E-47CA-98C7-935AEBE5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10AB6-9159-4D8F-A704-4E6460A6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628CF-3128-47AF-A9EB-6ECCB5C1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88C9C-BA10-4EE2-95AD-5A207597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8608B-3E37-4E46-B883-7DEA5796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BA28-E44C-4055-A522-356F020D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6A9A6-997B-4358-804B-B2352E74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BE28F-7575-459E-A8E7-12E6CA28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80DFA-5A50-4BF1-A546-EF02A02E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68BC7-6FAB-4D3D-A8DB-C0E42302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0394A-8CC0-4155-A7CE-11D60376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552CF-7B72-4178-B51D-ED01F651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71E31-36AB-4062-9002-41E7A70D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276C0-2E65-40A4-A4CC-8EB9FE22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9509D-DD62-43B2-ABC9-F9C198CE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2C573-5983-4ECE-9635-FFF48E5C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Přímá spojnice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78F5-1ABB-40DB-B2CA-B56D8E56E05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Přímá spojnice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Přímá spojnice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7B58-E341-459A-A237-54851628AA7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9587-8527-4AD6-B476-15CFEB5B7A6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B665-ECE3-48E3-9086-E1B497598C0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F4B6-FF72-434D-BA2D-A5887119711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6E28-F53B-4947-9039-3254029AE50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7D1E-458B-49B6-829C-87C6934CD62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36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2339-FC73-403B-8942-81CBF1098453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837C-7DEA-4CA7-9555-495229066A8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2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896E-EA36-4479-9993-1015A689539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AAD9-F97C-49A8-9EBF-DE9404AB438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A043-6799-4941-A2B7-C7BA67809CD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47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9479-925C-45D4-88F8-46F236CF7DD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4" descr=""/>
          <p:cNvPicPr/>
          <p:nvPr/>
        </p:nvPicPr>
        <p:blipFill>
          <a:blip r:embed="rId1"/>
          <a:stretch/>
        </p:blipFill>
        <p:spPr>
          <a:xfrm>
            <a:off x="493560" y="669960"/>
            <a:ext cx="8028000" cy="2762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FB33-3E6B-4F4A-8A52-13B5BFBC006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bdélník 1"/>
          <p:cNvSpPr/>
          <p:nvPr/>
        </p:nvSpPr>
        <p:spPr>
          <a:xfrm>
            <a:off x="2286000" y="2828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76320" y="-192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228600" y="-39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380880" y="112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3" descr="http://4.bp.blogspot.com/-UtjRz5BKRBE/TliAGdz3tEI/AAAAAAAAAgI/m_ZIAoTzqfQ/s1600/wolfram+alpha.jpg"/>
          <p:cNvPicPr/>
          <p:nvPr/>
        </p:nvPicPr>
        <p:blipFill>
          <a:blip r:embed="rId2"/>
          <a:stretch/>
        </p:blipFill>
        <p:spPr>
          <a:xfrm>
            <a:off x="1332000" y="3774960"/>
            <a:ext cx="25635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Rectangle 2" descr=""/>
          <p:cNvPicPr/>
          <p:nvPr/>
        </p:nvPicPr>
        <p:blipFill>
          <a:blip r:embed="rId1"/>
          <a:stretch/>
        </p:blipFill>
        <p:spPr>
          <a:xfrm>
            <a:off x="493560" y="609480"/>
            <a:ext cx="8272440" cy="115272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tegrate 1/x dx from 1 to 1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06B0-B75E-4C01-8802-BA0BAE6F602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http://www.wolframalpha.com/input/subpodaction/?c=5a&amp;u=%2Finput%2Fsubpodimage.jsp%3Fpodtitle%3DVisual%2520representation%2520of%2520the%2520integral%26cdtf%3DMSP113201gh8627505579700004afd518f82bh1350%26i%3Dintegrate%25201%252Fx%2520dx%2520from%25201%2520to%252010%26theme%3D1%26plottype%3DDefault%26incframe%3Dfalse%26inctitle%3Dfalse%26incinput%3Dfalse%26mck%3D%26spidx%3D1%26s%3D59%26id%3DMSP112201gh8627505579700003h799a8c67d5cacg%26podidentifier%3DVisualRepresentationOfTheIntegral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530280" y="2781360"/>
            <a:ext cx="51940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tegrate -1/a 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Zástupný symbol pro číslo snímku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D0AC-1C64-4F22-A2DA-F0A04295CEC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6" descr="http://www.wolframalpha.com/input/subpodaction/?c=5a&amp;u=%2Finput%2Fsubpodimage.jsp%3Fpodtitle%3DPlots%2520of%2520the%2520integral%26cdtf%3DMSP17331h47d00hi5e09bg3000050717fi59679bi5g%26i%3Dintegrate%2520-1%252Fa%2520da%26theme%3D1%26plottype%3D2DMathPlot%26incframe%3Dfalse%26inctitle%3Dfalse%26incinput%3Dfalse%26mck%3D%26spidx%3D1%26s%3D63%26id%3DMSP17311h47d00hi5e09bg300002ed5067866bg4fb5%26podidentifier%3DPlot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826920" y="2565360"/>
            <a:ext cx="69138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75800" cy="1000080"/>
          </a:xfrm>
          <a:prstGeom prst="rect">
            <a:avLst/>
          </a:prstGeom>
          <a:ln w="0">
            <a:noFill/>
          </a:ln>
        </p:spPr>
      </p:pic>
      <p:sp>
        <p:nvSpPr>
          <p:cNvPr id="578" name="Zástupný symbol pro číslo snímku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7AF0-7596-49F8-8FF3-11CED420A4B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4" descr="d1592"/>
          <p:cNvPicPr/>
          <p:nvPr/>
        </p:nvPicPr>
        <p:blipFill>
          <a:blip r:embed="rId2"/>
          <a:stretch/>
        </p:blipFill>
        <p:spPr>
          <a:xfrm>
            <a:off x="1042920" y="2421000"/>
            <a:ext cx="6461280" cy="326880"/>
          </a:xfrm>
          <a:prstGeom prst="rect">
            <a:avLst/>
          </a:prstGeom>
          <a:ln w="0">
            <a:noFill/>
          </a:ln>
        </p:spPr>
      </p:pic>
      <p:sp>
        <p:nvSpPr>
          <p:cNvPr id="580" name="TextovéPole 1"/>
          <p:cNvSpPr/>
          <p:nvPr/>
        </p:nvSpPr>
        <p:spPr>
          <a:xfrm>
            <a:off x="395280" y="162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n-teho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95280" y="2852640"/>
          <a:ext cx="7445520" cy="3795840"/>
        </p:xfrm>
        <a:graphic>
          <a:graphicData uri="http://schemas.openxmlformats.org/drawingml/2006/table">
            <a:tbl>
              <a:tblPr/>
              <a:tblGrid>
                <a:gridCol w="403200"/>
                <a:gridCol w="704232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0.řádu (n = 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. řádu (n = 1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4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. řádu (n = 2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I. řádu (n = 3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n.řád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pic>
        <p:nvPicPr>
          <p:cNvPr id="582" name="Picture 10" descr="http://www.vscht.cz/fch/frvs/html/math/d1594.gif"/>
          <p:cNvPicPr/>
          <p:nvPr/>
        </p:nvPicPr>
        <p:blipFill>
          <a:blip r:embed="rId3"/>
          <a:stretch/>
        </p:blipFill>
        <p:spPr>
          <a:xfrm>
            <a:off x="2151000" y="3276720"/>
            <a:ext cx="5699160" cy="152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http://www.vscht.cz/fch/frvs/html/math/d1595.gif"/>
          <p:cNvPicPr/>
          <p:nvPr/>
        </p:nvPicPr>
        <p:blipFill>
          <a:blip r:embed="rId4"/>
          <a:stretch/>
        </p:blipFill>
        <p:spPr>
          <a:xfrm>
            <a:off x="2050920" y="3860640"/>
            <a:ext cx="5707080" cy="30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http://www.vscht.cz/fch/frvs/html/math/d1596.gif"/>
          <p:cNvPicPr/>
          <p:nvPr/>
        </p:nvPicPr>
        <p:blipFill>
          <a:blip r:embed="rId5"/>
          <a:stretch/>
        </p:blipFill>
        <p:spPr>
          <a:xfrm>
            <a:off x="2062080" y="4653000"/>
            <a:ext cx="5684760" cy="3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" descr="http://www.vscht.cz/fch/frvs/html/math/d1597.gif"/>
          <p:cNvPicPr/>
          <p:nvPr/>
        </p:nvPicPr>
        <p:blipFill>
          <a:blip r:embed="rId6"/>
          <a:stretch/>
        </p:blipFill>
        <p:spPr>
          <a:xfrm>
            <a:off x="2200320" y="5373720"/>
            <a:ext cx="5684760" cy="419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http://www.vscht.cz/fch/frvs/html/math/d1598.gif"/>
          <p:cNvPicPr/>
          <p:nvPr/>
        </p:nvPicPr>
        <p:blipFill>
          <a:blip r:embed="rId7"/>
          <a:stretch/>
        </p:blipFill>
        <p:spPr>
          <a:xfrm>
            <a:off x="2200320" y="6237360"/>
            <a:ext cx="5684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tegrate -1/2 dt from t=0 to 1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2.0611536224385578279659403801558209763758072755991036929... × 10^-7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20 levá i pravá stran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dA/dt=k*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itel</cp:lastModifiedBy>
  <dcterms:modified xsi:type="dcterms:W3CDTF">2013-03-25T13:56:56Z</dcterms:modified>
  <cp:revision>20</cp:revision>
  <dc:subject/>
  <dc:title>Prezentace aplikace PowerPoint</dc:title>
</cp:coreProperties>
</file>