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75D-054A-48C1-81DC-35C905FC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B7A-3BD3-477B-BE82-9811A930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2645-6195-4077-9E13-CF2E36082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860D-472B-4435-9449-064D50C24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974AB-814C-4F4D-B93E-566863D0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FE3A-AE9A-49EE-8DE6-15845608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0DBD-341F-47E0-BD9B-CA5C8E540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55B7-1CA7-4AFD-B2E3-15E073E0E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9DE3-7D05-4986-87B8-11AE0B7BA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A617-9D1C-4E38-8D41-553B6C49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3A0A-5182-4587-BDFB-17719005D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6CA3-1366-4C87-BAB5-4C2F3F5E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08258-A809-47B7-8C93-CB1028F1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BC3AB-7AF1-47DF-9294-CEA9B915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FC1F-08B5-4F52-86A7-1100EE1E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6283B-58B9-43F5-B362-6144D8E57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D06C9-8EC9-4B5B-B30B-F57429B75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3121-883B-49E6-8781-0E91D82F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0CA3-B8FD-437E-A771-5024C4A3B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6CAA-467B-408C-B92A-AF8FCAA6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4975-F5ED-42D6-958D-265984D91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3617-DE53-4923-AA02-6BB6B77F8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48D8-0DFF-490F-AC1E-619A9C6E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D30C-6F21-4985-8BDB-202CBFEB3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095E-764A-425A-A967-833276B03AA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1C325-54D8-4F9B-90F3-ABF12FB50097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40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Experimentální metody chemické kinetik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CDF8-B4E5-491C-A205-EB52C6670103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http://www.scielo.br/img/revistas/bjce/v25n4/a15fig03.gif"/>
          <p:cNvPicPr/>
          <p:nvPr/>
        </p:nvPicPr>
        <p:blipFill>
          <a:blip r:embed="rId1"/>
          <a:stretch/>
        </p:blipFill>
        <p:spPr>
          <a:xfrm>
            <a:off x="1538280" y="2637000"/>
            <a:ext cx="443556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81B5-10B7-490B-8098-6847E92D1BE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2" descr=""/>
          <p:cNvPicPr/>
          <p:nvPr/>
        </p:nvPicPr>
        <p:blipFill>
          <a:blip r:embed="rId1"/>
          <a:stretch/>
        </p:blipFill>
        <p:spPr>
          <a:xfrm>
            <a:off x="611280" y="7920"/>
            <a:ext cx="7950240" cy="63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Diferenciální metod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B6E6-CB9C-439D-83BB-6A8871530C4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7993080" cy="3024000"/>
          </a:xfrm>
          <a:prstGeom prst="rect">
            <a:avLst/>
          </a:prstGeom>
          <a:ln w="0">
            <a:noFill/>
          </a:ln>
        </p:spPr>
      </p:pic>
      <p:sp>
        <p:nvSpPr>
          <p:cNvPr id="125" name="TextovéPole 3"/>
          <p:cNvSpPr/>
          <p:nvPr/>
        </p:nvSpPr>
        <p:spPr>
          <a:xfrm>
            <a:off x="6241680" y="2708280"/>
            <a:ext cx="2019960" cy="5101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iz:   v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=k*A</a:t>
            </a:r>
            <a:r>
              <a:rPr b="0" lang="cs-CZ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3D448-42BA-4D59-94AC-220CCA790F9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1012680" y="682560"/>
            <a:ext cx="7118640" cy="549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říklad vyhodnocen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07609-0FFE-4513-BB42-00193B97F775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719460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lánování kinetických experiment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CB718-71EE-4F96-A0A1-2E913AA991F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551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6BD93-FEDA-4C53-B6C2-FFD1CDFE07D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604800" y="260280"/>
            <a:ext cx="7927920" cy="633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AC965-B19A-4470-978A-904560F414A8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8578800" cy="17287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"/>
          <p:cNvPicPr/>
          <p:nvPr/>
        </p:nvPicPr>
        <p:blipFill>
          <a:blip r:embed="rId2"/>
          <a:stretch/>
        </p:blipFill>
        <p:spPr>
          <a:xfrm>
            <a:off x="272880" y="2133720"/>
            <a:ext cx="8083800" cy="24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1317-6922-471A-AA14-A3E0A1FDD884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Chemicko-kinetické experiment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4CE26-7E16-4DC5-9F1F-DC3A022C184F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ovéPole 4"/>
          <p:cNvSpPr/>
          <p:nvPr/>
        </p:nvSpPr>
        <p:spPr>
          <a:xfrm>
            <a:off x="611280" y="1700280"/>
            <a:ext cx="777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novení konverzních křivek všech detekovatelných reaktantů, meziproduktů a produktů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anovení závislostí reakčních rychlostí za definovaných podmínek (teplota, tlak, podmínky experiment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ovéPole 5"/>
          <p:cNvSpPr/>
          <p:nvPr/>
        </p:nvSpPr>
        <p:spPr>
          <a:xfrm>
            <a:off x="306360" y="3789360"/>
            <a:ext cx="390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kladní typy experimentů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ovéPole 6"/>
          <p:cNvSpPr/>
          <p:nvPr/>
        </p:nvSpPr>
        <p:spPr>
          <a:xfrm>
            <a:off x="395280" y="4251240"/>
            <a:ext cx="67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zotermický, dokonale promíchávaný vsádkový (uzavřený) rea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zotermický, trubkový reaktor s pístovým tokem reakční smě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zotermický, dokonale promíchávaný průtokový reak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4" descr="http://upload.wikimedia.org/wikipedia/commons/5/5c/Batch_reactor.2.jpg"/>
          <p:cNvPicPr/>
          <p:nvPr/>
        </p:nvPicPr>
        <p:blipFill>
          <a:blip r:embed="rId1"/>
          <a:stretch/>
        </p:blipFill>
        <p:spPr>
          <a:xfrm>
            <a:off x="6732720" y="3213000"/>
            <a:ext cx="23637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8105-DB07-4171-BC81-E24D611E44C6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479520" y="189000"/>
            <a:ext cx="8121600" cy="28191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552600" y="3008160"/>
            <a:ext cx="7975440" cy="75564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"/>
          <p:cNvPicPr/>
          <p:nvPr/>
        </p:nvPicPr>
        <p:blipFill>
          <a:blip r:embed="rId3"/>
          <a:stretch/>
        </p:blipFill>
        <p:spPr>
          <a:xfrm>
            <a:off x="479520" y="3763800"/>
            <a:ext cx="796932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8A722-66E4-4FAA-BE8E-7563A8BD4842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625320" y="1628640"/>
            <a:ext cx="7893360" cy="3981600"/>
          </a:xfrm>
          <a:prstGeom prst="rect">
            <a:avLst/>
          </a:prstGeom>
          <a:ln w="0">
            <a:noFill/>
          </a:ln>
        </p:spPr>
      </p:pic>
      <p:sp>
        <p:nvSpPr>
          <p:cNvPr id="99" name="TextovéPole 3"/>
          <p:cNvSpPr/>
          <p:nvPr/>
        </p:nvSpPr>
        <p:spPr>
          <a:xfrm>
            <a:off x="1187280" y="5950080"/>
            <a:ext cx="6337440" cy="459720"/>
          </a:xfrm>
          <a:prstGeom prst="rect">
            <a:avLst/>
          </a:prstGeom>
          <a:solidFill>
            <a:srgbClr val="e6b9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utno měřit až do vysokých konverzí (tj 0,9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9F9B-C052-4E58-99BC-E685AEFE38AE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419040" y="476280"/>
            <a:ext cx="8242200" cy="50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C59C0-08C2-49B2-AC7F-163266BC47AA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758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21240" y="398160"/>
            <a:ext cx="418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Pozor na dosažený stupeň konverze 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C571D-98CB-4F31-95B7-2B4B6DA0D80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3705120" cy="532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3" descr=""/>
          <p:cNvPicPr/>
          <p:nvPr/>
        </p:nvPicPr>
        <p:blipFill>
          <a:blip r:embed="rId2"/>
          <a:stretch/>
        </p:blipFill>
        <p:spPr>
          <a:xfrm>
            <a:off x="4284720" y="2313000"/>
            <a:ext cx="4757760" cy="2448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4" descr=""/>
          <p:cNvPicPr/>
          <p:nvPr/>
        </p:nvPicPr>
        <p:blipFill>
          <a:blip r:embed="rId3"/>
          <a:stretch/>
        </p:blipFill>
        <p:spPr>
          <a:xfrm>
            <a:off x="611280" y="5425920"/>
            <a:ext cx="8096040" cy="1338480"/>
          </a:xfrm>
          <a:prstGeom prst="rect">
            <a:avLst/>
          </a:prstGeom>
          <a:ln w="0">
            <a:noFill/>
          </a:ln>
        </p:spPr>
      </p:pic>
      <p:cxnSp>
        <p:nvCxnSpPr>
          <p:cNvPr id="111" name="Přímá spojnice se šipkou 4"/>
          <p:cNvCxnSpPr/>
          <p:nvPr/>
        </p:nvCxnSpPr>
        <p:spPr>
          <a:xfrm flipH="1">
            <a:off x="3850920" y="3537000"/>
            <a:ext cx="1658160" cy="900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Metoda zlomkových čas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E29F4-365D-4A00-8523-331E9DD553D1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8397720" cy="49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Zástupný symbol pro číslo snímku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E1E9F-B187-4C2B-9A39-5A186E0C919C}" type="slidenum"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420840" y="189000"/>
            <a:ext cx="6480000" cy="5170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420840" y="5499000"/>
            <a:ext cx="7808760" cy="12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opousek</cp:lastModifiedBy>
  <dcterms:modified xsi:type="dcterms:W3CDTF">2015-03-24T07:57:39Z</dcterms:modified>
  <cp:revision>30</cp:revision>
  <dc:subject/>
  <dc:title>Prezentace aplikace PowerPoint</dc:title>
</cp:coreProperties>
</file>