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dt" idx="4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 type="ftr" idx="4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 type="sldNum" idx="4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AD7BC-DD4F-4A06-83CA-BC17963F523D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D0A5B-B1B2-4E43-A905-EE6973826F7F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C391-AE77-4996-828F-9B5506181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C592-D11C-45FE-A51E-0FC57F103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6AAB8D-A5E6-4124-A4F6-DD0B4A256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314CD2-ED38-4E64-BBED-C38248842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E71CA0-B2E5-4DFE-8ECA-82A66EC74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5D4787-9C39-421E-B26D-BD6EB98E9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B49BD4-382A-455E-9F94-D64586521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B27F18-AC0A-4343-BF43-CDC8C681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4B5779-C8AE-4B79-BD73-9E356B8FA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ABFA98-0158-49ED-9473-6E82E2665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7782E5-56F8-4EB3-A250-DAE85D706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0E1B0B-31E5-45D5-9CBE-6E09507E8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02DD-2DCC-43DD-B495-E2AF63DA2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6FDDFD-F6DD-46C8-A335-2BAAA23E5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D9C4ED-5EAA-495E-8390-7D186FCF3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9DEBD0-1EAF-4AC7-A9AC-08F6B2E55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B86E1A-5789-4094-AC06-4F82F713E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E136E5-5441-40AD-8C82-C8A0E4D75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4E4199-4CB8-42F5-B385-41B91F09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99AE99-49F2-4DA6-A6EF-D9739F0D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31B34E-F3D3-483C-B951-AE578F5DC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551444-2821-4784-9F12-E86D13FD4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2C154F-62CC-460F-8271-6F277A59D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451D-EEDB-4FA8-A0E8-65FDC6D9C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1E74BA-49AC-410D-A26D-A5629FCF1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AC7B5C-4AF8-4CA4-A3F4-5EB0367A4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7BFBB5-DAEA-4D0F-88F2-6197FF9AF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5B0C82-86DC-4ED7-B427-89943BA1F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439FD7-50F8-445F-85DB-3D5059208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298BA9-2F32-452E-909E-1761CFA63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ADA5D3-9811-45F8-8A7F-09C8DB504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C58ACF-2208-4B17-B57E-087D8FA26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354A71-9765-4940-8A5E-3709445D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3EECBD-5C42-43AF-9E19-7BB783E03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71FA0-05CB-4479-A632-3F1897D02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0BADC3-6783-4DE8-B774-62B5FF41E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6DC475-E487-471D-8226-48B3A077D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2600F8-3E23-424E-8BF8-E1D116789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61446E-E363-44A9-86DE-9DADF0C85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5A4C97-170A-47B2-8006-D34017964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DBB1E0-5A3B-4B55-A228-6DA9EE11F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AC4347-1425-470C-9DFC-C12A84E1A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163D40-448B-4034-9E7E-09CB04B78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612356-1C7B-4713-A39B-AC95D4304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A3B1B1-F4B4-4299-B8EE-97D7BF88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158C6-9E7D-4B36-8493-BAEF73C05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90C12F-4F0C-426A-9479-124883DCD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1E6F4B-6811-400A-96BE-53E7ED62E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46F47A-515C-4723-9018-4243AF453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D063EF-0CA0-4A87-A891-7CE6B19AF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7E3D74-475E-4A73-BD99-E8E6CC191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121170-D011-47F1-A39A-F9522A286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0B33C1-D194-49B8-99B1-89FA1CCBF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8916AE-521D-4012-8866-600E1B53A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FA6C92-D66F-4E86-BB78-9E5CF5B43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2AACC5-EABB-45E3-8483-72BC61CC2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08D8D-96E2-4664-98B7-C9BC09DF8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8F256E-3C75-4D1F-8697-FE73B3BAB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9A402D-7AB4-41A6-ACAD-CA752522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045C99-6922-49C6-B833-B7A6BCAE1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86B30C-BF38-4ED7-8DBB-C6149006A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F183D9-1526-44BD-A5CB-6E0280203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36588D-04B3-4848-9014-461D7B4C4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113F12-2AB4-44D6-8531-A785424C3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45B06-4F82-4116-B089-CA5523FB7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DD792-3D81-43DA-8651-CA567C154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E69DB-A928-4793-95C0-B6408EB24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FD17D-A984-4975-9678-66812D4BD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C07B-8AC4-4832-861D-5CEE7F8A4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1B75D-534A-4E73-9F98-CECE62E7E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96A6F-30B9-4C18-818E-EEE4A33BE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9C0EB-E0E9-4FC1-8744-3F21081A3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CE3EE-708C-4C91-8FA2-9BD3D222C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3909A-15D1-42B6-B33D-742BA527B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977245-A6F5-45A4-9883-622208BD2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A0628-49A9-4EBB-A3E1-EEB2DDBA2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6CE64-4E35-4881-8CFE-B9FEE42C6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356015-DED1-44A5-A77B-FAE6E7B25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265B3F-9F24-461D-9EE0-CD17DDE16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EDF1-0762-4CE3-899B-FA05095C3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72006-80CE-4973-89AA-097503EE0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BE672-A70F-41E6-A842-5D96F020A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40F67E-2971-4670-982F-8511FFEED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A91AC-01EF-4FA7-B5A9-0CA991E1D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51C24B-1107-46DF-8E12-3B3D34748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5C678-48E2-4370-97FE-4426D73FF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6729B-9133-4681-9520-93EDE6AB3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EC223A-A920-4F0C-A2DD-588C63CD8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29DA5-3A3D-4172-A1FA-215B8AC0F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B32F9A-F020-42A6-A7D0-F7FFBB757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DE3F-A149-4DEE-AE42-25C655323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AAFF3-C786-42AB-9CE1-208703424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B1F86-16F1-4B10-8B9B-284C7F9EF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C24A4-0865-42C0-8E1D-B83CE2A9E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53030-9ADF-4D8A-8B15-54AE5016E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1F03D4-9A56-42E6-973E-8144BCEE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F1B55-AD18-4FEB-966F-9EEADF2A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B67EAC-8FC4-45BF-A9E7-81474F256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BC6CC-004E-4D9A-A347-34257FFE6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888AF0-E318-4993-B759-AFEF9E2D9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87257-092E-420D-B4C7-40C653A12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C5C3-DB33-4FB7-A5DD-09C2E7178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361DC0-1881-4195-898A-370B7DEC9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6AE44-8D6F-4010-90CE-0A0E45E3E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E5DAEA-A236-47B5-BE03-C032FB20B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8004A-8B55-425D-B01A-07F4F40B4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AB341E-6BF0-44D2-A4FC-DA598F8C1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44D41-4C22-457D-80D6-40BDF9E8B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F37FA2-95DE-459B-A606-DC2D0B9D2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1A9658-EF32-455D-B625-D94446DB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FE9076-452F-4E74-9E8B-96262D518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552100-F0D5-45D2-92CE-A54A68E84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C6C4-A4C0-4AA6-81EA-3D90BF38A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D1B30A-12B9-4B46-9100-F4A0737F5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5AA8D7-76F2-4134-B661-FED1A6D8E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B9B2E4-2A89-448B-B2D0-BC504DDC0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2D023D-A95F-41D4-AA4D-95D7EF6A7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C4D14D-3B72-4BEF-A821-01BDCDBD6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3B6524-047E-4822-8B73-C1B536F5E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EEF8A5-4DFB-4584-B74B-FFC2CCE18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04CC48-2A81-4341-B5FB-539C31433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CA562B-B9AB-408C-BD12-2A5082823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5F9EC8-6F33-45F7-88D7-B8EF7E23B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63CF5-558C-40B1-97FF-E3A4DCB93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E99214-CF74-4C25-934B-9E200C610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5AD47E-03E8-478D-BA51-89DC4E559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FD015C-E57F-42DC-BB4F-610B394C3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4D39F0-CC97-4496-B064-AAF76B567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C6F900-404E-4550-87A7-D1A01E956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313191-09A1-49A3-BC3C-D76929955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490A81-4BFF-451B-B0AD-79A51501C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12E0AC-91EE-40A0-8F70-EF59250FB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9E9435-7866-499A-98B5-14B814BFA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2989AC-BB6B-40AC-83AC-89A18FF48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1BC1-07CC-4BCA-ADFA-C1465006F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92F626-59EB-440A-9129-E82D32338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818212-2237-4B48-8528-188A501D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5327E2-0637-4D28-ACBF-F2FEFB76F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8A5DDC-4886-42B3-A18B-E0FD84B74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9AF534-A91A-4FD1-A097-721151C8D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0FDCCD-C445-4AE2-849D-A6D443050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21B8F7-FC7E-4968-ADED-FC0B2FDCA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D26682-F5B1-45E3-A1FA-7FA2C095E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EDB802-D026-400B-80D2-875FCFB75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2114FF-DB2B-476B-8B96-9853FD69D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20AE-5E2A-4CC4-91CF-23115CA62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68331C-62FC-4F01-885F-A76C7634C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CC6647-0F12-4D3F-9857-7E2C13B2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3B2068-13EC-4D6D-91D0-8D8A1E107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0F849C-1BA2-42BC-A494-8C550D1B0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3ADFBE-7847-4591-95AD-4C5F8395D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62F57E-27F5-4C50-A7EA-003DABDE8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A188EF-63D6-426F-9BE8-DAA741937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E5EF91-A4CF-43FE-AC2F-077C3D81F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329D4D-EA4D-4688-AD18-10E35D727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E85A17-AC0B-4457-B32D-F8CE7130F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Přímá spojnice 6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1" name="Přímá spojnice 6" descr=""/>
            <p:cNvPicPr/>
            <p:nvPr/>
          </p:nvPicPr>
          <p:blipFill>
            <a:blip r:embed="rId2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2E9C9-69CC-4860-92A5-C78BAC45E208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Přímá spojnice 8"/>
          <p:cNvGrpSpPr/>
          <p:nvPr/>
        </p:nvGrpSpPr>
        <p:grpSpPr>
          <a:xfrm>
            <a:off x="512640" y="1042920"/>
            <a:ext cx="8631360" cy="17640"/>
            <a:chOff x="512640" y="1042920"/>
            <a:chExt cx="8631360" cy="17640"/>
          </a:xfrm>
        </p:grpSpPr>
        <p:pic>
          <p:nvPicPr>
            <p:cNvPr id="9" name="Přímá spojnice 8" descr=""/>
            <p:cNvPicPr/>
            <p:nvPr/>
          </p:nvPicPr>
          <p:blipFill>
            <a:blip r:embed="rId3"/>
            <a:stretch/>
          </p:blipFill>
          <p:spPr>
            <a:xfrm>
              <a:off x="512640" y="1042920"/>
              <a:ext cx="8631360" cy="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" name="Přímá spojnice 11"/>
          <p:cNvGrpSpPr/>
          <p:nvPr/>
        </p:nvGrpSpPr>
        <p:grpSpPr>
          <a:xfrm>
            <a:off x="512640" y="1054080"/>
            <a:ext cx="8631360" cy="12600"/>
            <a:chOff x="512640" y="1054080"/>
            <a:chExt cx="8631360" cy="12600"/>
          </a:xfrm>
        </p:grpSpPr>
        <p:pic>
          <p:nvPicPr>
            <p:cNvPr id="12" name="Přímá spojnice 11" descr=""/>
            <p:cNvPicPr/>
            <p:nvPr/>
          </p:nvPicPr>
          <p:blipFill>
            <a:blip r:embed="rId4"/>
            <a:stretch/>
          </p:blipFill>
          <p:spPr>
            <a:xfrm>
              <a:off x="512640" y="10540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 type="dt" idx="28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 type="ftr" idx="29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 type="sldNum" idx="30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A0E37-C7EC-4B7C-B991-48C5E55EDA48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dt" idx="3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 type="ftr" idx="3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 type="sldNum" idx="3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FF0F3-088D-4E03-A29E-7887B8F4FC95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3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3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36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D254F-7152-4575-BB57-907CC222D870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dt" idx="3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ftr" idx="38"/>
          </p:nvPr>
        </p:nvSpPr>
        <p:spPr>
          <a:xfrm>
            <a:off x="684000" y="6365880"/>
            <a:ext cx="4267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sldNum" idx="3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D4A88-36BA-4C27-8243-3CE909D3F40C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Přímá spojnice 12"/>
          <p:cNvGrpSpPr/>
          <p:nvPr/>
        </p:nvGrpSpPr>
        <p:grpSpPr>
          <a:xfrm>
            <a:off x="512640" y="5346720"/>
            <a:ext cx="8631360" cy="11160"/>
            <a:chOff x="512640" y="5346720"/>
            <a:chExt cx="8631360" cy="11160"/>
          </a:xfrm>
        </p:grpSpPr>
        <p:pic>
          <p:nvPicPr>
            <p:cNvPr id="51" name="Přímá spojnice 12" descr=""/>
            <p:cNvPicPr/>
            <p:nvPr/>
          </p:nvPicPr>
          <p:blipFill>
            <a:blip r:embed="rId2"/>
            <a:stretch/>
          </p:blipFill>
          <p:spPr>
            <a:xfrm>
              <a:off x="512640" y="534672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30F25-5E03-4184-91ED-D2530943AA46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B31EC-5B2B-411F-B2FE-F77C47482CC4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e3b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Přímá spojnice 12"/>
          <p:cNvGrpSpPr/>
          <p:nvPr/>
        </p:nvGrpSpPr>
        <p:grpSpPr>
          <a:xfrm>
            <a:off x="512640" y="3438360"/>
            <a:ext cx="8631360" cy="11160"/>
            <a:chOff x="512640" y="3438360"/>
            <a:chExt cx="8631360" cy="11160"/>
          </a:xfrm>
        </p:grpSpPr>
        <p:pic>
          <p:nvPicPr>
            <p:cNvPr id="136" name="Přímá spojnice 12" descr=""/>
            <p:cNvPicPr/>
            <p:nvPr/>
          </p:nvPicPr>
          <p:blipFill>
            <a:blip r:embed="rId2"/>
            <a:stretch/>
          </p:blipFill>
          <p:spPr>
            <a:xfrm>
              <a:off x="512640" y="34383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5F58B-27EC-4923-87F7-B459BFF0C71A}" type="slidenum">
              <a:rPr b="0" lang="cs-CZ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87DC0-EA2F-4D31-8D58-5A6CB42446DA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Přímá spojnice 12"/>
          <p:cNvGrpSpPr/>
          <p:nvPr/>
        </p:nvGrpSpPr>
        <p:grpSpPr>
          <a:xfrm>
            <a:off x="512640" y="6016680"/>
            <a:ext cx="8631360" cy="12600"/>
            <a:chOff x="512640" y="6016680"/>
            <a:chExt cx="8631360" cy="12600"/>
          </a:xfrm>
        </p:grpSpPr>
        <p:pic>
          <p:nvPicPr>
            <p:cNvPr id="221" name="Přímá spojnice 12" descr=""/>
            <p:cNvPicPr/>
            <p:nvPr/>
          </p:nvPicPr>
          <p:blipFill>
            <a:blip r:embed="rId2"/>
            <a:stretch/>
          </p:blipFill>
          <p:spPr>
            <a:xfrm>
              <a:off x="512640" y="6016680"/>
              <a:ext cx="8631360" cy="12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7975D-AE8B-47F0-8E47-D553DA282308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BA066-8746-45D4-8288-76B2A78BF204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4A664-BE0E-4E92-98AD-18C7AB3B910D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Přímá spojnice 12"/>
          <p:cNvGrpSpPr/>
          <p:nvPr/>
        </p:nvGrpSpPr>
        <p:grpSpPr>
          <a:xfrm>
            <a:off x="512640" y="5846760"/>
            <a:ext cx="8631360" cy="11160"/>
            <a:chOff x="512640" y="5846760"/>
            <a:chExt cx="8631360" cy="11160"/>
          </a:xfrm>
        </p:grpSpPr>
        <p:pic>
          <p:nvPicPr>
            <p:cNvPr id="347" name="Přímá spojnice 12" descr=""/>
            <p:cNvPicPr/>
            <p:nvPr/>
          </p:nvPicPr>
          <p:blipFill>
            <a:blip r:embed="rId2"/>
            <a:stretch/>
          </p:blipFill>
          <p:spPr>
            <a:xfrm>
              <a:off x="512640" y="5846760"/>
              <a:ext cx="8631360" cy="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8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4F193-58FE-4146-835E-14E7E00CE28B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Rectangle 4" descr=""/>
          <p:cNvPicPr/>
          <p:nvPr/>
        </p:nvPicPr>
        <p:blipFill>
          <a:blip r:embed="rId1"/>
          <a:stretch/>
        </p:blipFill>
        <p:spPr>
          <a:xfrm>
            <a:off x="493560" y="669960"/>
            <a:ext cx="7967880" cy="2762280"/>
          </a:xfrm>
          <a:prstGeom prst="rect">
            <a:avLst/>
          </a:prstGeom>
          <a:ln w="0">
            <a:noFill/>
          </a:ln>
        </p:spPr>
      </p:pic>
      <p:sp>
        <p:nvSpPr>
          <p:cNvPr id="562" name="Rectangle 8"/>
          <p:cNvSpPr/>
          <p:nvPr/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d38e27"/>
                </a:solidFill>
                <a:latin typeface="Times New Roman"/>
              </a:rPr>
              <a:t>Sopousek, L01_02 Chemická kineti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Rectangle 9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346F0-B83B-494C-AE60-1CDF337BC3CA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Zástupný symbol pro číslo snímku 6"/>
          <p:cNvSpPr/>
          <p:nvPr/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746E2-D0B9-491C-9D47-22E95B0E3546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4646520" y="19810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66" name="Nadpis 3" descr=""/>
          <p:cNvPicPr/>
          <p:nvPr/>
        </p:nvPicPr>
        <p:blipFill>
          <a:blip r:embed="rId1"/>
          <a:stretch/>
        </p:blipFill>
        <p:spPr>
          <a:xfrm>
            <a:off x="523800" y="500040"/>
            <a:ext cx="8400960" cy="85896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5" descr=""/>
          <p:cNvPicPr/>
          <p:nvPr/>
        </p:nvPicPr>
        <p:blipFill>
          <a:blip r:embed="rId2"/>
          <a:stretch/>
        </p:blipFill>
        <p:spPr>
          <a:xfrm>
            <a:off x="504720" y="1204920"/>
            <a:ext cx="7417080" cy="515448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6" descr=""/>
          <p:cNvPicPr/>
          <p:nvPr/>
        </p:nvPicPr>
        <p:blipFill>
          <a:blip r:embed="rId3"/>
          <a:stretch/>
        </p:blipFill>
        <p:spPr>
          <a:xfrm>
            <a:off x="826920" y="6148440"/>
            <a:ext cx="628668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71" name="Zástupný symbol pro číslo snímku 5"/>
          <p:cNvSpPr/>
          <p:nvPr/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B4A70-A1D9-4277-A7B0-610D1876DE9C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73" name="Zástupný symbol pro číslo snímku 4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CA86B-5FFC-467A-82C3-FB37F12B0E30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Zástupný symbol pro číslo snímku 3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EA579-6FA3-413E-924F-41CA722C991B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opousek</cp:lastModifiedBy>
  <dcterms:modified xsi:type="dcterms:W3CDTF">2013-03-18T13:00:26Z</dcterms:modified>
  <cp:revision>17</cp:revision>
  <dc:subject/>
  <dc:title>Prezentace aplikace PowerPoint</dc:title>
</cp:coreProperties>
</file>