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41C9-B60E-4934-BB37-F22587BAD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9A8F-AC89-41CA-BFE9-146C1491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05BF-35CD-45E0-BB20-90F316C55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E269D-960C-407D-A1E4-6C512D0FD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65D0-5DBE-433F-96BD-1DF143C5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7E9B-1AAF-40E1-8E09-C7C9244F7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3BEAD-9905-46E5-8529-185C6F445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0C9EA-5853-46D3-AA32-DD814135B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DD65-71F8-438D-B06C-B5477A630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AE163-E22F-4260-BAF7-FD3E0627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A78E-14A9-4211-B2ED-DEA769C0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480B-E54D-4C53-A14C-6973C086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546B-440F-46DF-B69D-ED5FDA59D82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Reakční schémata neelamentárních reakc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333360" y="119160"/>
            <a:ext cx="8477280" cy="661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2"/>
          <a:stretch/>
        </p:blipFill>
        <p:spPr>
          <a:xfrm>
            <a:off x="1116000" y="765000"/>
            <a:ext cx="670572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42920" y="404640"/>
            <a:ext cx="8858160" cy="38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372520" cy="153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1658880" y="2060640"/>
            <a:ext cx="579132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1370160" y="3500280"/>
            <a:ext cx="633384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971640" y="333360"/>
            <a:ext cx="7065720" cy="4686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3348000" y="5157720"/>
            <a:ext cx="4229280" cy="1400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"/>
          <p:cNvPicPr/>
          <p:nvPr/>
        </p:nvPicPr>
        <p:blipFill>
          <a:blip r:embed="rId3"/>
          <a:stretch/>
        </p:blipFill>
        <p:spPr>
          <a:xfrm>
            <a:off x="1619280" y="5543640"/>
            <a:ext cx="14097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47840" y="476280"/>
            <a:ext cx="8248320" cy="1638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23720" y="2781360"/>
            <a:ext cx="8258400" cy="847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"/>
          <p:cNvPicPr/>
          <p:nvPr/>
        </p:nvPicPr>
        <p:blipFill>
          <a:blip r:embed="rId3"/>
          <a:stretch/>
        </p:blipFill>
        <p:spPr>
          <a:xfrm>
            <a:off x="318960" y="4062240"/>
            <a:ext cx="850608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252360" y="1528920"/>
            <a:ext cx="8639280" cy="38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6581880" cy="1295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468360" y="1916280"/>
            <a:ext cx="7981920" cy="4005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3"/>
          <a:stretch/>
        </p:blipFill>
        <p:spPr>
          <a:xfrm>
            <a:off x="1332000" y="5937120"/>
            <a:ext cx="1562040" cy="762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4"/>
          <a:stretch/>
        </p:blipFill>
        <p:spPr>
          <a:xfrm>
            <a:off x="2987640" y="5823000"/>
            <a:ext cx="21430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1258920" y="260280"/>
            <a:ext cx="6726240" cy="638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820000" cy="2238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284040" y="2781360"/>
            <a:ext cx="86583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6T11:57:59Z</dcterms:created>
  <dc:creator>sopousek</dc:creator>
  <dc:description/>
  <dc:language>en-US</dc:language>
  <cp:lastModifiedBy>sopousek</cp:lastModifiedBy>
  <dcterms:modified xsi:type="dcterms:W3CDTF">2015-03-16T12:19:02Z</dcterms:modified>
  <cp:revision>4</cp:revision>
  <dc:subject/>
  <dc:title>Reakční schémata neelamentárních reakcí</dc:title>
</cp:coreProperties>
</file>