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13.png" ContentType="image/png"/>
  <Override PartName="/ppt/media/image40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3.jpeg" ContentType="image/jpeg"/>
  <Override PartName="/ppt/media/image44.png" ContentType="image/png"/>
  <Override PartName="/ppt/media/image45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2FC0-F919-4F03-B33A-3899405E0B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E723-E5DB-4EAF-9F15-EDFE4A6053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FFD-668B-4F13-B5EE-34919ECA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5C7-D586-4E2C-B307-6C24EC85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25A-5ACB-4454-8114-31D0DA8C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5BD-87FC-4BF7-B0E0-DEEB243F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43C6-1892-47B0-B4FA-6BBC2647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497B-84BD-4BF2-B8A2-E7C0785A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D59A-02D5-4ECB-AC46-806356FE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4248-6141-4EB2-A0E6-A56A3D88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9F52-215D-4DCD-8EBA-5AB3765D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5D69-BC51-4510-985F-028E79FC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EB7E-9D74-41DA-91CB-7AD0A6A3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133-B749-4F2A-825F-E4DF629B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0EFF-2281-4883-87E9-E92504F8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4A29-C835-4C8B-A1F3-2412AD5D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F54A-098E-40F4-9764-8F464450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C8B2-9C13-4454-8AD5-0C06FEA3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D505-1EA5-4B4D-AE5C-36E1CB6C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49CE2-0DE9-48A7-97A5-B5565A07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24D2-DBD8-439B-A350-F832EF13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6CA9-04D3-4830-957E-E777D6A7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985F-B367-475C-AEB1-CC546AD3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2079-E278-463C-B50C-0995A58D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AA3-0DFC-4E52-BE8C-707756FD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CAB8-1395-42AB-8A90-CF490F7B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54F5-BC3E-41BE-98D1-AFA34E8B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B8D8-CBF5-4BB2-B058-24009C1D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1B3D2-6B54-440A-8C38-A17265A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23D0F-B8C5-41DE-A29D-10F230FE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80E2-2CCE-4778-B1B3-F0103375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3BBCC-F84D-4E4D-8367-A573A97E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682-5810-4533-AE1B-710E73EF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145-75A1-476C-90F1-28D01561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FA6-D7ED-4A4D-926D-B0B76409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D26-F392-46C7-8075-437D7B14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40D-C765-4302-9F99-AB801A70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29E-56FB-4A06-BF36-2E94E67F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E790-3B04-42AA-9A30-9EA8B53C944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4961-27E9-4774-8D3C-C3220D4BEFA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FFE1-C992-4543-A69B-1E4EDA6AA81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Elektrodová kinet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1D37-0387-4E10-B979-4C6CC65CA06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http://www.cartage.org.lb/en/themes/Sciences/Chemistry/Electrochemis/Electrochemical/ElectrodeKinetics/kinfig1.gif"/>
          <p:cNvPicPr/>
          <p:nvPr/>
        </p:nvPicPr>
        <p:blipFill>
          <a:blip r:embed="rId1"/>
          <a:stretch/>
        </p:blipFill>
        <p:spPr>
          <a:xfrm>
            <a:off x="395280" y="3213000"/>
            <a:ext cx="3809880" cy="287676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1"/>
          <p:cNvSpPr/>
          <p:nvPr/>
        </p:nvSpPr>
        <p:spPr>
          <a:xfrm>
            <a:off x="684360" y="5951520"/>
            <a:ext cx="58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cartage.org.lb/en/themes/Sciences/Chemistry/Electrochemis/mainpag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1926-9BA8-4B33-991D-416118855EA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bdélník 3"/>
          <p:cNvSpPr/>
          <p:nvPr/>
        </p:nvSpPr>
        <p:spPr>
          <a:xfrm>
            <a:off x="900000" y="58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individual.utoronto.ca/sadeghi/electrochemical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http://individual.utoronto.ca/sadeghi/electrochemical_files/image086.jpg"/>
          <p:cNvPicPr/>
          <p:nvPr/>
        </p:nvPicPr>
        <p:blipFill>
          <a:blip r:embed="rId1"/>
          <a:stretch/>
        </p:blipFill>
        <p:spPr>
          <a:xfrm>
            <a:off x="112680" y="2421000"/>
            <a:ext cx="3657600" cy="3085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ttp://individual.utoronto.ca/sadeghi/electrochemical_files/image100.jpg"/>
          <p:cNvPicPr/>
          <p:nvPr/>
        </p:nvPicPr>
        <p:blipFill>
          <a:blip r:embed="rId2"/>
          <a:stretch/>
        </p:blipFill>
        <p:spPr>
          <a:xfrm>
            <a:off x="4211640" y="2347920"/>
            <a:ext cx="43099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radeův a kapacitní prou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528F-67C8-45FD-AB88-29372B6C3BB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http://www.felixmay.com/ESB/images/electrode-electrolyte-inter.gif"/>
          <p:cNvPicPr/>
          <p:nvPr/>
        </p:nvPicPr>
        <p:blipFill>
          <a:blip r:embed="rId1"/>
          <a:stretch/>
        </p:blipFill>
        <p:spPr>
          <a:xfrm>
            <a:off x="360360" y="1341360"/>
            <a:ext cx="4326120" cy="3632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www.seas.ucla.edu/~pilon/images/supercapacitors/CV%20Schematic.png"/>
          <p:cNvPicPr/>
          <p:nvPr/>
        </p:nvPicPr>
        <p:blipFill>
          <a:blip r:embed="rId2"/>
          <a:stretch/>
        </p:blipFill>
        <p:spPr>
          <a:xfrm>
            <a:off x="4981680" y="1312920"/>
            <a:ext cx="351000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Obdélník 3"/>
          <p:cNvSpPr/>
          <p:nvPr/>
        </p:nvSpPr>
        <p:spPr>
          <a:xfrm>
            <a:off x="237960" y="6381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seas.ucla.edu/~pilon/CV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oze a pasiva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E294-29A9-48E9-B05C-1B3D435839C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bdélník 3"/>
          <p:cNvSpPr/>
          <p:nvPr/>
        </p:nvSpPr>
        <p:spPr>
          <a:xfrm>
            <a:off x="395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jhamernik.sweb.cz/Koroz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http://jhamernik.sweb.cz/Koroze_soubory/image009.gif"/>
          <p:cNvPicPr/>
          <p:nvPr/>
        </p:nvPicPr>
        <p:blipFill>
          <a:blip r:embed="rId1"/>
          <a:stretch/>
        </p:blipFill>
        <p:spPr>
          <a:xfrm>
            <a:off x="324000" y="4232160"/>
            <a:ext cx="2705040" cy="163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http://jhamernik.sweb.cz/Koroze_soubory/image005.gif"/>
          <p:cNvPicPr/>
          <p:nvPr/>
        </p:nvPicPr>
        <p:blipFill>
          <a:blip r:embed="rId2"/>
          <a:stretch/>
        </p:blipFill>
        <p:spPr>
          <a:xfrm>
            <a:off x="6215040" y="1484280"/>
            <a:ext cx="2085840" cy="876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jhamernik.sweb.cz/Koroze_soubory/image008.gif"/>
          <p:cNvPicPr/>
          <p:nvPr/>
        </p:nvPicPr>
        <p:blipFill>
          <a:blip r:embed="rId3"/>
          <a:stretch/>
        </p:blipFill>
        <p:spPr>
          <a:xfrm>
            <a:off x="6315120" y="2612880"/>
            <a:ext cx="1990800" cy="66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http://2012books.lardbucket.org/books/general-chemistry-principles-patterns-and-applications-v1.0/section_23/28f7e127eabcc9de2916eefc451f6e03.jpg"/>
          <p:cNvPicPr/>
          <p:nvPr/>
        </p:nvPicPr>
        <p:blipFill>
          <a:blip r:embed="rId4"/>
          <a:stretch/>
        </p:blipFill>
        <p:spPr>
          <a:xfrm>
            <a:off x="412920" y="1197000"/>
            <a:ext cx="4748040" cy="2898720"/>
          </a:xfrm>
          <a:prstGeom prst="rect">
            <a:avLst/>
          </a:prstGeom>
          <a:ln w="0">
            <a:noFill/>
          </a:ln>
        </p:spPr>
      </p:pic>
      <p:sp>
        <p:nvSpPr>
          <p:cNvPr id="235" name="Obdélník 4"/>
          <p:cNvSpPr/>
          <p:nvPr/>
        </p:nvSpPr>
        <p:spPr>
          <a:xfrm>
            <a:off x="425520" y="6534000"/>
            <a:ext cx="789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2012books.lardbucket.org/books/general-chemistry-principles-patterns-and-applications-v1.0/section_23_06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z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6FD4-A1BD-43EF-B3BD-AFED4C1362F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electronicdesign.com/files/29/17465/figure_01.jpg"/>
          <p:cNvPicPr/>
          <p:nvPr/>
        </p:nvPicPr>
        <p:blipFill>
          <a:blip r:embed="rId1"/>
          <a:stretch/>
        </p:blipFill>
        <p:spPr>
          <a:xfrm>
            <a:off x="390600" y="2133720"/>
            <a:ext cx="6057720" cy="37335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3"/>
          <p:cNvSpPr/>
          <p:nvPr/>
        </p:nvSpPr>
        <p:spPr>
          <a:xfrm>
            <a:off x="548280" y="14130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perkapac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bdélník 4"/>
          <p:cNvSpPr/>
          <p:nvPr/>
        </p:nvSpPr>
        <p:spPr>
          <a:xfrm>
            <a:off x="539640" y="6093000"/>
            <a:ext cx="63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seas.ucla.edu/~pilon/CV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http://www.seas.ucla.edu/~pilon/images/supercapacitors/Power%20vs%20Energy.png"/>
          <p:cNvPicPr/>
          <p:nvPr/>
        </p:nvPicPr>
        <p:blipFill>
          <a:blip r:embed="rId2"/>
          <a:stretch/>
        </p:blipFill>
        <p:spPr>
          <a:xfrm>
            <a:off x="5364000" y="217440"/>
            <a:ext cx="33228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1490-5918-4A82-AA51-C5165984E17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8" descr="http://www.meta-synthesis.com/webbook/24_complexity/transfer.jpg"/>
          <p:cNvPicPr/>
          <p:nvPr/>
        </p:nvPicPr>
        <p:blipFill>
          <a:blip r:embed="rId1"/>
          <a:stretch/>
        </p:blipFill>
        <p:spPr>
          <a:xfrm>
            <a:off x="3112920" y="3035160"/>
            <a:ext cx="5848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pojmy elektroche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C67F-BA26-4D03-8405-20091C58011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395280" y="1589040"/>
            <a:ext cx="85424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Standardní elektrodové potenciál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8722-862A-43E5-A6DB-26B8C873959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3995640" y="189000"/>
            <a:ext cx="4691160" cy="666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www.wikiskripta.eu/images/math/9/9/8/998917d6e26a4a6dc77d850dde8cc27d.png"/>
          <p:cNvPicPr/>
          <p:nvPr/>
        </p:nvPicPr>
        <p:blipFill>
          <a:blip r:embed="rId2"/>
          <a:stretch/>
        </p:blipFill>
        <p:spPr>
          <a:xfrm>
            <a:off x="395280" y="5084640"/>
            <a:ext cx="3240000" cy="312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http://individual.utoronto.ca/sadeghi/electrochemical_files/image006.jpg"/>
          <p:cNvPicPr/>
          <p:nvPr/>
        </p:nvPicPr>
        <p:blipFill>
          <a:blip r:embed="rId3"/>
          <a:stretch/>
        </p:blipFill>
        <p:spPr>
          <a:xfrm>
            <a:off x="549360" y="2637000"/>
            <a:ext cx="3085920" cy="2057400"/>
          </a:xfrm>
          <a:prstGeom prst="rect">
            <a:avLst/>
          </a:prstGeom>
          <a:ln w="0">
            <a:noFill/>
          </a:ln>
        </p:spPr>
      </p:pic>
      <p:sp>
        <p:nvSpPr>
          <p:cNvPr id="143" name="TextovéPole 1"/>
          <p:cNvSpPr/>
          <p:nvPr/>
        </p:nvSpPr>
        <p:spPr>
          <a:xfrm>
            <a:off x="395280" y="2060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rnstova-Petersova rovnic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ovéPole 1"/>
          <p:cNvSpPr/>
          <p:nvPr/>
        </p:nvSpPr>
        <p:spPr>
          <a:xfrm>
            <a:off x="395280" y="5732640"/>
            <a:ext cx="3240000" cy="825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á se stacionárn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Energie elektronu v kovech a roztocí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BCB3-43FD-4861-AD10-D83FBE9B61A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http://www.cartage.org.lb/en/themes/Sciences/Chemistry/Electrochemis/Electrochemical/ElectrodeKinetics/fermi1.gif"/>
          <p:cNvPicPr/>
          <p:nvPr/>
        </p:nvPicPr>
        <p:blipFill>
          <a:blip r:embed="rId1"/>
          <a:stretch/>
        </p:blipFill>
        <p:spPr>
          <a:xfrm>
            <a:off x="395280" y="2417760"/>
            <a:ext cx="4762440" cy="164772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4"/>
          <p:cNvSpPr/>
          <p:nvPr/>
        </p:nvSpPr>
        <p:spPr>
          <a:xfrm>
            <a:off x="395280" y="134136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Chování elektronů v kovech snadno porozumíne uvážíme li Fermiho hladinu. Elektrony v kovech obsazují hladivy, které se těsně překrývají a vytváří pásy. Nejvyšší hladina je Fermiho. Tuto hladinu můžeme měnit připojením k vnějšímu potenciálu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www.cartage.org.lb/en/themes/Sciences/Chemistry/Electrochemis/Electrochemical/ElectrodeKinetics/fermi2.gif"/>
          <p:cNvPicPr/>
          <p:nvPr/>
        </p:nvPicPr>
        <p:blipFill>
          <a:blip r:embed="rId2"/>
          <a:stretch/>
        </p:blipFill>
        <p:spPr>
          <a:xfrm>
            <a:off x="291960" y="4724280"/>
            <a:ext cx="4970520" cy="172080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5"/>
          <p:cNvSpPr/>
          <p:nvPr/>
        </p:nvSpPr>
        <p:spPr>
          <a:xfrm>
            <a:off x="565200" y="4065480"/>
            <a:ext cx="41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Chování  molekul a iontů v roztocích je jin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ovéPole 6"/>
          <p:cNvSpPr/>
          <p:nvPr/>
        </p:nvSpPr>
        <p:spPr>
          <a:xfrm>
            <a:off x="5724360" y="400860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lektronu se pak přemísťují do místa s nižším potenciá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Šipka doprava 8"/>
          <p:cNvSpPr/>
          <p:nvPr/>
        </p:nvSpPr>
        <p:spPr>
          <a:xfrm>
            <a:off x="4599000" y="4916520"/>
            <a:ext cx="185760" cy="16812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Šipka doprava 11"/>
          <p:cNvSpPr/>
          <p:nvPr/>
        </p:nvSpPr>
        <p:spPr>
          <a:xfrm>
            <a:off x="2268360" y="5300640"/>
            <a:ext cx="184320" cy="16992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římá spojnice 12"/>
          <p:cNvSpPr/>
          <p:nvPr/>
        </p:nvSpPr>
        <p:spPr>
          <a:xfrm flipH="1">
            <a:off x="2238480" y="5221440"/>
            <a:ext cx="185760" cy="330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římá spojnice 14"/>
          <p:cNvSpPr/>
          <p:nvPr/>
        </p:nvSpPr>
        <p:spPr>
          <a:xfrm>
            <a:off x="2225520" y="5278320"/>
            <a:ext cx="18432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ovéPole 15"/>
          <p:cNvSpPr/>
          <p:nvPr/>
        </p:nvSpPr>
        <p:spPr>
          <a:xfrm>
            <a:off x="5737320" y="4978440"/>
            <a:ext cx="2879640" cy="824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ochází tak k přenosu elektronů dokuď se neustaví  rovnová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www.cartage.org.lb/en/themes/Sciences/Chemistry/Electrochemis/Electrochemical/ElectrodeKinetics/eq1elec.gif"/>
          <p:cNvPicPr/>
          <p:nvPr/>
        </p:nvPicPr>
        <p:blipFill>
          <a:blip r:embed="rId3"/>
          <a:stretch/>
        </p:blipFill>
        <p:spPr>
          <a:xfrm>
            <a:off x="6060960" y="5932440"/>
            <a:ext cx="19908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dely rozhraní s přenosem elektrického náb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E279-23A6-4DEE-B8E4-C63278EDA43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ovéPole 3"/>
          <p:cNvSpPr/>
          <p:nvPr/>
        </p:nvSpPr>
        <p:spPr>
          <a:xfrm>
            <a:off x="395280" y="1268280"/>
            <a:ext cx="2016000" cy="3373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Helmholz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14360" y="1700280"/>
            <a:ext cx="1493640" cy="3368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299880" y="5229360"/>
            <a:ext cx="1978200" cy="123192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7"/>
          <p:cNvSpPr/>
          <p:nvPr/>
        </p:nvSpPr>
        <p:spPr>
          <a:xfrm>
            <a:off x="3203640" y="1268280"/>
            <a:ext cx="2016000" cy="3373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Gouyon_Chap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ovéPole 8"/>
          <p:cNvSpPr/>
          <p:nvPr/>
        </p:nvSpPr>
        <p:spPr>
          <a:xfrm>
            <a:off x="6300720" y="1268280"/>
            <a:ext cx="2016360" cy="3373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2917800" y="1773360"/>
            <a:ext cx="2589120" cy="2963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4"/>
          <a:stretch/>
        </p:blipFill>
        <p:spPr>
          <a:xfrm>
            <a:off x="2814480" y="4873680"/>
            <a:ext cx="2333880" cy="11509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4"/>
          <p:cNvSpPr/>
          <p:nvPr/>
        </p:nvSpPr>
        <p:spPr>
          <a:xfrm>
            <a:off x="2627280" y="616572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Uvažuje narušování dvojvrstvy tepelným pohyb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ovéPole 13"/>
          <p:cNvSpPr/>
          <p:nvPr/>
        </p:nvSpPr>
        <p:spPr>
          <a:xfrm>
            <a:off x="6084720" y="19890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Kombinace Obou model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ovéPole 14"/>
          <p:cNvSpPr/>
          <p:nvPr/>
        </p:nvSpPr>
        <p:spPr>
          <a:xfrm>
            <a:off x="6232680" y="2708280"/>
            <a:ext cx="2016000" cy="8240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ávislost potenciálu na vzdálenosti od el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6084720" y="3770280"/>
            <a:ext cx="23022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Elektronová dvojvrstva a difúzní vrst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5C64-5BD4-4088-A552-5D3A7A49C98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http://wandlowski.dcb.unibe.ch/research/edl/edl_big.png"/>
          <p:cNvPicPr/>
          <p:nvPr/>
        </p:nvPicPr>
        <p:blipFill>
          <a:blip r:embed="rId1"/>
          <a:stretch/>
        </p:blipFill>
        <p:spPr>
          <a:xfrm>
            <a:off x="1187280" y="1484280"/>
            <a:ext cx="3672000" cy="472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http://www.electronicproducts.com/images2/facm_illinois_cap_fig2_oct-copy.gif"/>
          <p:cNvPicPr/>
          <p:nvPr/>
        </p:nvPicPr>
        <p:blipFill>
          <a:blip r:embed="rId2"/>
          <a:stretch/>
        </p:blipFill>
        <p:spPr>
          <a:xfrm>
            <a:off x="5076720" y="4005360"/>
            <a:ext cx="3810240" cy="2095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http://individual.utoronto.ca/sadeghi/electrochemical_files/image056.jpg"/>
          <p:cNvPicPr/>
          <p:nvPr/>
        </p:nvPicPr>
        <p:blipFill>
          <a:blip r:embed="rId3"/>
          <a:stretch/>
        </p:blipFill>
        <p:spPr>
          <a:xfrm>
            <a:off x="5403960" y="1341360"/>
            <a:ext cx="33210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22FD-B2FC-4A1C-A24F-8B3E85375CB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9" descr="http://2012books.lardbucket.org/books/general-chemistry-principles-patterns-and-applications-v1.0/section_23/b45fb1f467be4a8e28df94c7d3af4503.jpg"/>
          <p:cNvPicPr/>
          <p:nvPr/>
        </p:nvPicPr>
        <p:blipFill>
          <a:blip r:embed="rId1"/>
          <a:stretch/>
        </p:blipFill>
        <p:spPr>
          <a:xfrm>
            <a:off x="539640" y="981000"/>
            <a:ext cx="7694640" cy="4103640"/>
          </a:xfrm>
          <a:prstGeom prst="rect">
            <a:avLst/>
          </a:prstGeom>
          <a:ln w="0">
            <a:noFill/>
          </a:ln>
        </p:spPr>
      </p:pic>
      <p:sp>
        <p:nvSpPr>
          <p:cNvPr id="178" name="TextovéPole 1"/>
          <p:cNvSpPr/>
          <p:nvPr/>
        </p:nvSpPr>
        <p:spPr>
          <a:xfrm>
            <a:off x="1051200" y="26028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lektrický člá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bdélník 3"/>
          <p:cNvSpPr/>
          <p:nvPr/>
        </p:nvSpPr>
        <p:spPr>
          <a:xfrm>
            <a:off x="566640" y="5299200"/>
            <a:ext cx="78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2012books.lardbucket.org/books/general-chemistry-principles-patterns-and-applications-v1.0/section_23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ychlost přenosu elektronu na el. dvojvrstv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4A82-C07E-4CB8-B0A8-37023BACA39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http://www.cartage.org.lb/en/themes/Sciences/Chemistry/Electrochemis/Electrochemical/ElectrodeKinetics/eq1elec.gif"/>
          <p:cNvPicPr/>
          <p:nvPr/>
        </p:nvPicPr>
        <p:blipFill>
          <a:blip r:embed="rId1"/>
          <a:stretch/>
        </p:blipFill>
        <p:spPr>
          <a:xfrm>
            <a:off x="684360" y="1557360"/>
            <a:ext cx="1990440" cy="295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cartage.org.lb/en/themes/Sciences/Chemistry/Electrochemis/Electrochemical/ElectrodeKinetics/eq3elec.gif"/>
          <p:cNvPicPr/>
          <p:nvPr/>
        </p:nvPicPr>
        <p:blipFill>
          <a:blip r:embed="rId2"/>
          <a:stretch/>
        </p:blipFill>
        <p:spPr>
          <a:xfrm>
            <a:off x="573120" y="2455920"/>
            <a:ext cx="4048200" cy="237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individual.utoronto.ca/sadeghi/electrochemical_files/image008.gif"/>
          <p:cNvPicPr/>
          <p:nvPr/>
        </p:nvPicPr>
        <p:blipFill>
          <a:blip r:embed="rId3"/>
          <a:stretch/>
        </p:blipFill>
        <p:spPr>
          <a:xfrm>
            <a:off x="3492360" y="1436760"/>
            <a:ext cx="1752840" cy="36180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4"/>
          <p:cNvSpPr/>
          <p:nvPr/>
        </p:nvSpPr>
        <p:spPr>
          <a:xfrm>
            <a:off x="5580000" y="1508040"/>
            <a:ext cx="3348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…koncentrace na povrchu eldy. (konc. Elektronů jako by zahrnuta do konsta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ovéPole 5"/>
          <p:cNvSpPr/>
          <p:nvPr/>
        </p:nvSpPr>
        <p:spPr>
          <a:xfrm>
            <a:off x="3903480" y="1909800"/>
            <a:ext cx="93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ol s</a:t>
            </a:r>
            <a:r>
              <a:rPr b="0" lang="cs-CZ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cs-CZ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bdélník 6"/>
          <p:cNvSpPr/>
          <p:nvPr/>
        </p:nvSpPr>
        <p:spPr>
          <a:xfrm>
            <a:off x="395280" y="2779560"/>
            <a:ext cx="558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le teorie přechodného stavu platí pro rychlostní konstanty předpokl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http://chemwiki.ucdavis.edu/@api/deki/files/6482/=Example_Reaction_Profile_Modified.jpg"/>
          <p:cNvPicPr/>
          <p:nvPr/>
        </p:nvPicPr>
        <p:blipFill>
          <a:blip r:embed="rId4"/>
          <a:stretch/>
        </p:blipFill>
        <p:spPr>
          <a:xfrm>
            <a:off x="6084720" y="2414520"/>
            <a:ext cx="2908440" cy="234792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3"/>
          <p:cNvSpPr/>
          <p:nvPr/>
        </p:nvSpPr>
        <p:spPr>
          <a:xfrm>
            <a:off x="2203560" y="3230640"/>
            <a:ext cx="356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rotože je energie přech. stavu ovlivněna i rozdílem vůči rovnovážnému potenciál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bdélník 7"/>
          <p:cNvSpPr/>
          <p:nvPr/>
        </p:nvSpPr>
        <p:spPr>
          <a:xfrm>
            <a:off x="4500720" y="4057560"/>
            <a:ext cx="18223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anodický a katodický koeficient přenosu (citlivost na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1" descr="http://individual.utoronto.ca/sadeghi/electrochemical_files/image016.gif"/>
          <p:cNvPicPr/>
          <p:nvPr/>
        </p:nvPicPr>
        <p:blipFill>
          <a:blip r:embed="rId5"/>
          <a:stretch/>
        </p:blipFill>
        <p:spPr>
          <a:xfrm>
            <a:off x="620640" y="4478400"/>
            <a:ext cx="2104920" cy="228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3" descr="http://individual.utoronto.ca/sadeghi/electrochemical_files/image010.gif"/>
          <p:cNvPicPr/>
          <p:nvPr/>
        </p:nvPicPr>
        <p:blipFill>
          <a:blip r:embed="rId6"/>
          <a:stretch/>
        </p:blipFill>
        <p:spPr>
          <a:xfrm>
            <a:off x="463680" y="3378240"/>
            <a:ext cx="1476360" cy="420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ttp://individual.utoronto.ca/sadeghi/electrochemical_files/image012.gif"/>
          <p:cNvPicPr/>
          <p:nvPr/>
        </p:nvPicPr>
        <p:blipFill>
          <a:blip r:embed="rId7"/>
          <a:stretch/>
        </p:blipFill>
        <p:spPr>
          <a:xfrm>
            <a:off x="482760" y="3798720"/>
            <a:ext cx="1523880" cy="419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http://individual.utoronto.ca/sadeghi/electrochemical_files/image018.gif"/>
          <p:cNvPicPr/>
          <p:nvPr/>
        </p:nvPicPr>
        <p:blipFill>
          <a:blip r:embed="rId8"/>
          <a:stretch/>
        </p:blipFill>
        <p:spPr>
          <a:xfrm>
            <a:off x="3168720" y="4230720"/>
            <a:ext cx="1104840" cy="49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http://individual.utoronto.ca/sadeghi/electrochemical_files/image022.gif"/>
          <p:cNvPicPr/>
          <p:nvPr/>
        </p:nvPicPr>
        <p:blipFill>
          <a:blip r:embed="rId9"/>
          <a:stretch/>
        </p:blipFill>
        <p:spPr>
          <a:xfrm>
            <a:off x="573120" y="4853160"/>
            <a:ext cx="2200320" cy="228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1" descr="http://individual.utoronto.ca/sadeghi/electrochemical_files/image024.gif"/>
          <p:cNvPicPr/>
          <p:nvPr/>
        </p:nvPicPr>
        <p:blipFill>
          <a:blip r:embed="rId10"/>
          <a:stretch/>
        </p:blipFill>
        <p:spPr>
          <a:xfrm>
            <a:off x="3168720" y="4762440"/>
            <a:ext cx="1152360" cy="495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3" descr="http://individual.utoronto.ca/sadeghi/electrochemical_files/image028.gif"/>
          <p:cNvPicPr/>
          <p:nvPr/>
        </p:nvPicPr>
        <p:blipFill>
          <a:blip r:embed="rId11"/>
          <a:stretch/>
        </p:blipFill>
        <p:spPr>
          <a:xfrm>
            <a:off x="6875640" y="5057640"/>
            <a:ext cx="599760" cy="200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7" descr="http://individual.utoronto.ca/sadeghi/electrochemical_files/image032.gif"/>
          <p:cNvPicPr/>
          <p:nvPr/>
        </p:nvPicPr>
        <p:blipFill>
          <a:blip r:embed="rId12"/>
          <a:stretch/>
        </p:blipFill>
        <p:spPr>
          <a:xfrm>
            <a:off x="622440" y="5877000"/>
            <a:ext cx="3619440" cy="390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9" descr="http://individual.utoronto.ca/sadeghi/electrochemical_files/image036.gif"/>
          <p:cNvPicPr/>
          <p:nvPr/>
        </p:nvPicPr>
        <p:blipFill>
          <a:blip r:embed="rId13"/>
          <a:stretch/>
        </p:blipFill>
        <p:spPr>
          <a:xfrm>
            <a:off x="5356080" y="5732640"/>
            <a:ext cx="1457640" cy="430200"/>
          </a:xfrm>
          <a:prstGeom prst="rect">
            <a:avLst/>
          </a:prstGeom>
          <a:ln w="0">
            <a:noFill/>
          </a:ln>
        </p:spPr>
      </p:pic>
      <p:sp>
        <p:nvSpPr>
          <p:cNvPr id="200" name="Obdélník 6"/>
          <p:cNvSpPr/>
          <p:nvPr/>
        </p:nvSpPr>
        <p:spPr>
          <a:xfrm>
            <a:off x="4511520" y="58737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k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bdélník 3"/>
          <p:cNvSpPr/>
          <p:nvPr/>
        </p:nvSpPr>
        <p:spPr>
          <a:xfrm>
            <a:off x="146160" y="6453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individual.utoronto.ca/sadeghi/electrochemical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1" descr="http://individual.utoronto.ca/sadeghi/electrochemical_files/image038.gif"/>
          <p:cNvPicPr/>
          <p:nvPr/>
        </p:nvPicPr>
        <p:blipFill>
          <a:blip r:embed="rId14"/>
          <a:stretch/>
        </p:blipFill>
        <p:spPr>
          <a:xfrm>
            <a:off x="7596360" y="5762520"/>
            <a:ext cx="685800" cy="228600"/>
          </a:xfrm>
          <a:prstGeom prst="rect">
            <a:avLst/>
          </a:prstGeom>
          <a:ln w="0">
            <a:noFill/>
          </a:ln>
        </p:spPr>
      </p:pic>
      <p:sp>
        <p:nvSpPr>
          <p:cNvPr id="203" name="Obdélník 6"/>
          <p:cNvSpPr/>
          <p:nvPr/>
        </p:nvSpPr>
        <p:spPr>
          <a:xfrm>
            <a:off x="7475400" y="594828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řepět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ovéPole 3"/>
          <p:cNvSpPr/>
          <p:nvPr/>
        </p:nvSpPr>
        <p:spPr>
          <a:xfrm>
            <a:off x="395280" y="192420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becně: i=nFA.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CBDD-2EDF-4187-A7CE-EECE0B89076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bdélník 3"/>
          <p:cNvSpPr/>
          <p:nvPr/>
        </p:nvSpPr>
        <p:spPr>
          <a:xfrm>
            <a:off x="208800" y="2657520"/>
            <a:ext cx="67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jednodušená Butler-Volmer rovnice  pro dokonalé míchanou dvojvrstv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" descr="http://www.cartage.org.lb/en/themes/Sciences/Chemistry/Electrochemis/Electrochemical/ElectrodeKinetics/eq7elec.gif"/>
          <p:cNvPicPr/>
          <p:nvPr/>
        </p:nvPicPr>
        <p:blipFill>
          <a:blip r:embed="rId1"/>
          <a:stretch/>
        </p:blipFill>
        <p:spPr>
          <a:xfrm>
            <a:off x="539640" y="3105000"/>
            <a:ext cx="3505320" cy="64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http://www.cartage.org.lb/en/themes/Sciences/Chemistry/Electrochemis/Electrochemical/ElectrodeKinetics/kinfig1.gif"/>
          <p:cNvPicPr/>
          <p:nvPr/>
        </p:nvPicPr>
        <p:blipFill>
          <a:blip r:embed="rId2"/>
          <a:stretch/>
        </p:blipFill>
        <p:spPr>
          <a:xfrm>
            <a:off x="5329080" y="2754360"/>
            <a:ext cx="3810240" cy="287640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3"/>
          <p:cNvSpPr/>
          <p:nvPr/>
        </p:nvSpPr>
        <p:spPr>
          <a:xfrm>
            <a:off x="715680" y="4365720"/>
            <a:ext cx="450900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liv parametru výměnného proudu 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při (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=0,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E - E</a:t>
            </a:r>
            <a:r>
              <a:rPr b="1" i="1" lang="cs-CZ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…rovnová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elké …reverzibilní el. reak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třední …semireverzibil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malý …ireverzibil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bdélník 4"/>
          <p:cNvSpPr/>
          <p:nvPr/>
        </p:nvSpPr>
        <p:spPr>
          <a:xfrm>
            <a:off x="210960" y="6093000"/>
            <a:ext cx="839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cartage.org.lb/en/themes/Sciences/Chemistry/Electrochemis/Electrochemical/mainpag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4" descr="http://www.cartage.org.lb/en/themes/Sciences/Chemistry/Electrochemis/Electrochemical/ElectrodeKinetics/eq6elec.gif"/>
          <p:cNvPicPr/>
          <p:nvPr/>
        </p:nvPicPr>
        <p:blipFill>
          <a:blip r:embed="rId3"/>
          <a:stretch/>
        </p:blipFill>
        <p:spPr>
          <a:xfrm>
            <a:off x="669960" y="1844640"/>
            <a:ext cx="4581360" cy="64764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8"/>
          <p:cNvSpPr/>
          <p:nvPr/>
        </p:nvSpPr>
        <p:spPr>
          <a:xfrm>
            <a:off x="251280" y="112536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pojením rovnic získáme Butler-Volmer rovnic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bdélník 17"/>
          <p:cNvSpPr/>
          <p:nvPr/>
        </p:nvSpPr>
        <p:spPr>
          <a:xfrm>
            <a:off x="6260040" y="1844640"/>
            <a:ext cx="195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…výměnný prou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http://individual.utoronto.ca/sadeghi/electrochemical_files/image040.gif"/>
          <p:cNvPicPr/>
          <p:nvPr/>
        </p:nvPicPr>
        <p:blipFill>
          <a:blip r:embed="rId4"/>
          <a:stretch/>
        </p:blipFill>
        <p:spPr>
          <a:xfrm>
            <a:off x="669960" y="3720960"/>
            <a:ext cx="227628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http://individual.utoronto.ca/sadeghi/electrochemical_files/image042.gif"/>
          <p:cNvPicPr/>
          <p:nvPr/>
        </p:nvPicPr>
        <p:blipFill>
          <a:blip r:embed="rId5"/>
          <a:stretch/>
        </p:blipFill>
        <p:spPr>
          <a:xfrm>
            <a:off x="3548160" y="3830760"/>
            <a:ext cx="1457280" cy="237960"/>
          </a:xfrm>
          <a:prstGeom prst="rect">
            <a:avLst/>
          </a:prstGeom>
          <a:ln w="0">
            <a:noFill/>
          </a:ln>
        </p:spPr>
      </p:pic>
      <p:sp>
        <p:nvSpPr>
          <p:cNvPr id="217" name="Obdélník 5"/>
          <p:cNvSpPr/>
          <p:nvPr/>
        </p:nvSpPr>
        <p:spPr>
          <a:xfrm>
            <a:off x="233280" y="5765760"/>
            <a:ext cx="837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individual.utoronto.ca/sadeghi/electrochemical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4-02-20T12:07:01Z</dcterms:modified>
  <cp:revision>40</cp:revision>
  <dc:subject/>
  <dc:title>Prezentace aplikace PowerPoint</dc:title>
</cp:coreProperties>
</file>