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543-129A-48D5-BF6A-2BE2C455F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48C-7348-4E97-A91D-8D0A3A28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C3F-8DC7-476C-9EF5-B5DF0A2E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901-E793-4839-8CD4-5A545401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2912-A33B-4564-AD77-562F1972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CC9B-DB1E-4F17-94B0-7DDC84BC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6792-3339-47C7-9460-032D8992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EB21-F2BD-48A3-A9EA-903A5D14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B420-B335-4B41-BC2A-AF8DD571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8CD1-2DB2-4D9E-9813-08790048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1E0E-1A34-4CEA-925F-BE102729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927-BDAC-48F6-9CBE-F59911AB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2B69-CDA9-40D1-9920-861C75AA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918F-1765-4562-B6E4-155C82D8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D1D1-A037-4502-91D8-CAAE7FD8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1F26-90DB-4FC0-8CB2-31784A00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9C0E-E2B9-4346-AC6D-D68DAD2C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3F94-2198-40F2-8321-A0418D29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E3C-60BB-4A11-8064-B131BCDB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820-D1CF-46DD-9F28-63257805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B41-5211-4EC6-84E0-6A9C451F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4CA-F40C-4BBD-86E0-5F76D23D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6CF-8618-44F8-B2E5-FCB78994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B40-58A3-4E83-B5DC-D9A47554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A16E-7472-4051-9FEF-17F6590FA72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CF1C-FEA9-4C88-8F8B-0E2A337C1D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jergym.hiedu.cz/~canovm/mechanic/pravidl2/haber/haber.html" TargetMode="External"/><Relationship Id="rId2" Type="http://schemas.openxmlformats.org/officeDocument/2006/relationships/hyperlink" Target="http://www.jergym.hiedu.cz/~canovm/mechanic/pravidl2/haber/haber.html" TargetMode="External"/><Relationship Id="rId3" Type="http://schemas.openxmlformats.org/officeDocument/2006/relationships/hyperlink" Target="http://www.jergym.hiedu.cz/~canovm/mechanic/pravidl2/haber/haber.html" TargetMode="External"/><Relationship Id="rId4" Type="http://schemas.openxmlformats.org/officeDocument/2006/relationships/hyperlink" Target="http://www.jergym.hiedu.cz/~canovm/mechanic/pravidl2/haber/haber.html" TargetMode="External"/><Relationship Id="rId5" Type="http://schemas.openxmlformats.org/officeDocument/2006/relationships/hyperlink" Target="http://www.jergym.hiedu.cz/~canovm/mechanic/pravidl2/haber/haber.html" TargetMode="External"/><Relationship Id="rId6" Type="http://schemas.openxmlformats.org/officeDocument/2006/relationships/hyperlink" Target="http://www.jergym.hiedu.cz/~canovm/mechanic/pravidl2/haber/haber.html" TargetMode="External"/><Relationship Id="rId7" Type="http://schemas.openxmlformats.org/officeDocument/2006/relationships/hyperlink" Target="http://www.jergym.hiedu.cz/~canovm/mechanic/pravidl2/haber/haber.html" TargetMode="External"/><Relationship Id="rId8" Type="http://schemas.openxmlformats.org/officeDocument/2006/relationships/hyperlink" Target="http://www.jergym.hiedu.cz/~canovm/mechanic/pravidl2/haber/haber.html" TargetMode="External"/><Relationship Id="rId9" Type="http://schemas.openxmlformats.org/officeDocument/2006/relationships/hyperlink" Target="http://www.jergym.hiedu.cz/~canovm/mechanic/pravidl2/haber/haber.html" TargetMode="External"/><Relationship Id="rId10" Type="http://schemas.openxmlformats.org/officeDocument/2006/relationships/hyperlink" Target="http://www.jergym.hiedu.cz/~canovm/mechanic/pravidl2/haber/haber.html" TargetMode="External"/><Relationship Id="rId11" Type="http://schemas.openxmlformats.org/officeDocument/2006/relationships/hyperlink" Target="http://www.jergym.hiedu.cz/~canovm/mechanic/pravidl2/haber/haber.html" TargetMode="External"/><Relationship Id="rId12" Type="http://schemas.openxmlformats.org/officeDocument/2006/relationships/hyperlink" Target="http://www.jergym.hiedu.cz/~canovm/mechanic/pravidl2/haber/haber.html" TargetMode="External"/><Relationship Id="rId13" Type="http://schemas.openxmlformats.org/officeDocument/2006/relationships/hyperlink" Target="http://www.jergym.hiedu.cz/~canovm/mechanic/pravidl2/haber/haber.html" TargetMode="External"/><Relationship Id="rId14" Type="http://schemas.openxmlformats.org/officeDocument/2006/relationships/hyperlink" Target="http://www.jergym.hiedu.cz/~canovm/mechanic/pravidl2/haber/haber.html" TargetMode="External"/><Relationship Id="rId15" Type="http://schemas.openxmlformats.org/officeDocument/2006/relationships/hyperlink" Target="http://www.jergym.hiedu.cz/~canovm/mechanic/pravidl2/haber/haber.html" TargetMode="External"/><Relationship Id="rId16" Type="http://schemas.openxmlformats.org/officeDocument/2006/relationships/hyperlink" Target="http://www.jergym.hiedu.cz/~canovm/mechanic/pravidl2/haber/haber.html" TargetMode="External"/><Relationship Id="rId17" Type="http://schemas.openxmlformats.org/officeDocument/2006/relationships/hyperlink" Target="http://dl.cuni.cz/cuni/mod/resource/view.php?id=9459" TargetMode="External"/><Relationship Id="rId18" Type="http://schemas.openxmlformats.org/officeDocument/2006/relationships/hyperlink" Target="http://dl.cuni.cz/cuni/mod/resource/view.php?id=9459" TargetMode="External"/><Relationship Id="rId19" Type="http://schemas.openxmlformats.org/officeDocument/2006/relationships/hyperlink" Target="http://dl.cuni.cz/cuni/mod/resource/view.php?id=9459" TargetMode="External"/><Relationship Id="rId20" Type="http://schemas.openxmlformats.org/officeDocument/2006/relationships/hyperlink" Target="http://dl.cuni.cz/cuni/mod/resource/view.php?id=9459" TargetMode="External"/><Relationship Id="rId21" Type="http://schemas.openxmlformats.org/officeDocument/2006/relationships/hyperlink" Target="http://dl.cuni.cz/cuni/mod/resource/view.php?id=9459" TargetMode="External"/><Relationship Id="rId22" Type="http://schemas.openxmlformats.org/officeDocument/2006/relationships/hyperlink" Target="http://dl.cuni.cz/cuni/mod/resource/view.php?id=9459" TargetMode="External"/><Relationship Id="rId23" Type="http://schemas.openxmlformats.org/officeDocument/2006/relationships/hyperlink" Target="http://dl.cuni.cz/cuni/mod/resource/view.php?id=9459" TargetMode="External"/><Relationship Id="rId24" Type="http://schemas.openxmlformats.org/officeDocument/2006/relationships/hyperlink" Target="http://dl.cuni.cz/cuni/mod/resource/view.php?id=9459" TargetMode="External"/><Relationship Id="rId25" Type="http://schemas.openxmlformats.org/officeDocument/2006/relationships/hyperlink" Target="http://dl.cuni.cz/cuni/mod/resource/view.php?id=9459" TargetMode="External"/><Relationship Id="rId26" Type="http://schemas.openxmlformats.org/officeDocument/2006/relationships/hyperlink" Target="http://dl.cuni.cz/cuni/mod/resource/view.php?id=9459" TargetMode="External"/><Relationship Id="rId27" Type="http://schemas.openxmlformats.org/officeDocument/2006/relationships/hyperlink" Target="http://dl.cuni.cz/cuni/mod/resource/view.php?id=9459" TargetMode="External"/><Relationship Id="rId28" Type="http://schemas.openxmlformats.org/officeDocument/2006/relationships/hyperlink" Target="http://dl.cuni.cz/cuni/mod/resource/view.php?id=9459" TargetMode="External"/><Relationship Id="rId29" Type="http://schemas.openxmlformats.org/officeDocument/2006/relationships/hyperlink" Target="http://dl.cuni.cz/cuni/mod/resource/view.php?id=9459" TargetMode="External"/><Relationship Id="rId30" Type="http://schemas.openxmlformats.org/officeDocument/2006/relationships/hyperlink" Target="http://dl.cuni.cz/cuni/mod/resource/view.php?id=9459" TargetMode="External"/><Relationship Id="rId31" Type="http://schemas.openxmlformats.org/officeDocument/2006/relationships/hyperlink" Target="http://dl.cuni.cz/cuni/mod/resource/view.php?id=9459" TargetMode="External"/><Relationship Id="rId32" Type="http://schemas.openxmlformats.org/officeDocument/2006/relationships/hyperlink" Target="http://dl.cuni.cz/cuni/mod/resource/view.php?id=9459" TargetMode="External"/><Relationship Id="rId33" Type="http://schemas.openxmlformats.org/officeDocument/2006/relationships/hyperlink" Target="http://dl.cuni.cz/cuni/mod/resource/view.php?id=9459" TargetMode="External"/><Relationship Id="rId34" Type="http://schemas.openxmlformats.org/officeDocument/2006/relationships/hyperlink" Target="http://www.jergym.hiedu.cz/~canovm/mechanic/pravidl2.html" TargetMode="External"/><Relationship Id="rId35" Type="http://schemas.openxmlformats.org/officeDocument/2006/relationships/hyperlink" Target="http://www.jergym.hiedu.cz/~canovm/mechanic/pravidl2.html" TargetMode="External"/><Relationship Id="rId36" Type="http://schemas.openxmlformats.org/officeDocument/2006/relationships/hyperlink" Target="http://www.jergym.hiedu.cz/~canovm/mechanic/pravidl2.html" TargetMode="External"/><Relationship Id="rId37" Type="http://schemas.openxmlformats.org/officeDocument/2006/relationships/hyperlink" Target="http://www.jergym.hiedu.cz/~canovm/mechanic/pravidl2.html" TargetMode="External"/><Relationship Id="rId38" Type="http://schemas.openxmlformats.org/officeDocument/2006/relationships/hyperlink" Target="http://www.jergym.hiedu.cz/~canovm/mechanic/pravidl2.html" TargetMode="External"/><Relationship Id="rId39" Type="http://schemas.openxmlformats.org/officeDocument/2006/relationships/hyperlink" Target="http://www.jergym.hiedu.cz/~canovm/mechanic/pravidl2.html" TargetMode="External"/><Relationship Id="rId40" Type="http://schemas.openxmlformats.org/officeDocument/2006/relationships/hyperlink" Target="http://www.jergym.hiedu.cz/~canovm/mechanic/pravidl2.html" TargetMode="External"/><Relationship Id="rId41" Type="http://schemas.openxmlformats.org/officeDocument/2006/relationships/hyperlink" Target="http://www.jergym.hiedu.cz/~canovm/mechanic/pravidl2.html" TargetMode="External"/><Relationship Id="rId42" Type="http://schemas.openxmlformats.org/officeDocument/2006/relationships/hyperlink" Target="http://www.jergym.hiedu.cz/~canovm/mechanic/pravidl2.html" TargetMode="External"/><Relationship Id="rId43" Type="http://schemas.openxmlformats.org/officeDocument/2006/relationships/hyperlink" Target="http://www.jergym.hiedu.cz/~canovm/mechanic/pravidl2.html" TargetMode="External"/><Relationship Id="rId44" Type="http://schemas.openxmlformats.org/officeDocument/2006/relationships/hyperlink" Target="http://www.jergym.hiedu.cz/~canovm/mechanic/pravidl2.html" TargetMode="External"/><Relationship Id="rId45" Type="http://schemas.openxmlformats.org/officeDocument/2006/relationships/hyperlink" Target="http://www.jergym.hiedu.cz/~canovm/mechanic/pravidl2.html" TargetMode="External"/><Relationship Id="rId4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aber-Boshova syntéza amoniaku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aneb počátek blahoby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C5D8-3F48-45C0-8ECD-9B5CAC1ED2F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kazy na 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belova cena (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6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7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8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0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1"/>
              </a:rPr>
              <a:t>/pravidl2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2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4"/>
              </a:rPr>
              <a:t>haber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6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imace výroby NH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vnice: 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8"/>
              </a:rPr>
              <a:t>dl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19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0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2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3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4"/>
              </a:rPr>
              <a:t>cuni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5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6"/>
              </a:rPr>
              <a:t>mod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7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8"/>
              </a:rPr>
              <a:t>resource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29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0"/>
              </a:rPr>
              <a:t>view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1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2"/>
              </a:rPr>
              <a:t>php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3"/>
              </a:rPr>
              <a:t>?id=94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alší odkazy na významné reakce organických chem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4"/>
              </a:rPr>
              <a:t>http://www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5"/>
              </a:rPr>
              <a:t>jergy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6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7"/>
              </a:rPr>
              <a:t>hiedu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8"/>
              </a:rPr>
              <a:t>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39"/>
              </a:rPr>
              <a:t>cz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0"/>
              </a:rPr>
              <a:t>/~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1"/>
              </a:rPr>
              <a:t>canovm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2"/>
              </a:rPr>
              <a:t>/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3"/>
              </a:rPr>
              <a:t>mechanic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4"/>
              </a:rPr>
              <a:t>/pravidl2.</a:t>
            </a:r>
            <a:r>
              <a:rPr b="0" lang="cs-CZ" sz="2400" spc="-1" strike="noStrike" u="sng">
                <a:solidFill>
                  <a:srgbClr val="cc99ff"/>
                </a:solidFill>
                <a:uFillTx/>
                <a:latin typeface="Times New Roman"/>
                <a:hlinkClick r:id="rId45"/>
              </a:rPr>
              <a:t>htm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930-1B8B-47F6-8F0F-C9A3557048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moni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astní syntéza amoniaku ze syntézní směsi N2 a H2 probíhá katalytickou reakcí při vysokém tlaku a teplotě (20-100 kPa, 500) podle rovnice: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2 + 3H2 --------&gt; 2 NH3 + 46,05 kJ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robený amoniak může být používán k přímému hnojení, nebo je výchozí surovinou pro výrobu kyseliny dusičné, ledků, močoviny, N roztoků, vícesložkových hnojiv.</a:t>
            </a:r>
            <a:br>
              <a:rPr sz="2000"/>
            </a:b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oba dusíkatých hnojiv je energeticky náročná. Na výrobu 1 kg čistého N v hnojivu je zapotřebí podle druhu použité technologie 1,5 i více litrů nafty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C8C9-DDDA-4F51-A72B-CBFB8323A0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8:48Z</dcterms:modified>
  <cp:revision>22</cp:revision>
  <dc:subject/>
  <dc:title>Prezentace aplikace PowerPoint</dc:title>
</cp:coreProperties>
</file>