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0.png" ContentType="image/png"/>
  <Override PartName="/ppt/media/image5.wmf" ContentType="image/x-wmf"/>
  <Override PartName="/ppt/media/image9.jpeg" ContentType="image/jpeg"/>
  <Override PartName="/ppt/media/image13.wmf" ContentType="image/x-wmf"/>
  <Override PartName="/ppt/media/image2.gif" ContentType="image/gif"/>
  <Override PartName="/ppt/media/image8.wmf" ContentType="image/x-wmf"/>
  <Override PartName="/ppt/media/image21.jpeg" ContentType="image/jpeg"/>
  <Override PartName="/ppt/media/image20.png" ContentType="image/png"/>
  <Override PartName="/ppt/media/image3.png" ContentType="image/png"/>
  <Override PartName="/ppt/media/image19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342B2-A693-4B64-BEA5-FC864C9E3F35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68DD5-87AC-42D5-AD85-0AF439B59FF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AA105-C050-4B4A-97EB-33B4B773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C88E-7629-43F1-89F3-0A2911988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B2A9-3830-4176-A660-62CF4858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8899-5464-40CF-94F3-CD8853971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218BC-608E-437A-A421-24AA0E168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7AAAC-7BCE-4199-96C5-71879138A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5A3FD-34A8-441E-989E-D5D771E4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2F24D-5042-45DC-9AD7-64EC4D25B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9BAB-BE6A-4DFF-8C7D-BF27B713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8C8D4-7DDF-4647-BB8E-D0F576369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5CB29-ECDB-43C5-B19A-D1104B93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74D3-BC6D-418D-A789-D32A8B19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61B0-D9AD-442C-9979-81BC33134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9988-F42A-481E-95B1-2E046F0F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918C-3AB1-4625-B829-D4D0608F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6CF5E-4210-46EF-A562-39AB2B16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BFA69-F9F5-4365-8659-D66BE8070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E78D-AAD4-41DD-8C20-33FC6246A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503B-9AF2-44E7-A951-118E94AE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BBF-DE68-467D-B0BD-7D0F0F6F1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DCDE-C6CD-4EB5-A338-4A65E2BF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30E9-8569-4BFC-808E-1C927ACF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0E48-900D-4663-AD85-CDC337EB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B31-AB7F-49DF-AD61-DDFF3708F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72F38-2C58-49D6-B32C-AE30CE45EAE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39B16-BD68-4DD6-873C-104603FD11B2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google.com/url?sa=i&amp;rct=j&amp;q=&amp;esrc=s&amp;source=images&amp;cd=&amp;cad=rja&amp;uact=8&amp;ved=0CAcQjRw&amp;url=http%3A%2F%2Fwww.ub.edu%2Fbetaoxi%2Fresearch2.html&amp;ei=RGtIVc_NKczcaof4gLgJ&amp;bvm=bv.92291466,d.ZGU&amp;psig=AFQjCNGQoouCeOtsolAmuCiKakdcEhrgLg&amp;ust=1430895809439577" TargetMode="Externa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39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599840"/>
            <a:ext cx="6400800" cy="139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C:\Documents and Settings\Sopoušek\Dokumenty\Obrázky\Katalýza\inhib_1.gif"/>
          <p:cNvPicPr/>
          <p:nvPr/>
        </p:nvPicPr>
        <p:blipFill>
          <a:blip r:embed="rId1"/>
          <a:stretch/>
        </p:blipFill>
        <p:spPr>
          <a:xfrm>
            <a:off x="4603680" y="3429000"/>
            <a:ext cx="4113360" cy="2460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http://plantphys.info/plant_physiology/images/enzactiveinhibit.gif"/>
          <p:cNvPicPr/>
          <p:nvPr/>
        </p:nvPicPr>
        <p:blipFill>
          <a:blip r:embed="rId2"/>
          <a:stretch/>
        </p:blipFill>
        <p:spPr>
          <a:xfrm>
            <a:off x="243000" y="3429000"/>
            <a:ext cx="4351320" cy="32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1066680" y="441360"/>
            <a:ext cx="731520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I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4" name="Picture 3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05920" cy="51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533520" y="380880"/>
            <a:ext cx="8001000" cy="50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8" name="Picture 3" descr="C:\Documents and Settings\Sopoušek\Dokumenty\Obrázky\Katalýza\párky.bmp"/>
          <p:cNvPicPr/>
          <p:nvPr/>
        </p:nvPicPr>
        <p:blipFill>
          <a:blip r:embed="rId1"/>
          <a:stretch/>
        </p:blipFill>
        <p:spPr>
          <a:xfrm>
            <a:off x="2241720" y="765000"/>
            <a:ext cx="3867120" cy="25718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4"/>
          <p:cNvSpPr/>
          <p:nvPr/>
        </p:nvSpPr>
        <p:spPr>
          <a:xfrm>
            <a:off x="2512440" y="396252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ecka.xf.cz/etab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1" name="Picture 5" descr="C:\Documents and Settings\Sopoušek\Dokumenty\Obrázky\Katalýza\enzymová inhibice.gif"/>
          <p:cNvPicPr/>
          <p:nvPr/>
        </p:nvPicPr>
        <p:blipFill>
          <a:blip r:embed="rId1"/>
          <a:stretch/>
        </p:blipFill>
        <p:spPr>
          <a:xfrm>
            <a:off x="4494240" y="304920"/>
            <a:ext cx="4041720" cy="5427720"/>
          </a:xfrm>
          <a:prstGeom prst="rect">
            <a:avLst/>
          </a:prstGeom>
          <a:ln w="0">
            <a:noFill/>
          </a:ln>
        </p:spPr>
      </p:pic>
      <p:sp>
        <p:nvSpPr>
          <p:cNvPr id="192" name="Obdélník 1"/>
          <p:cNvSpPr/>
          <p:nvPr/>
        </p:nvSpPr>
        <p:spPr>
          <a:xfrm>
            <a:off x="182880" y="2557440"/>
            <a:ext cx="41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inhibition oxidation food ecka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3" name="TextovéPole 2"/>
          <p:cNvSpPr/>
          <p:nvPr/>
        </p:nvSpPr>
        <p:spPr>
          <a:xfrm>
            <a:off x="403560" y="14605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eywords: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Obdélník 3"/>
          <p:cNvSpPr/>
          <p:nvPr/>
        </p:nvSpPr>
        <p:spPr>
          <a:xfrm>
            <a:off x="163440" y="5013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http://www.slideshare.net/sanjayrumde/food-preservation-15945067?next_slideshow=1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5" name="TextovéPole 5"/>
          <p:cNvSpPr/>
          <p:nvPr/>
        </p:nvSpPr>
        <p:spPr>
          <a:xfrm>
            <a:off x="14760" y="443700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nzervování potravin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97040"/>
            <a:ext cx="777240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Inhibice tloustnutí </a:t>
            </a:r>
            <a:r>
              <a:rPr b="0" lang="cs-CZ" sz="4400" spc="-1" strike="noStrike">
                <a:solidFill>
                  <a:srgbClr val="4d4d4d"/>
                </a:solidFill>
                <a:latin typeface="Wingdings"/>
                <a:ea typeface="Wingdings"/>
              </a:rPr>
              <a:t>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7" name="Picture 5" descr="http://www.ub.edu/betaoxi/home/figuras/2010-6-9-FigurasBON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700280"/>
            <a:ext cx="6613560" cy="4614840"/>
          </a:xfrm>
          <a:prstGeom prst="rect">
            <a:avLst/>
          </a:prstGeom>
          <a:ln w="0">
            <a:noFill/>
          </a:ln>
        </p:spPr>
      </p:pic>
      <p:sp>
        <p:nvSpPr>
          <p:cNvPr id="198" name="Obdélník 3"/>
          <p:cNvSpPr/>
          <p:nvPr/>
        </p:nvSpPr>
        <p:spPr>
          <a:xfrm>
            <a:off x="684360" y="6442200"/>
            <a:ext cx="799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http://www.ub.edu/betaoxi/research2.html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rincipy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Picture 1029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534520" cy="5189400"/>
          </a:xfrm>
          <a:prstGeom prst="rect">
            <a:avLst/>
          </a:prstGeom>
          <a:ln w="0">
            <a:noFill/>
          </a:ln>
        </p:spPr>
      </p:pic>
      <p:sp>
        <p:nvSpPr>
          <p:cNvPr id="154" name="Obdélník 1"/>
          <p:cNvSpPr/>
          <p:nvPr/>
        </p:nvSpPr>
        <p:spPr>
          <a:xfrm>
            <a:off x="380880" y="3429000"/>
            <a:ext cx="8367840" cy="1079640"/>
          </a:xfrm>
          <a:prstGeom prst="rect">
            <a:avLst/>
          </a:pr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Funkce inhibitoru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7842240" cy="4518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C:\Documents and Settings\Sopoušek\Dokumenty\Obrázky\Katalýza\inhib_1.gif"/>
          <p:cNvPicPr/>
          <p:nvPr/>
        </p:nvPicPr>
        <p:blipFill>
          <a:blip r:embed="rId2"/>
          <a:stretch/>
        </p:blipFill>
        <p:spPr>
          <a:xfrm>
            <a:off x="6227640" y="974880"/>
            <a:ext cx="282888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Inhibitory - klasifika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04920" y="731880"/>
            <a:ext cx="8229600" cy="612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250920" y="176040"/>
            <a:ext cx="8305560" cy="106524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4"/>
          <p:cNvSpPr/>
          <p:nvPr/>
        </p:nvSpPr>
        <p:spPr>
          <a:xfrm>
            <a:off x="5136480" y="2133720"/>
            <a:ext cx="2878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lucifer.bloguje.cz/917394-aids-mor-pro-21-stoleti-ii.php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3" name="Picture 6" descr="C:\Documents and Settings\Sopoušek\Dokumenty\Obrázky\Katalýza\proteaza-hiv-s-inhibitorem.jpg"/>
          <p:cNvPicPr/>
          <p:nvPr/>
        </p:nvPicPr>
        <p:blipFill>
          <a:blip r:embed="rId2"/>
          <a:stretch/>
        </p:blipFill>
        <p:spPr>
          <a:xfrm>
            <a:off x="5148360" y="2565360"/>
            <a:ext cx="3657600" cy="22622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7"/>
          <p:cNvSpPr/>
          <p:nvPr/>
        </p:nvSpPr>
        <p:spPr>
          <a:xfrm>
            <a:off x="2286000" y="148428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ompetitivní inhibice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65" name="Picture 8" descr="C:\Documents and Settings\Sopoušek\Dokumenty\Obrázky\Katalýza\350px-Comp_inhib_svg.png"/>
          <p:cNvPicPr/>
          <p:nvPr/>
        </p:nvPicPr>
        <p:blipFill>
          <a:blip r:embed="rId3"/>
          <a:stretch/>
        </p:blipFill>
        <p:spPr>
          <a:xfrm>
            <a:off x="419040" y="1941480"/>
            <a:ext cx="4457880" cy="3081240"/>
          </a:xfrm>
          <a:prstGeom prst="rect">
            <a:avLst/>
          </a:prstGeom>
          <a:ln w="0">
            <a:noFill/>
          </a:ln>
        </p:spPr>
      </p:pic>
      <p:sp>
        <p:nvSpPr>
          <p:cNvPr id="166" name="Obdélník 1"/>
          <p:cNvSpPr/>
          <p:nvPr/>
        </p:nvSpPr>
        <p:spPr>
          <a:xfrm>
            <a:off x="258840" y="5229360"/>
            <a:ext cx="83055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1) </a:t>
            </a:r>
            <a:r>
              <a:rPr b="1" lang="cs-CZ" sz="1400" spc="-1" strike="noStrike" u="sng">
                <a:solidFill>
                  <a:srgbClr val="000066"/>
                </a:solidFill>
                <a:uFillTx/>
                <a:latin typeface="Times New Roman"/>
              </a:rPr>
              <a:t>kompetitivní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itor je podobný substrátu, soutěží se substrátem o vazebné místo enzymu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váže se do aktivního centra, ale není přeměňová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zvyšuje K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m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(je nutno dodat více substrátu k dosažení původní aktivity enzymu)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 </a:t>
            </a:r>
            <a:r>
              <a:rPr b="1" lang="cs-CZ" sz="1400" spc="-1" strike="noStrike">
                <a:solidFill>
                  <a:srgbClr val="000066"/>
                </a:solidFill>
                <a:latin typeface="Symbol"/>
                <a:ea typeface="Symbol"/>
              </a:rPr>
              <a:t>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zvýšení koncentrace substrátu vede k „odstranění“ inhibice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uje enzym reverzibilně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83246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Nekompetitivní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8" name="Picture 3" descr="C:\Documents and Settings\Sopoušek\Dokumenty\Obrázky\Katalýza\350px-Ne Comp_inhib_svg.png"/>
          <p:cNvPicPr/>
          <p:nvPr/>
        </p:nvPicPr>
        <p:blipFill>
          <a:blip r:embed="rId1"/>
          <a:stretch/>
        </p:blipFill>
        <p:spPr>
          <a:xfrm>
            <a:off x="569880" y="1044720"/>
            <a:ext cx="5438880" cy="41256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4"/>
          <p:cNvSpPr/>
          <p:nvPr/>
        </p:nvSpPr>
        <p:spPr>
          <a:xfrm>
            <a:off x="6293880" y="126828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Obdélník 1"/>
          <p:cNvSpPr/>
          <p:nvPr/>
        </p:nvSpPr>
        <p:spPr>
          <a:xfrm>
            <a:off x="569880" y="5060880"/>
            <a:ext cx="796284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2) </a:t>
            </a:r>
            <a:r>
              <a:rPr b="1" lang="cs-CZ" sz="1800" spc="-1" strike="noStrike" u="sng">
                <a:solidFill>
                  <a:srgbClr val="000066"/>
                </a:solidFill>
                <a:uFillTx/>
                <a:latin typeface="Times New Roman"/>
              </a:rPr>
              <a:t>nekompetitivní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inhibitor se váže na jiné místo enzymu než substrát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znemožní vazbu substrátu (změna konformace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snižuje V</a:t>
            </a:r>
            <a:r>
              <a:rPr b="1" lang="cs-CZ" sz="1800" spc="-1" strike="noStrike" baseline="-25000">
                <a:solidFill>
                  <a:srgbClr val="000066"/>
                </a:solidFill>
                <a:latin typeface="Times New Roman"/>
              </a:rPr>
              <a:t>max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 (což odpovídá snížení koncentrace aktivního enzymu)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* reverzibilní pouze pokud se inhibitor neváže kovalentně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8324640" cy="76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Antikompetitivní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6470280" y="6324480"/>
            <a:ext cx="239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000066"/>
                </a:solidFill>
                <a:latin typeface="Times New Roman"/>
              </a:rPr>
              <a:t>http://www.ibguides.com/biology/notes/enzymes-hl</a:t>
            </a:r>
            <a:endParaRPr b="1" lang="en-US" sz="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Obdélník 2"/>
          <p:cNvSpPr/>
          <p:nvPr/>
        </p:nvSpPr>
        <p:spPr>
          <a:xfrm>
            <a:off x="324000" y="3968640"/>
            <a:ext cx="82468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3) akompetitivní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* inhibitor se váže pouze na komplex enzym-substrát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 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Reverzibilní inhibice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5" name="Picture 4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229600" cy="41817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2209680" y="4678200"/>
            <a:ext cx="5257800" cy="21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Metoda ATRP a RAFT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Picture 3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1639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5" descr="http://patentimages.storage.googleapis.com/WO2009111725A1/imgf000029_0001.png"/>
          <p:cNvPicPr/>
          <p:nvPr/>
        </p:nvPicPr>
        <p:blipFill>
          <a:blip r:embed="rId2"/>
          <a:stretch/>
        </p:blipFill>
        <p:spPr>
          <a:xfrm>
            <a:off x="971640" y="3824280"/>
            <a:ext cx="6553080" cy="2879640"/>
          </a:xfrm>
          <a:prstGeom prst="rect">
            <a:avLst/>
          </a:prstGeom>
          <a:ln w="0">
            <a:noFill/>
          </a:ln>
        </p:spPr>
      </p:pic>
      <p:sp>
        <p:nvSpPr>
          <p:cNvPr id="180" name="Obdélník 1"/>
          <p:cNvSpPr/>
          <p:nvPr/>
        </p:nvSpPr>
        <p:spPr>
          <a:xfrm>
            <a:off x="2050920" y="33228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http://www.google.com/patents/WO2009111725A1?cl=en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11T13:43:13Z</dcterms:modified>
  <cp:revision>147</cp:revision>
  <dc:subject/>
  <dc:title>C6730 Fázové rovnováhy</dc:title>
</cp:coreProperties>
</file>