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2.gif" ContentType="image/gi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31.wmf" ContentType="image/x-wmf"/>
  <Override PartName="/ppt/media/image4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.jpeg" ContentType="image/jpeg"/>
  <Override PartName="/ppt/media/image1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4B9C-713A-46A2-8D14-ED75E70417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1804-AEEA-46E0-9304-F6BCFF13090C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BD9-B7C0-4805-81B2-9E864279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2BE-3BE5-4E30-B88A-F86CF359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EB1-55B1-4DA0-8A40-4E0DFB3C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5BE-6689-42E7-86F9-5A81A3D1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7898-4AF9-49DC-ACB4-7EBEC1BD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50B5-305F-4D6C-B99A-D782610A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23F7-4B61-4149-BCC7-168BAEF7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6B4B-508F-4FF8-87D2-DB7B948F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7339-19AF-40BB-A0DE-EA5B73B5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C7AE-33E0-4F3E-A930-BC3F94F3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B66B-68E6-4107-855E-5CC68C98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2BF-2170-497C-B060-A2451643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1D02-9DC8-4D59-B4CE-05D7F61D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0B23-6694-49FE-8AD8-88870F95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A857-122C-4B35-B99F-87FC4E12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1478-0FC1-4778-B717-81F1DF1A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B872-5638-4660-B5D7-D13CD9FD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0A3-C869-40B2-ACE7-58DA23BA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2FD-C9EA-4A5D-B951-8C463EFB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66E-277B-4DAA-B9E4-C222AEA6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3FB-8964-4F3C-86EB-D8458F0E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B62-C726-4F14-9749-9DA3F3A2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738-EB6E-48E3-83C3-A1ACF920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F22-0A83-40CC-A81D-7765E693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D128-DC20-4765-8B18-D7E45204F31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825A-843C-4DCE-89D4-AF4EC273FF9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28600" y="414036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8153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2382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189000" y="76500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619760" cy="516384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5" name="Přímá spojnice se šipkou 5"/>
          <p:cNvCxnSpPr/>
          <p:nvPr/>
        </p:nvCxnSpPr>
        <p:spPr>
          <a:xfrm flipH="1" flipV="1">
            <a:off x="4787280" y="4292280"/>
            <a:ext cx="187236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7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Katalýza\350px-Ne Comp_inhib_svg.png"/>
          <p:cNvPicPr/>
          <p:nvPr/>
        </p:nvPicPr>
        <p:blipFill>
          <a:blip r:embed="rId2"/>
          <a:stretch/>
        </p:blipFill>
        <p:spPr>
          <a:xfrm>
            <a:off x="5410080" y="0"/>
            <a:ext cx="29210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7:31:52Z</dcterms:modified>
  <cp:revision>146</cp:revision>
  <dc:subject/>
  <dc:title>C6730 Fázové rovnováhy</dc:title>
</cp:coreProperties>
</file>