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6.jpeg" ContentType="image/jpeg"/>
  <Override PartName="/ppt/media/image5.png" ContentType="image/png"/>
  <Override PartName="/ppt/media/image2.gif" ContentType="image/gif"/>
  <Override PartName="/ppt/media/image24.wmf" ContentType="image/x-wmf"/>
  <Override PartName="/ppt/media/image4.jpeg" ContentType="image/jpeg"/>
  <Override PartName="/ppt/media/image10.wmf" ContentType="image/x-wmf"/>
  <Override PartName="/ppt/media/image25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4C7B-2416-4A84-9C12-C5A9AA656F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1C9C-7C35-4EDE-BC13-4F687DCAE1C4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01D-3987-4136-92A6-A9FC51D8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E97-0849-4110-AAF1-6A0820C0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0F8-F970-4BC8-98D9-353CE574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0FA-AAD6-4F88-A586-2C3614F0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F39C-3E84-496A-9E8B-0929AFDA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48BE-B129-45DF-9875-004C1760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776A-C63C-4614-90E5-FAA78A58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B9E3-A378-47D6-8369-AC8C1D3F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485A-4924-4956-B0D1-DABE4B99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A204-5047-4443-873D-227590BF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09C6-BA5A-43CA-ABC1-2FEBAA4C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A11-5917-4BE9-8BB2-CE516E68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D557-8C7F-4457-B69D-B4DFE8E7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2F14-8222-4219-892F-269187CE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6566-3C9B-44F5-87D7-FF7EECD3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4BB6-AEF6-404E-84A5-569EF038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71F8-55B1-4192-843C-FB4362F7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67B-D205-4464-B177-A0704659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086-A96E-49F3-A52D-FC6DDA72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0AB-1BA8-4E60-8E89-0E85B324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56D-7F7B-4409-8E37-4E84C57C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121-07CD-4084-904F-44FB5812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6D2-A40A-4D98-ACCD-3781A753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C67-5D44-458D-8E74-F0E4837E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61F2-23FD-42C9-887D-E1F5192CBA8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8D30-3B9F-4B71-B025-638CFEE28CA2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i.ac.uk/thornton-srv/databases/enzymes/" TargetMode="External"/><Relationship Id="rId2" Type="http://schemas.openxmlformats.org/officeDocument/2006/relationships/hyperlink" Target="D:\Vyuka\C6320_Kinetika\Texty k p&#345;edn&#225;&#353;ce C6320\L09_Enzymy a adsorpce\Nukleove_kyseliny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1219320" y="3733920"/>
            <a:ext cx="6324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1447920" y="2602080"/>
            <a:ext cx="3916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2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3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1T14:40:44Z</dcterms:modified>
  <cp:revision>146</cp:revision>
  <dc:subject/>
  <dc:title>C6730 Fázové rovnováhy</dc:title>
</cp:coreProperties>
</file>