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.gif" ContentType="image/gi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4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wmf" ContentType="image/x-wmf"/>
  <Override PartName="/ppt/media/image33.png" ContentType="image/png"/>
  <Override PartName="/ppt/media/image13.wmf" ContentType="image/x-wmf"/>
  <Override PartName="/ppt/media/image9.wmf" ContentType="image/x-wmf"/>
  <Override PartName="/ppt/media/image39.png" ContentType="image/png"/>
  <Override PartName="/ppt/media/image38.png" ContentType="image/png"/>
  <Override PartName="/ppt/media/image41.wmf" ContentType="image/x-wmf"/>
  <Override PartName="/ppt/media/image42.png" ContentType="image/png"/>
  <Override PartName="/ppt/media/image30.wmf" ContentType="image/x-wmf"/>
  <Override PartName="/ppt/media/image10.png" ContentType="image/png"/>
  <Override PartName="/ppt/media/image43.png" ContentType="image/png"/>
  <Override PartName="/ppt/media/image44.jpeg" ContentType="image/jpeg"/>
  <Override PartName="/ppt/media/image5.png" ContentType="image/png"/>
  <Override PartName="/ppt/media/image35.png" ContentType="image/png"/>
  <Override PartName="/ppt/media/image46.wmf" ContentType="image/x-wmf"/>
  <Override PartName="/ppt/media/image40.png" ContentType="image/png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6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28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45AE-5888-41F3-A613-C76B2BFC6FC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2F83-B986-4C6E-B78D-0732FF8B27AE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CCF6-BF10-430A-B1E7-1EFD505F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BFC-D087-495B-92C8-AA7A0BFC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9E3F-1746-4B7C-BC10-C864AFC7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9FD7-764A-4CC2-AA94-EC1BFCF5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207C-6120-47D7-AFF4-D6812151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88DC-4B9B-4980-A5C6-B8B4E6A9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E02B-327D-4D6A-9583-02DDE297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2DC3-03ED-47AC-80CF-606BC720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8822-F6F9-401A-AF32-2653CE5A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8DDB-9A20-43E1-9349-3000BE94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6610-6F34-42A0-A1D2-9EC633A1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672-BEC7-4568-A12D-4C2D79BB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EB37-E658-4CC4-98B1-13557F09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773B-1838-48F6-A37B-2FCD2417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322E-BE99-443A-AAC8-1EE318BA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AE83-3B96-43DC-AB0D-CF680744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2841-425E-419A-9A18-1DB10402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EFE-98B2-4401-B2CA-9AC4FD1A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16A-2D3C-4E46-9393-6DC751BF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7B1-6260-437A-938B-272C33A7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F970-B325-4E99-A376-89ADE0FE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B6A-D458-441C-8C41-607A12AE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189-762D-4F8B-A82A-967263A4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356-0FC2-4385-B26F-ABB2516E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C174-3713-445E-9328-2416C92B164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2B49-D79A-4D4D-97C5-0FCB60A9DE3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adsorpce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8" descr="C:\Documents and Settings\Sopoušek\Dokumenty\Obrázky\Adsorpce\images adsorpce fyzikální.jpg"/>
          <p:cNvPicPr/>
          <p:nvPr/>
        </p:nvPicPr>
        <p:blipFill>
          <a:blip r:embed="rId1"/>
          <a:stretch/>
        </p:blipFill>
        <p:spPr>
          <a:xfrm>
            <a:off x="533520" y="2438280"/>
            <a:ext cx="4800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1532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termy pro disociativní adsorpci a koadsorpci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086600" cy="5805360"/>
          </a:xfrm>
          <a:prstGeom prst="rect">
            <a:avLst/>
          </a:prstGeom>
          <a:ln w="0">
            <a:noFill/>
          </a:ln>
        </p:spPr>
      </p:pic>
      <p:sp>
        <p:nvSpPr>
          <p:cNvPr id="173" name="TextovéPole 1"/>
          <p:cNvSpPr/>
          <p:nvPr/>
        </p:nvSpPr>
        <p:spPr>
          <a:xfrm>
            <a:off x="4859280" y="39546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Vede to k řešení kvadratické rovn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disociativní ko-adsorpce dvou a více látek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851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58200" cy="4572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3"/>
          <a:stretch/>
        </p:blipFill>
        <p:spPr>
          <a:xfrm>
            <a:off x="7280280" y="2963880"/>
            <a:ext cx="1131840" cy="260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4"/>
          <a:stretch/>
        </p:blipFill>
        <p:spPr>
          <a:xfrm>
            <a:off x="8443800" y="2968560"/>
            <a:ext cx="398520" cy="255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http://www.circle4.com/nelson/nelgifs/lazeo.gif"/>
          <p:cNvPicPr/>
          <p:nvPr/>
        </p:nvPicPr>
        <p:blipFill>
          <a:blip r:embed="rId5"/>
          <a:stretch/>
        </p:blipFill>
        <p:spPr>
          <a:xfrm>
            <a:off x="4676760" y="2781360"/>
            <a:ext cx="2354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208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http://upload.wikimedia.org/wikipedia/commons/thumb/0/0b/Langmuir_izoterma.png/800px-Langmuir_izoterma.png"/>
          <p:cNvPicPr/>
          <p:nvPr/>
        </p:nvPicPr>
        <p:blipFill>
          <a:blip r:embed="rId2"/>
          <a:stretch/>
        </p:blipFill>
        <p:spPr>
          <a:xfrm>
            <a:off x="611280" y="4653000"/>
            <a:ext cx="3605040" cy="129384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1"/>
          <p:cNvSpPr/>
          <p:nvPr/>
        </p:nvSpPr>
        <p:spPr>
          <a:xfrm>
            <a:off x="587880" y="60930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inglelayer 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=1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Izoterma BET – vícevrstvá adsorp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186" name="Obdélník 1"/>
          <p:cNvSpPr/>
          <p:nvPr/>
        </p:nvSpPr>
        <p:spPr>
          <a:xfrm>
            <a:off x="0" y="2133720"/>
            <a:ext cx="8964720" cy="790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485040"/>
          </a:xfrm>
          <a:prstGeom prst="rect">
            <a:avLst/>
          </a:prstGeom>
          <a:ln w="0">
            <a:noFill/>
          </a:ln>
        </p:spPr>
      </p:pic>
      <p:sp>
        <p:nvSpPr>
          <p:cNvPr id="189" name="Přímá spojnice 2"/>
          <p:cNvSpPr/>
          <p:nvPr/>
        </p:nvSpPr>
        <p:spPr>
          <a:xfrm>
            <a:off x="971640" y="944640"/>
            <a:ext cx="1439640" cy="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Přímá spojnice 5"/>
          <p:cNvSpPr/>
          <p:nvPr/>
        </p:nvSpPr>
        <p:spPr>
          <a:xfrm>
            <a:off x="826920" y="4149720"/>
            <a:ext cx="3168720" cy="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ovéPole 6"/>
          <p:cNvSpPr/>
          <p:nvPr/>
        </p:nvSpPr>
        <p:spPr>
          <a:xfrm>
            <a:off x="473040" y="45068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tvorby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ovéPole 8"/>
          <p:cNvSpPr/>
          <p:nvPr/>
        </p:nvSpPr>
        <p:spPr>
          <a:xfrm>
            <a:off x="3635280" y="449568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zániku bi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ovéPole 1"/>
          <p:cNvSpPr/>
          <p:nvPr/>
        </p:nvSpPr>
        <p:spPr>
          <a:xfrm>
            <a:off x="250920" y="12096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adsorpce na volný povrch =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ovéPole 7"/>
          <p:cNvSpPr/>
          <p:nvPr/>
        </p:nvSpPr>
        <p:spPr>
          <a:xfrm>
            <a:off x="2987640" y="12286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desorpce z monovrstvy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29" descr=""/>
          <p:cNvPicPr/>
          <p:nvPr/>
        </p:nvPicPr>
        <p:blipFill>
          <a:blip r:embed="rId1"/>
          <a:stretch/>
        </p:blipFill>
        <p:spPr>
          <a:xfrm>
            <a:off x="152280" y="1093680"/>
            <a:ext cx="8763120" cy="168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2" descr="C:\Documents and Settings\Sopoušek\Dokumenty\Obrázky\Adsorpce\Adsorpce energy.png"/>
          <p:cNvPicPr/>
          <p:nvPr/>
        </p:nvPicPr>
        <p:blipFill>
          <a:blip r:embed="rId2"/>
          <a:stretch/>
        </p:blipFill>
        <p:spPr>
          <a:xfrm>
            <a:off x="685800" y="2971800"/>
            <a:ext cx="56912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61040"/>
          </a:xfrm>
          <a:prstGeom prst="rect">
            <a:avLst/>
          </a:prstGeom>
          <a:ln w="0">
            <a:noFill/>
          </a:ln>
        </p:spPr>
      </p:pic>
      <p:sp>
        <p:nvSpPr>
          <p:cNvPr id="197" name="TextovéPole 1"/>
          <p:cNvSpPr/>
          <p:nvPr/>
        </p:nvSpPr>
        <p:spPr>
          <a:xfrm>
            <a:off x="6804000" y="4656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2"/>
          <a:stretch/>
        </p:blipFill>
        <p:spPr>
          <a:xfrm>
            <a:off x="4143240" y="3252960"/>
            <a:ext cx="857520" cy="352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3"/>
          <a:stretch/>
        </p:blipFill>
        <p:spPr>
          <a:xfrm>
            <a:off x="7832880" y="1609560"/>
            <a:ext cx="571320" cy="235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4"/>
          <a:stretch/>
        </p:blipFill>
        <p:spPr>
          <a:xfrm>
            <a:off x="8421840" y="1609560"/>
            <a:ext cx="4507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28600" y="576360"/>
            <a:ext cx="8686800" cy="606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0" y="996840"/>
            <a:ext cx="84582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9" name="Picture 4" descr="C:\Documents and Settings\Sopoušek\Dokumenty\Obrázky\Adsorpce\BET.jpg"/>
          <p:cNvPicPr/>
          <p:nvPr/>
        </p:nvPicPr>
        <p:blipFill>
          <a:blip r:embed="rId1"/>
          <a:stretch/>
        </p:blipFill>
        <p:spPr>
          <a:xfrm>
            <a:off x="324000" y="838080"/>
            <a:ext cx="4452840" cy="6019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Documents and Settings\Sopoušek\Dokumenty\Obrázky\Adsorpce\Adsorpce N2 gas.jpg"/>
          <p:cNvPicPr/>
          <p:nvPr/>
        </p:nvPicPr>
        <p:blipFill>
          <a:blip r:embed="rId2"/>
          <a:stretch/>
        </p:blipFill>
        <p:spPr>
          <a:xfrm>
            <a:off x="5292720" y="1773360"/>
            <a:ext cx="324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5345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98320" y="760320"/>
            <a:ext cx="7947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dsorpční rovnováh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839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145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Sopoušek\Dokumenty\Obrázky\Adsorpce\adsorpce.bmp"/>
          <p:cNvPicPr/>
          <p:nvPr/>
        </p:nvPicPr>
        <p:blipFill>
          <a:blip r:embed="rId3"/>
          <a:stretch/>
        </p:blipFill>
        <p:spPr>
          <a:xfrm>
            <a:off x="304920" y="4648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Adsorpce\Heterogeneous-catalysis.jpg"/>
          <p:cNvPicPr/>
          <p:nvPr/>
        </p:nvPicPr>
        <p:blipFill>
          <a:blip r:embed="rId4"/>
          <a:stretch/>
        </p:blipFill>
        <p:spPr>
          <a:xfrm>
            <a:off x="2895480" y="3505320"/>
            <a:ext cx="57913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087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Documents and Settings\Sopoušek\Dokumenty\Obrázky\Adsorpce\catalysis heterogen.jpg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angmuirova adsorpční izoterm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215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228600" y="2970360"/>
            <a:ext cx="861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458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12T08:00:15Z</dcterms:modified>
  <cp:revision>148</cp:revision>
  <dc:subject/>
  <dc:title>C6730 Fázové rovnováhy</dc:title>
</cp:coreProperties>
</file>