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1A6D-F32C-49EB-8204-1ABAE2EE7E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75D6-9039-4813-B08F-07A8F8ACF08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1F9-DF88-420E-AD11-B131AA4C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625-125A-4246-A469-E5B6EB8E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0C1-088F-404A-ABB0-6EA1C002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009-B49F-4A49-9DE4-D283F5AD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D669-A122-48FC-8C10-C06C0B25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6689-BF1A-4A01-A7CC-6B273133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0625-AA70-4BE6-87AD-5FC988EC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F83E-FEF0-48C8-B30A-32EEAA96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130B-C73F-4682-A43B-A06C7FD7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E5F9-D44B-4431-BB21-1DC84C2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C520-EC8D-4C61-A741-650E2DD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67C-2F75-4643-A4F5-F473EA4F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21E-7636-487D-8AC5-30BBD957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D9B2-C671-4B34-BE2E-78F048DE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0950-6082-486C-9A9C-B9CA2915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C053-ECF5-4C35-98CF-1BC7B73D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A789-8D4C-4240-B725-0BEF6515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C65-146E-4A79-9955-D17F23C0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2C4-12E4-4C1D-B52D-7483584C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7E5-D940-4F08-80E2-8B4FAD9F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C2C-B3C4-4F8A-96C8-F7987D49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374-09BD-42B1-9FD5-5E99E756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E86-3FAF-49D7-8224-757A86B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A99-0EAD-4BBC-A84E-CBB0301F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6D0B-8D71-41E9-9998-291EB32B00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2408-B5B6-44C5-981B-2536838E326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1T14:40:44Z</dcterms:modified>
  <cp:revision>146</cp:revision>
  <dc:subject/>
  <dc:title>C6730 Fázové rovnováhy</dc:title>
</cp:coreProperties>
</file>