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.gif" ContentType="image/gi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4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wmf" ContentType="image/x-wmf"/>
  <Override PartName="/ppt/media/image33.png" ContentType="image/png"/>
  <Override PartName="/ppt/media/image13.wmf" ContentType="image/x-wmf"/>
  <Override PartName="/ppt/media/image9.wmf" ContentType="image/x-wmf"/>
  <Override PartName="/ppt/media/image39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30.wmf" ContentType="image/x-wmf"/>
  <Override PartName="/ppt/media/image10.png" ContentType="image/png"/>
  <Override PartName="/ppt/media/image43.png" ContentType="image/png"/>
  <Override PartName="/ppt/media/image44.jpeg" ContentType="image/jpeg"/>
  <Override PartName="/ppt/media/image5.png" ContentType="image/png"/>
  <Override PartName="/ppt/media/image35.png" ContentType="image/png"/>
  <Override PartName="/ppt/media/image46.wmf" ContentType="image/x-wmf"/>
  <Override PartName="/ppt/media/image40.png" ContentType="image/png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6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3B08-7092-41D1-B92A-1EAA3BBD6B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DD4D-92A6-4401-AC40-D7E8E98308FA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E68-3F04-492E-A6A2-93D0F0DA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F86-26FA-4D69-8960-88321330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EC2-AB4E-4A6B-A9AA-6A256160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6B3-7B2C-4407-981C-F99D33B0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B5B2-093E-48B1-BF9A-19CAA473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E3CD-D88A-43D9-A282-C4308FB8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C90D-4021-414D-A43D-089BD805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94E1-6A19-426D-84F0-CAEDC47B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E9A2-8A9C-4297-8A24-EF3CB99A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278B-5CC3-4399-B61D-15A0B9DF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F0A9-3FF2-430C-96E2-4E9F9025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D10-DD79-4FF8-8785-BAE2170E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4877-7B63-4CC2-9FFF-05214B15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42BA-F4D0-424D-AF0A-4D309762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F9B6-B06B-48A5-965B-A80B4200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A532-2C63-4BD3-86A6-BE704265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7D7F-3BE4-480D-B818-F929040B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EC1-CA33-4C5A-8599-BA543BD3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F05-558A-4D1C-889F-AE40CD37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B7C-24D1-4CD9-83EB-78C3C376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44C-5FA3-4797-8B6F-24CF03C4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863-EF06-454F-BE99-BCBCDDD1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895-9D38-4213-BFB4-72CC0227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540-C817-44DC-8CB8-92586AEA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BE3E-2343-46B6-8D05-FED887ACC85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EEB6-319C-4F18-BF4B-ECAAD537E6F3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http://upload.wikimedia.org/wikipedia/commons/thumb/0/0b/Langmuir_izoterma.png/800px-Langmuir_izoterma.png"/>
          <p:cNvPicPr/>
          <p:nvPr/>
        </p:nvPicPr>
        <p:blipFill>
          <a:blip r:embed="rId2"/>
          <a:stretch/>
        </p:blipFill>
        <p:spPr>
          <a:xfrm>
            <a:off x="611280" y="46530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186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189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ovéPole 8"/>
          <p:cNvSpPr/>
          <p:nvPr/>
        </p:nvSpPr>
        <p:spPr>
          <a:xfrm>
            <a:off x="3635280" y="44956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bi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4143240" y="3252960"/>
            <a:ext cx="857520" cy="352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3"/>
          <a:stretch/>
        </p:blipFill>
        <p:spPr>
          <a:xfrm>
            <a:off x="7832880" y="1609560"/>
            <a:ext cx="571320" cy="235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4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9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345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458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2T08:00:15Z</dcterms:modified>
  <cp:revision>148</cp:revision>
  <dc:subject/>
  <dc:title>C6730 Fázové rovnováhy</dc:title>
</cp:coreProperties>
</file>