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4.png" ContentType="image/png"/>
  <Override PartName="/ppt/media/image3.wmf" ContentType="image/x-wmf"/>
  <Override PartName="/ppt/media/image10.wmf" ContentType="image/x-wmf"/>
  <Override PartName="/ppt/media/image25.jpeg" ContentType="image/jpe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gif" ContentType="image/gi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890-38FC-489F-BF2F-B844C2CE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95A-8D44-4432-9D0C-FC4B7E15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B6D-C57D-4F77-95B5-834FBD6E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2DB-0B96-4A19-87F2-4BA72795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6CFD-9E13-4912-B5AC-68EB8B4F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D48-59BF-4259-9806-42608B27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C9E3-3C7C-4C65-9682-D47805D8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7FA-7D7A-4A89-AB4E-BAF3BDFA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DD29-9615-4989-8257-8A459C65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F5CE-862F-4DA8-B23A-CD32FC47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1B73-249F-4F74-864C-B35B54F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CD7-EE89-4DA7-A01B-C5987CA3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1C20-A9D3-4686-BD6E-86CCF0C4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DDD7-7114-45DB-BB42-CE05F61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2040-58F7-4F77-BD52-B93E9F6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78D6-0A95-4F8C-BA19-8AD3DCB5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5F7-BA93-482A-AF53-CDC36027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CE2-D868-4597-932D-C4F02B79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B2A-27B6-4D8D-9D00-D1D71F42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FC2-495D-4E3E-97EC-30A0C1EB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980-7AF6-4211-8541-69212655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D12-6740-428F-B976-4FD9A929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563-3DAD-43DA-B9D4-B7C1304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447-F990-4533-88FC-34A829D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9B4-2CD1-4AB0-8695-BE6D64D4F9C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6D41-3290-46FC-BB17-538048125E0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hemické osc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5720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youtube.com/watch?v=M4uuP9Eq-E4&amp;feature=endscreen&amp;NR=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elousov - Žabotinský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87120" y="5943600"/>
            <a:ext cx="70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faidherbe.org/site/cours/dupuis/oscil.ht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redox%20pot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4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Formální kinetický popis oscilačních reak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1798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78469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308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8534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2840" y="304920"/>
            <a:ext cx="8831160" cy="4219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99428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137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838188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model%20bruselator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5105520" cy="2922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ruselá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993960" y="281952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yNsCU-_V0o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de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hemické oscil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chanismus oscilační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41196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38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4276800"/>
            <a:ext cx="8175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3627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86104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480" y="326880"/>
            <a:ext cx="784872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2-05-09T12:41:54Z</dcterms:modified>
  <cp:revision>145</cp:revision>
  <dc:subject/>
  <dc:title>C6730 Fázové rovnováhy</dc:title>
</cp:coreProperties>
</file>