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931-A7BA-4DF0-9D9A-303D9B9114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553-EEB0-4063-88B3-E88EA22C939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C6A-5F41-495E-9D0C-A0D562CC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9FD-27CE-4D3E-BC04-4530F44F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637-7293-4DF6-9994-32EAE22F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228-0034-4C2E-95A0-53163FA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7FE-2FAD-4CBB-A1BF-65DB6E7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E033-AC6D-45DA-BD38-10B4DAED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091-BCBF-40A4-9E16-035AEA01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0490-2618-48D9-84E3-AF3F2E7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1E3C-C53C-43FA-8BB3-BDE6146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590F-F840-4252-AEAF-ABD1DD7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67A9-C3D2-4549-86C2-6B1D092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81F-F4AA-4223-98EF-E4DDF5B5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C6D-DA42-48FF-A548-97E752E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FFD-72CC-4FF5-83E9-50B46AB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D72-A9ED-4D71-8777-735DAFDD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1880-3E80-45E4-8349-080DADA9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C4AA-5127-4C3D-9C98-375E4A4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DC8-99BE-4209-A2C6-1D725B6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E5D-4E27-4168-AB3C-B8A5531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39F-6C73-46EF-9665-27373630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B8D-C71E-403C-8AAC-4C771AF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B51-A5CE-4206-AB39-ADB6A28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98D-C3C7-4C12-A6E4-DA6DEEF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939-5C25-4AC5-9AD3-9141A3E3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8FEE-B4D8-417D-A596-5F837D81A9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53A8-D659-4CB0-BE8F-0C530F904B8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 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- rychlostní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0449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58840" y="241200"/>
            <a:ext cx="8624880" cy="6375600"/>
          </a:xfrm>
          <a:prstGeom prst="rect">
            <a:avLst/>
          </a:prstGeom>
          <a:ln w="0">
            <a:noFill/>
          </a:ln>
        </p:spPr>
      </p:pic>
      <p:sp>
        <p:nvSpPr>
          <p:cNvPr id="175" name="TextovéPole 1"/>
          <p:cNvSpPr/>
          <p:nvPr/>
        </p:nvSpPr>
        <p:spPr>
          <a:xfrm>
            <a:off x="1258920" y="333360"/>
            <a:ext cx="2305080" cy="459720"/>
          </a:xfrm>
          <a:prstGeom prst="rect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5eff9"/>
                </a:solidFill>
                <a:latin typeface="Times New Roman"/>
              </a:rPr>
              <a:t>Příspěve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2050920" y="793800"/>
            <a:ext cx="5689800" cy="459720"/>
          </a:xfrm>
          <a:prstGeom prst="rect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5eff9"/>
                </a:solidFill>
                <a:latin typeface="Times New Roman"/>
              </a:rPr>
              <a:t>k teorii katalýzy na površích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4760" y="169920"/>
            <a:ext cx="893448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5520" y="92160"/>
            <a:ext cx="883296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yjádření rychlosti heterogenní katalýz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onomolekulární povrchov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12040" cy="1258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686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305920" cy="133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356680" cy="431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438280" y="0"/>
            <a:ext cx="3265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237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Bimolekularní re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imolekulární povrch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62120" y="776160"/>
            <a:ext cx="76960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84836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3-05-06T09:44:29Z</dcterms:modified>
  <cp:revision>141</cp:revision>
  <dc:subject/>
  <dc:title>C6730 Fázové rovnováhy</dc:title>
</cp:coreProperties>
</file>