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51C-D210-43BB-B4E4-682DA493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20E-5D46-44BE-B9D3-0962EEE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9B7-A925-46D9-ACF4-B06703C2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3A5-C001-493B-BDEC-64CE4525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AF6-C722-4E3F-B3A8-1C69147A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97A-0777-4625-972C-17382977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43D-3F9F-4D9F-9DCB-18BE7C4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D7D-8B97-400A-9E35-839125AA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A73-BC67-4544-861F-8FBF27F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BFB-47A2-4522-B0BE-B80DBFB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3EA-903E-4E49-B7C0-842B696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FB7-D883-4AF2-A7B6-4205815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834D-1352-4792-BF9F-E4134B01B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" y="3713040"/>
            <a:ext cx="8153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505320" y="1752480"/>
            <a:ext cx="269532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838080" y="1676520"/>
            <a:ext cx="2256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1:30Z</dcterms:modified>
  <cp:revision>96</cp:revision>
  <dc:subject/>
  <dc:title>Soustava</dc:title>
</cp:coreProperties>
</file>