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1BC-3E2F-4627-839F-D29CA38E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832-4527-4A1C-97B2-504B8340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128-98F3-4BED-9D4B-464EFD49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30B-CE8F-49AF-9AC4-AA5F7878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5E5-FA85-4209-8E79-BF39C9F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ED3-9D8E-4F06-98AA-020C2C0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CC3-3FC7-4500-B838-657C7770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165-81BD-4142-9E17-1EAA5A6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7D9-D9C6-480A-824A-26EE2DA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582-D7E1-4CC6-B32A-8957220B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143-4866-4616-AEDB-91E7213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88B-BD99-42AF-9FAE-EB0A4E2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9831-9C3B-4B77-B3E4-74D99CE08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76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3T12:37:40Z</dcterms:modified>
  <cp:revision>102</cp:revision>
  <dc:subject/>
  <dc:title>Soustava</dc:title>
</cp:coreProperties>
</file>