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523-2DF8-4D13-865D-3D229687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28F-464B-41D6-A3B9-1E7E102E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A62-DD3C-48C9-994B-BFD6E79A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A03-87AD-48D2-8518-0EEB0E06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550-7FE4-49E3-8795-96A8160D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7A9-9350-46EF-BCDF-7DB12C4C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276-EF32-4FAF-A70D-9DA063BA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700-AA49-490B-95CC-9FF9A8C1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118-673A-4B10-A1A6-FD1DCD62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C4A-B3B9-4929-B3BB-FB37D389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1AE-C2CB-4EAC-ACC8-4B70D3E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FC2-AF63-4466-AE36-6EB40771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9B1B-03D7-49D3-8D5E-03F9BA7A3D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57200" y="3713040"/>
            <a:ext cx="81532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505320" y="1752480"/>
            <a:ext cx="2695320" cy="197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838080" y="1676520"/>
            <a:ext cx="225612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4T08:41:30Z</dcterms:modified>
  <cp:revision>96</cp:revision>
  <dc:subject/>
  <dc:title>Soustava</dc:title>
</cp:coreProperties>
</file>