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31F-B464-412B-AC7B-15B37D33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D6B-949F-46A4-8DAE-EE0F604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CE5-17FC-4F2B-90BA-22EE5067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8E-835A-4698-B8D0-DBBF2388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AB3-2B3A-4422-8A0C-5B2689B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256-F397-4252-8E02-26EA9F4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31C-B0F4-4380-A8CB-F22C4C17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35F-0925-4A97-BC89-5D7FD11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67F-4859-4021-9227-3D5C9E49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45D-E343-4BA9-841A-9814590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573-9DB9-458C-8002-DEF991A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E62-F525-4BA6-A620-5F82B25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DF83-CDB4-4852-BD39-1DD984E421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76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3T12:37:40Z</dcterms:modified>
  <cp:revision>102</cp:revision>
  <dc:subject/>
  <dc:title>Soustava</dc:title>
</cp:coreProperties>
</file>