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93F-B0E5-4587-9B19-2120CF86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67B-548E-41CF-9E0F-9909DA1C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BD7-230C-411A-A86E-8EE23303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282-C936-45D8-8273-39847D2E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1DD-2582-4424-A7C6-9782016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47B-7A94-47C5-A617-6E8E48B0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1A8-26C9-43F2-B4EE-3DCF389E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E61-CE80-499A-B019-9404D73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C7D-D21E-468F-8A71-86701B5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BA3-D58C-4884-9F55-904BA93F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17E-833E-45E4-B27D-C5FB5F0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726-C783-4929-AECF-4E85312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886A-D3E6-4FAE-A3E2-384978586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 jednosměrných rea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6:14Z</dcterms:modified>
  <cp:revision>113</cp:revision>
  <dc:subject/>
  <dc:title>Soustava</dc:title>
</cp:coreProperties>
</file>