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A17B-ABBF-406F-B619-22B47963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1A2-B6B3-4722-AD8D-EF9B9936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2FB9-8223-4412-922F-C95F34D5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F85-2625-4141-8A08-CE91AB34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788-C45F-49FC-B1E4-BCBBE2D6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45C-25FB-4F66-B486-1B4A728E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3DF-B28E-47E8-95F6-55E3C24C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DC8-68D9-4ADA-8CF4-C5DC727C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4432-6631-40FC-BD9F-131DF6CF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BB34-C332-4FC1-A710-F0C014D8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41D-DC1A-4F00-9BDF-DE5891FB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D0C-4DC1-40D6-896A-72701972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CA94-FFCA-4ECC-8746-49747DC6A2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 jednosměrných reakc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1.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914400" y="152388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67652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863640" y="328464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306864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\ r = k[A]"/>
          <p:cNvPicPr/>
          <p:nvPr/>
        </p:nvPicPr>
        <p:blipFill>
          <a:blip r:embed="rId4"/>
          <a:stretch/>
        </p:blipFill>
        <p:spPr>
          <a:xfrm>
            <a:off x="7524720" y="187812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62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65" name="TextovéPole 6"/>
          <p:cNvSpPr/>
          <p:nvPr/>
        </p:nvSpPr>
        <p:spPr>
          <a:xfrm>
            <a:off x="4740120" y="22766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Obdélník 2"/>
          <p:cNvSpPr/>
          <p:nvPr/>
        </p:nvSpPr>
        <p:spPr>
          <a:xfrm>
            <a:off x="4642200" y="1700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3212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70" name="Obdélník 3"/>
          <p:cNvSpPr/>
          <p:nvPr/>
        </p:nvSpPr>
        <p:spPr>
          <a:xfrm>
            <a:off x="179280" y="60040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5-02-24T08:46:14Z</dcterms:modified>
  <cp:revision>113</cp:revision>
  <dc:subject/>
  <dc:title>Soustava</dc:title>
</cp:coreProperties>
</file>