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68E6-1E9A-456D-A37D-00453C4C4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0E03-22AD-464C-B85A-4723B6C4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109E-D7CB-481D-899B-EE050F1A9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4145-00F0-4376-8021-4E4E22940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C339-3E1E-4EA4-864B-3D19130C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EBB3-9676-422D-911E-6423C7AC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0056-2C25-47DE-B6E5-8DA6A411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AE9C-4977-4D84-9EC1-F9A65EA3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62E2-F941-4F1F-98BB-791CD108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0C73-627E-4122-AE0A-D8654F2D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9276-EF6E-42B5-AA96-6AA92B7E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21AB-5F20-4BE8-BDA7-04379753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0B84-2666-46E2-B51A-DE16B770DD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ákladní pojmy veličiny a klasifika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4" descr="http://biologycorner.com/resources/elodea_set_up_02.jpg"/>
          <p:cNvPicPr/>
          <p:nvPr/>
        </p:nvPicPr>
        <p:blipFill>
          <a:blip r:embed="rId1"/>
          <a:stretch/>
        </p:blipFill>
        <p:spPr>
          <a:xfrm>
            <a:off x="1979640" y="2637000"/>
            <a:ext cx="388764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Zákony zachování pro chemické reak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2909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457200" y="3713040"/>
            <a:ext cx="815328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8000"/>
                </a:solidFill>
                <a:latin typeface="Times New Roman"/>
              </a:rPr>
              <a:t>Rozdělení reakcí (jeden z pohledů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304920" y="744480"/>
            <a:ext cx="883908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říkla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2" name="Picture 3" descr="C:\Documents and Settings\Sopoušek\Dokumenty\Obrázky\katalýza enzymy.jpg"/>
          <p:cNvPicPr/>
          <p:nvPr/>
        </p:nvPicPr>
        <p:blipFill>
          <a:blip r:embed="rId1"/>
          <a:stretch/>
        </p:blipFill>
        <p:spPr>
          <a:xfrm>
            <a:off x="762120" y="4419720"/>
            <a:ext cx="3554280" cy="1850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Documents and Settings\Sopoušek\Dokumenty\Obrázky\Ohen.jpg"/>
          <p:cNvPicPr/>
          <p:nvPr/>
        </p:nvPicPr>
        <p:blipFill>
          <a:blip r:embed="rId2"/>
          <a:stretch/>
        </p:blipFill>
        <p:spPr>
          <a:xfrm>
            <a:off x="6781680" y="1066680"/>
            <a:ext cx="1589040" cy="4916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Documents and Settings\Sopoušek\Dokumenty\Obrázky\řetězová reakce U.jpg"/>
          <p:cNvPicPr/>
          <p:nvPr/>
        </p:nvPicPr>
        <p:blipFill>
          <a:blip r:embed="rId3"/>
          <a:stretch/>
        </p:blipFill>
        <p:spPr>
          <a:xfrm>
            <a:off x="3505320" y="1752480"/>
            <a:ext cx="2695320" cy="1979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Documents and Settings\Sopoušek\Dokumenty\Obrázky\reakce_katalýza.jpg"/>
          <p:cNvPicPr/>
          <p:nvPr/>
        </p:nvPicPr>
        <p:blipFill>
          <a:blip r:embed="rId4"/>
          <a:stretch/>
        </p:blipFill>
        <p:spPr>
          <a:xfrm>
            <a:off x="838080" y="1676520"/>
            <a:ext cx="225612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7" name="Picture 7" descr="C:\Documents and Settings\Sopoušek\Dokumenty\Obrázky\reakce exo_endo.gif"/>
          <p:cNvPicPr/>
          <p:nvPr/>
        </p:nvPicPr>
        <p:blipFill>
          <a:blip r:embed="rId1"/>
          <a:stretch/>
        </p:blipFill>
        <p:spPr>
          <a:xfrm>
            <a:off x="1828800" y="1828800"/>
            <a:ext cx="541008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Chemická kinetika vs. Termodynamika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2046240"/>
            <a:ext cx="91440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28600" y="606600"/>
            <a:ext cx="8686800" cy="56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Chemické reakce a rovnice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Stechiometrická chemická rovni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Matematický zápis rovni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11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5-02-24T08:41:30Z</dcterms:modified>
  <cp:revision>96</cp:revision>
  <dc:subject/>
  <dc:title>Soustava</dc:title>
</cp:coreProperties>
</file>