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7C55-A1E3-4429-A876-AD2D7D20F6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B46-4B49-4957-A93E-473DF89C17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103-6970-4139-9E85-904DDFD8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F37-7952-48C9-B52C-642DAFDD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E59-B4B1-433C-BE17-E24C3F4B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C65-4858-4649-B97A-DACDFCD5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85C-3219-4600-82D1-28388174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6089-15B1-4156-A57A-582E9D01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055A-C89C-42AC-A210-1F3C6CA0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4A9-24D9-49E1-98BA-BCE7ACC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51F-3F4A-47BB-B218-1EE9904F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65B2-BC3F-420F-BD65-C20935B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C44F-1173-4AAC-A543-7F7683F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E9F-3382-4CE1-BABF-208DBFC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494-A04A-4C59-9469-EEC8280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3A6-512E-4C5D-936E-C3BF620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A8B1-3A44-4FA6-B44D-572E6088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1A5E-A963-4547-A321-0B091C37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32CD-D7A7-4FB6-A52C-13FA61F7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1F7F-8AC6-4EF2-AA99-EDD24AA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A2F5-E6D8-42AA-A351-35B898A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ED66-8D69-4821-AD86-E7A5EE8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37F3-5FD4-40A0-8A85-2A42424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E1C7-4D89-4AB9-9DD4-87576A0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E7E-2F1A-4062-A753-C12AD944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CFA9-C61B-499B-AAC0-87746C42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B67A-97F4-40D2-A0B4-BE1CA6B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BD8D-3C53-472A-A8C3-A77FC5A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15FD-41E7-4B38-84BF-59A83D4B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B231-AD5B-4678-B9E1-D6ED9A9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AB01-DDF4-4F16-AA5F-F95B4055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A2DF-1A82-4264-B9F4-92695CD3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574-0860-47E6-AD2C-E41DB74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32D-1DD0-4C5A-99B6-AAC6A325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16F-BD57-4A98-B648-E6EF732A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868-CBB6-4D32-89DC-3015B7E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E94-6434-4C43-8872-9A31EA5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0A1-EB5D-4ED1-A5EE-CE095E6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AF04-46BB-4CAB-B705-CFCF43653A3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7397-B300-47CA-8E33-50A5F898A78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D1F-AF75-4E06-AEDE-3BFADB9E9EF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699-FE26-40DB-A29E-7E32182D9CD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A21F-6AE9-480B-B698-8956DE588C1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4CCC-B491-4640-BF4F-52DF0613B4D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613-E83A-44A2-84C0-633745F90D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3E13-2BD1-4385-8AB4-E3ACEB8BD6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90440" y="433440"/>
            <a:ext cx="87631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209-8F15-436D-8844-017350CB78C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CBA-4BCC-4991-B3C6-AE83F7B854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1547640" y="3141720"/>
            <a:ext cx="3762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D142-1A56-4A0A-903C-28E6AC6841F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DBE-5821-4741-A552-CC9C5A69BE6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A55-E196-4462-8CFB-504BDEF7942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68D-41FB-49A0-B43D-55DB7CB5756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196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151-938A-42B0-8B4B-A62CE4DBE32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2A46-1F60-47CD-A146-FB33841071E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8E3A-8DD9-4B87-99EF-80F4C3F0363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C8A6-9C6C-43E3-B270-50CB3826777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123B-CB24-48A2-B0E5-7C3D83AC731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C3CD-D308-480B-8425-D85A862DE2C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www1.phc.uni-kiel.de/cms/images/stories/Friedrichs/stossrohr_bunt_web.jpg"/>
          <p:cNvPicPr/>
          <p:nvPr/>
        </p:nvPicPr>
        <p:blipFill>
          <a:blip r:embed="rId2"/>
          <a:stretch/>
        </p:blipFill>
        <p:spPr>
          <a:xfrm>
            <a:off x="312840" y="2781360"/>
            <a:ext cx="6505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F1E-6492-451F-9DF8-CDDB1DBEFB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0DB5-8C37-4664-ACAF-13205B1B990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66760" y="2009880"/>
            <a:ext cx="8610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3181-207C-47E5-99FC-D38B225B458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8A7-3EC0-4E23-BA0F-1B400E4BD05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3920" y="647640"/>
            <a:ext cx="869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0386-5154-47C8-9654-6CEA0AF7188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6163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2DE-A52A-4F14-A379-C770778D7F7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C73-D1D8-41FF-8AB6-087DFCEE37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5ED2-E0BE-4A73-B24B-4DEBDA4720C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71360" y="404640"/>
            <a:ext cx="8753400" cy="239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6840" y="3409920"/>
            <a:ext cx="882792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1042920" y="59500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8F5F-2D6B-4A3F-AE9A-6BAE2957BF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C834-F029-4C09-A477-5C6D302953B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DF64-078B-4891-A032-BB12E0C7FF8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2864-EABB-46A9-B580-E51E508C557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5-03-24T08:57:40Z</dcterms:modified>
  <cp:revision>26</cp:revision>
  <dc:subject/>
  <dc:title>Prezentace aplikace PowerPoint</dc:title>
</cp:coreProperties>
</file>