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F03-5CB4-4622-B257-7883E67B46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CF88-787F-4C7F-BCC8-D60A00FFB3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07B-FDC9-4047-B927-3A82549E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F78-BAD7-4F49-848C-C18DA77F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4744A-6AAD-42CE-8BCC-3C70697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D72BA-371F-4022-8CE9-58B6C8D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1CB73-7433-403C-A62F-F9A1CB37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2ECD8-903F-4740-9C54-90A190F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941F-4E70-40D9-B167-9C2402F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AA3EB-4886-4E55-A018-197D36A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EA44A-9C3C-4AB1-B1AD-722168A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0D7C-46F5-4CF2-9775-F3646E49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4572E-973F-48E4-B912-D7491ADD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29EC5-D191-4D3A-A69C-5C8F5D7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305-2623-468B-A882-F4E282E2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B560-F20D-42BE-9B8C-25E374F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269EB-681E-455D-93EF-91F472B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F95CC-4B06-402A-BD0B-6B16A354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1E785-C086-4F54-B555-C2541D2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7E508-E4CA-4D48-AC76-3F997507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26B6-A11C-4D83-BE4F-F02E62B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41623-DF74-46D5-8610-2DE335C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89F50-7EB1-4181-BADC-DC2FEA4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243F4-9357-482A-9E08-5937367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D2E62-76D9-4A06-82C1-433FF01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D40-B7BB-4176-B301-84E8A1AC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D59D3-0814-49C6-9F09-7C0EE830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DF58C-26DC-4892-960A-261E555E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F7D88-0249-40E5-9C2F-65D82115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52F50-E399-4D0F-A9FA-D7122F6D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0534E-572D-41C3-90C3-56020E3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BEC5F-759D-4BCA-B997-D7D1ECCA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9D78E-B7C1-49DC-B84A-573D2D5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28F5-71F6-4781-BD35-459D7B72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3535F-5B1A-487B-B124-D835C69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35216-4ACE-42A0-B5CB-FE74AF9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F96-5763-42F6-BAB1-6017C1A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B0147-09BD-4FAA-9A37-07DD39F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0C8A-725F-4D67-A4BE-8FA9FC25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7E13-4BF9-405C-B2F8-5DBAFC7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1D3E1-89C3-4F8D-9FE5-104C7728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D0B7F-7713-4406-B378-2122C36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8C344-EB8D-4FA6-B0F6-536B573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3FEAE-3BA8-4D64-8DA6-9350A510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BF31E-1DCB-4D12-BB8D-415B013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D76D6-56C7-48F5-B384-120DF2A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4F340-7880-4A4B-94FD-50F8B34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389-C213-458F-A641-5A0EE76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8D763-8E71-4C09-B0B0-CF124A7C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33E78-40A0-401C-B39F-4727F04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7A6D3-EF5C-4645-8734-438EFEB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F5CCC-DC4F-4927-AD28-F54CC378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359ED-3E3C-477A-8BA8-D017EF52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80AFE-46F4-479B-BE8D-0FBB11F4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0C5F0-CD05-49C0-BC86-7EB21F4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F020E-E2D0-44E1-BA69-D9D0F72E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C3C2D-3F94-4B34-87A8-20CDF453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87CD5-8C98-4F0E-8DD1-EEDB945F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0A1A-5642-4334-948A-8AEB7A23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0BD29-79BB-45A4-873C-852A3C79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0DF76-BE3F-4EAC-B567-7CAF25F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67460-92DB-4C53-9A2B-2FDAD0E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04DD4-7D83-4609-9208-FF8D11E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5D7AE-5494-4972-A21F-E9DEB101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AA4F4-570A-40A1-99BB-E3D1986C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A7EEE-5AC6-4709-B415-29FE8E2C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44AB-0A04-497A-A8A1-D6D4453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A4E-B277-469C-81FE-D3A9CD7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0B0B-CED0-4D6C-8C31-B57D3A27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ECDA-F511-4B1E-A01C-000A179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553-3A3E-450E-9F63-3C56F730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F25F-6660-44AC-8016-20C0FA8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D8E-7102-4053-BBD5-87694488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A0D-D1DD-4C72-A93E-EF8AD74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FBF-480D-497B-8140-7C7D760D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F184-08DF-4C1A-A1B8-919CA0B5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F890-A7FF-4A41-913A-BA165FD6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30C8-B455-4470-B9B2-362FC9B0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DFD9-6E26-4EFE-BDF1-E67BAC0F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A2F0-A8F6-4E17-BAAD-6E7DB09F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641E-61C7-4E6F-A6A7-97C4541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596-86D5-4830-8370-D194B973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1DE4-BAE3-4904-8E53-75B45B00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0686-0BE2-4429-AC30-92745FA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2F9B-3AB7-4B60-9CC0-714F6FF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3476-2F70-488B-81CE-C51C043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1654-1F50-499E-90CE-BD3A7B5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213A-83A7-4300-9DA8-D6F1F495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F892-64E8-4472-BB82-EB858839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F438-94FF-4F45-8B0C-E6029A5A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0AEB-FDDC-45F8-B1F9-8E833F2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4809-B3B8-431C-8ED6-A5DB5767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307-391F-44CE-A365-50243CB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278C-7E3C-486B-93FB-94547E7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95F3-3B5E-444C-9E70-AAF42D5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C8FC-2498-4607-A06E-FF29CEE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A9F3-493C-41FA-86B5-60A46D0F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BBA7-478D-4DA1-9250-5A002D3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AE9B-0583-4B8C-8724-F2203D4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6648-5864-41A6-8898-4FEEC9B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FEC2-54C9-4795-B01F-BE0BE396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1A8C-B527-4F12-9D46-1F0D53B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4F5E-5AC1-4448-B242-BF1F26B8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893-3DBB-4851-8087-B86E98C7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0432-BBFC-4F2F-A7F6-D17B5BD7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9E79-695F-4BD8-8D88-C794C375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1BFC-EE4A-4423-8078-F9DE461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1E79-17A3-464F-87CB-04655848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3FCE-5AB1-4DBA-A4E4-B24CDD0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6B5E-3E10-43EF-9CB8-D18800E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C0CC-9F17-455E-B313-4197BF1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D97E-22D2-4656-B810-751FD15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B7481-24B3-4324-8300-7C229372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1903-D863-45C4-A2C2-72170EC1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C75-F7F3-4F80-B63E-185DD563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CB90-E9FF-46DE-96FD-799AAF2B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D5E9F-6ECF-42BD-9D65-712D3E26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01F43-4A44-4690-9C2B-9F9FD45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7576-C8F4-47D1-8EB4-AFC5654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19013-3DB0-49C3-AF1F-D9CA661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1F4C-8DBE-469D-9C8F-D8B76850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5AAF-2B86-40CE-BAA0-80455C3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720D-307D-4ABD-84B8-472027B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41421-174F-4BAA-B562-F3E460B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226E5-DCAD-4AF9-841B-7A4EE10A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45F-2188-4AE5-AF6A-2F54D5B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7DCB-1AF4-4C17-9219-7F32EF9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2BBC-DC26-450F-949C-95E25F98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8B753-733C-4EE7-B51D-EE95763D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3B2F-22BF-4D2D-A575-3DFB8583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8C4A-7063-4562-8B5A-447807CD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7481-09A1-4D65-94EF-5B7E2E4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1CC5-E39F-456E-9F7B-AAFC2A08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8B3F-75F1-4A2C-9F44-C876B21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E56D-8569-4B5C-BA1F-A130A8B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E6F0-07A9-480D-ADAF-F8C1FDD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819-0F3E-4ACA-A216-B87677F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C41B-6181-45E8-8E6F-961DD52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9598-1B6A-4745-A18E-9B870BA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231B-6E04-465E-A546-7C4598DB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6DD3-13E6-48B1-967F-D43F9C0D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5F31-CD70-4F57-BBD2-51E25B6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07232-9A61-4504-8E37-D7440520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0E3B-25A5-4EA1-89C6-D3E2A93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E80CA-62C7-4195-B0FF-A6976AF0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8D5D-969C-4D79-9477-B229330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4AC9-2006-4B81-851C-68BC0A6D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627-AE05-439A-A5DD-D0305A0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3879C-423B-40BB-964B-C0D6AC5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9A2D-5EFA-4AF9-95B0-EFB0B8F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2783-4251-4BD0-86DB-AF9E4CD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A76DE-4788-4037-B004-D487B5E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919D-7BBA-4FEC-B647-BC473358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C69EB-814D-47FD-B326-67C415A8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C880-4DB0-4D10-B9D5-8F188D73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3A1D1-8D89-4474-B433-5B539E68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3047F-5978-43E2-A1FB-620C0EC7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74E58-AA29-49EF-8196-48CC278D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A7B-D13F-417F-A1EA-1D122F374D7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6B5-86D2-4B7B-A212-A046139827E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4AB-A707-45FF-A112-4BFDED9BFC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6F1-26F1-44FA-83BF-44BBBBD5115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C6D-EC32-4E9A-BB04-F343B30AF43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20EE-354B-4D2B-B6CB-A5029450FB8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631-7D5F-4CDD-8C8B-448F003A4BB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1D3-AAC1-44A0-89B2-9D350F71265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290-5D18-4ABB-BF18-58C9D4C14E7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16E6-B55D-446E-82BE-1A79DEC3A1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2B44-A6C9-4EBB-B194-AF6D04D7690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CB1-9F2C-48D8-8841-F66FEFD4A0A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290-AE74-48D5-B64D-1FD69871C1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FD0-0018-439B-88B4-B4D05F458CC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1527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85FD-130F-4266-89FC-E15A41C0748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62D-C7E9-46E4-91BE-8BF13B4AE07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0000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917B-73FD-42EE-8F9C-5362C8671BD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itel</cp:lastModifiedBy>
  <dcterms:modified xsi:type="dcterms:W3CDTF">2013-03-25T13:56:56Z</dcterms:modified>
  <cp:revision>20</cp:revision>
  <dc:subject/>
  <dc:title>Prezentace aplikace PowerPoint</dc:title>
</cp:coreProperties>
</file>