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F33D-267F-4ECF-8B34-CC0DFEE44DA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7313-4237-4BE8-A7DD-FDBFDC1C7BC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2B8-C246-4C0B-BEB1-7EAD3E53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FD30-517F-4B99-912E-894C39FA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0ED0-CE69-4865-B88F-6129F447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8B1E-BB7A-4545-BBE1-AB72E35F4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2F8E-C7B2-459B-9191-AA0747AF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0D8C-8DD6-4881-B875-3AD90CE2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9C80-C569-4621-8CA7-867358CD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EE5D-F806-4871-BBBC-27FEBF99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85A0-730B-400F-A99A-D7C4AE51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0BE7-9367-46AD-A4C6-24F4D893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37FA-B24C-4924-9FDF-DAEF3FBB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8CBF-01EC-460A-8E52-E44316FB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7F16-F844-41DB-A088-F5188DE2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4FD5-B193-4014-A050-9BF78A8E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EA61-E74A-4BB4-B825-450F27E4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5190-C097-434B-83F0-CF61E7E2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5CCF-9257-486F-B45D-44567179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0A9-719A-42E1-BF61-507E4429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4C57-9742-4248-A00C-A11E922B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DE7C-381A-4E77-8A17-25CF3D15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BCE-34EC-4390-BB17-5AA3A5AF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A35-2046-4399-8E46-509D7558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316A-A1A5-4BEF-AD28-19D31020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C0C-E544-45FE-8C02-8B299EFF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907D-6673-4481-8B4F-46085AD57DD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8B4F-F18D-45B2-A2E7-FD5825F916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http://www.jergym.hiedu.cz/~canovm/mechanic/pravidl2/haber/haber.htm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http://dl.cuni.cz/cuni/mod/resource/view.php?id=945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jergym.hiedu.cz/~canovm/mechanic/pravidl2.html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Zástupný symbol pro číslo snímku 1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0A16-B7E8-4BFC-90EC-7D1ADCEC07E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95440" y="260280"/>
            <a:ext cx="78642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3-02-25T09:46:19Z</dcterms:modified>
  <cp:revision>23</cp:revision>
  <dc:subject/>
  <dc:title>Prezentace aplikace PowerPoint</dc:title>
</cp:coreProperties>
</file>