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12.png" ContentType="image/png"/>
  <Override PartName="/ppt/media/image9.wmf" ContentType="image/x-wmf"/>
  <Override PartName="/ppt/media/image34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32.png" ContentType="image/png"/>
  <Override PartName="/ppt/media/image15.wmf" ContentType="image/x-wmf"/>
  <Override PartName="/ppt/media/image5.png" ContentType="image/png"/>
  <Override PartName="/ppt/media/image35.png" ContentType="image/png"/>
  <Override PartName="/ppt/media/image20.png" ContentType="image/png"/>
  <Override PartName="/ppt/media/image18.wmf" ContentType="image/x-wmf"/>
  <Override PartName="/ppt/media/image36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6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AA13-70C1-43B4-AA10-DC044FBF48F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CD79-ED1F-4D07-8216-156382066682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E8D2-8FE2-48E0-A4F2-AD9DAB4F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470D-3949-4B62-A89A-3175DD82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3141-4137-4A50-8F3F-7CCFD2FD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5734-2027-4048-A279-CC55EF99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32DF-617B-4AC4-8BB4-F4EEB763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FFD5-D2E8-4488-A5ED-B144F0C1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53DA-AD55-44FE-8796-571B9623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1AA3-D95A-470B-B5AF-94440347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8AC1-7D0E-4A9D-A15A-3809B7E3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CDB4-2722-418E-B6B9-6612317A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DA94-D833-4E93-9FB8-BA7B7ADA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5541-45B0-4716-8B09-64FECC65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1BA7-02AD-4760-8F8D-E65585B0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65E6-93C9-4444-B1DA-15E5041F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8808-4033-454E-BD50-36828856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9170-2D84-4436-87CF-ED1E3D70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B7CB-6ACD-470A-AC8E-33D34361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2956-8C17-48EC-B800-09D5B06E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0982-141F-48EF-971C-89181E7D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5617-6528-40B9-B87A-BC7736A9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A140-AD3F-4928-91E2-5F3067C5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ECFF-A5E4-4407-A09C-FAEE0748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5258-3B9D-4564-9D11-EF3C25FA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E4AA-4598-4CF0-A90C-88A7E0EB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D826-DB09-42BF-AC8D-113641220B8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EF21-2672-4FE2-A35E-29470DB794FE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407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ermodynamika chemických reakc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49" name="Picture 4" descr="C:\Documents and Settings\Sopoušek\Dokumenty\Obrázky\Chemické reakce\reakce barevná.bmp"/>
          <p:cNvPicPr/>
          <p:nvPr/>
        </p:nvPicPr>
        <p:blipFill>
          <a:blip r:embed="rId1"/>
          <a:stretch/>
        </p:blipFill>
        <p:spPr>
          <a:xfrm>
            <a:off x="4114800" y="2286000"/>
            <a:ext cx="41148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6094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Rozdělení reakcí (jeden z pohledů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304920" y="744480"/>
            <a:ext cx="8839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0" name="Picture 4" descr="C:\Documents and Settings\Sopoušek\Dokumenty\Obrázky\Chemické reakce\reakce ch4+H2o.gif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454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C:\Documents and Settings\Sopoušek\Dokumenty\Obrázky\Chemické reakce\H2_O2.gif"/>
          <p:cNvPicPr/>
          <p:nvPr/>
        </p:nvPicPr>
        <p:blipFill>
          <a:blip r:embed="rId2"/>
          <a:stretch/>
        </p:blipFill>
        <p:spPr>
          <a:xfrm>
            <a:off x="5638680" y="43434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6324480" y="129528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Odpovídají reakční rovnice skutečnosti? Najdi chybu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Termodynamické důvody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Samovolné procesy jsou provázeny růstem entropie (vysvětlení viz lit.: Olmsted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Entropii čistých látek i sloučenin lze vypočítat z 3.V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Pro uzavřené soustavy s konst. P a T je kriteriem Gibbsova energi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Pro uzavřené soustavy s konst. V a T je kriteriem Helmholzova energie  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5"/>
          <a:stretch/>
        </p:blipFill>
        <p:spPr>
          <a:xfrm>
            <a:off x="6172200" y="3882960"/>
            <a:ext cx="2454120" cy="461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5943600" y="5105520"/>
            <a:ext cx="2590920" cy="4597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F=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U-T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92160"/>
            <a:ext cx="693432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Jak se mění Gibbsova energie při chemické reakci?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33224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914400" y="1066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apř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2133720" cy="1039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7791480" cy="558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3"/>
          <a:stretch/>
        </p:blipFill>
        <p:spPr>
          <a:xfrm>
            <a:off x="990720" y="4952880"/>
            <a:ext cx="2361960" cy="100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4"/>
          <a:stretch/>
        </p:blipFill>
        <p:spPr>
          <a:xfrm>
            <a:off x="2438280" y="6095880"/>
            <a:ext cx="1184400" cy="532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38088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V rovnováz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33548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2"/>
              <p:cNvSpPr txBox="1"/>
              <p:nvPr/>
            </p:nvSpPr>
            <p:spPr>
              <a:xfrm>
                <a:off x="2895480" y="990720"/>
                <a:ext cx="18288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4" name="Picture 15" descr=""/>
          <p:cNvPicPr/>
          <p:nvPr/>
        </p:nvPicPr>
        <p:blipFill>
          <a:blip r:embed="rId5"/>
          <a:stretch/>
        </p:blipFill>
        <p:spPr>
          <a:xfrm>
            <a:off x="5486400" y="838080"/>
            <a:ext cx="3429000" cy="3408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228600" y="1981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Rozsah reakc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6" name="Picture 17" descr=""/>
          <p:cNvPicPr/>
          <p:nvPr/>
        </p:nvPicPr>
        <p:blipFill>
          <a:blip r:embed="rId6"/>
          <a:stretch/>
        </p:blipFill>
        <p:spPr>
          <a:xfrm>
            <a:off x="457200" y="3352680"/>
            <a:ext cx="1371600" cy="420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"/>
          <p:cNvPicPr/>
          <p:nvPr/>
        </p:nvPicPr>
        <p:blipFill>
          <a:blip r:embed="rId7"/>
          <a:stretch/>
        </p:blipFill>
        <p:spPr>
          <a:xfrm>
            <a:off x="457200" y="2819520"/>
            <a:ext cx="1295280" cy="4521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9"/>
          <p:cNvSpPr/>
          <p:nvPr/>
        </p:nvSpPr>
        <p:spPr>
          <a:xfrm>
            <a:off x="4114800" y="525780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Chemické reakce způsobuje snaha o snížení G soustavy (integr. podmínka), látky reagují tak dlouho až dojde k vyrovnání chemického potenciálu (dif. podm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3505320" y="129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0" name="Picture 21" descr=""/>
          <p:cNvPicPr/>
          <p:nvPr/>
        </p:nvPicPr>
        <p:blipFill>
          <a:blip r:embed="rId8"/>
          <a:stretch/>
        </p:blipFill>
        <p:spPr>
          <a:xfrm>
            <a:off x="2514600" y="1752480"/>
            <a:ext cx="25909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Reakční Gibbsova energie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324840" cy="8906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3173760" y="1066680"/>
            <a:ext cx="22006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+3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2 N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581280" y="2590920"/>
            <a:ext cx="1371600" cy="6904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0" y="26668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Obecný matematický zápis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3809880" cy="843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4"/>
          <a:stretch/>
        </p:blipFill>
        <p:spPr>
          <a:xfrm>
            <a:off x="6019920" y="3429000"/>
            <a:ext cx="2286000" cy="873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0"/>
          <p:cNvSpPr/>
          <p:nvPr/>
        </p:nvSpPr>
        <p:spPr>
          <a:xfrm>
            <a:off x="4724280" y="3657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Nebo-li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5"/>
          <a:stretch/>
        </p:blipFill>
        <p:spPr>
          <a:xfrm>
            <a:off x="609480" y="5013360"/>
            <a:ext cx="2971800" cy="7444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2"/>
          <p:cNvSpPr/>
          <p:nvPr/>
        </p:nvSpPr>
        <p:spPr>
          <a:xfrm>
            <a:off x="3886200" y="51055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kde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Picture 13" descr=""/>
          <p:cNvPicPr/>
          <p:nvPr/>
        </p:nvPicPr>
        <p:blipFill>
          <a:blip r:embed="rId6"/>
          <a:stretch/>
        </p:blipFill>
        <p:spPr>
          <a:xfrm>
            <a:off x="4800600" y="4952880"/>
            <a:ext cx="914400" cy="641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4"/>
          <p:cNvSpPr/>
          <p:nvPr/>
        </p:nvSpPr>
        <p:spPr>
          <a:xfrm>
            <a:off x="6629400" y="51055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Např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41259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3745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8"/>
              <p:cNvSpPr txBox="1"/>
              <p:nvPr/>
            </p:nvSpPr>
            <p:spPr>
              <a:xfrm>
                <a:off x="5943600" y="5562720"/>
                <a:ext cx="25797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≃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Text Box 20"/>
          <p:cNvSpPr/>
          <p:nvPr/>
        </p:nvSpPr>
        <p:spPr>
          <a:xfrm>
            <a:off x="533520" y="5943600"/>
            <a:ext cx="4876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Reakce běží dokud Q nedosáhne rovnovážné hodnoty (K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43080" y="3860640"/>
            <a:ext cx="8800920" cy="29973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Změny termodynamických funkcí a samovolnos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6689880" y="2666880"/>
            <a:ext cx="2454120" cy="4622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304920" y="242424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izké teploty: převládá entalpický příspěve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Vysoké teploty: převládá entropický příspěvek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1360" y="-3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tabilita sádrov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25040" cy="2252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7925040" cy="743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3"/>
          <a:stretch/>
        </p:blipFill>
        <p:spPr>
          <a:xfrm>
            <a:off x="2971800" y="1143000"/>
            <a:ext cx="289548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74040"/>
            <a:ext cx="7259760" cy="94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Výpočty reakčních termodynamických funkcí: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571680" y="1981080"/>
            <a:ext cx="8001000" cy="7588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723960" y="1295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Z tvorných Gibbsových energií reaktantů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04920" y="29718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Analogicky pro entalpii a entropii: …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960" y="190080"/>
            <a:ext cx="7621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fektivita buňk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746280" y="2362320"/>
            <a:ext cx="7650000" cy="6951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304920" y="1981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2) Prostá oxidace glukózy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04920" y="914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1) Celková reakce v buňc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2"/>
          <a:stretch/>
        </p:blipFill>
        <p:spPr>
          <a:xfrm>
            <a:off x="419040" y="1371600"/>
            <a:ext cx="8305920" cy="6746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04920" y="2971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3) Přeměna 36 ADP na 36 ATP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3"/>
          <a:stretch/>
        </p:blipFill>
        <p:spPr>
          <a:xfrm>
            <a:off x="495360" y="3429000"/>
            <a:ext cx="8153280" cy="538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"/>
          <p:cNvPicPr/>
          <p:nvPr/>
        </p:nvPicPr>
        <p:blipFill>
          <a:blip r:embed="rId4"/>
          <a:stretch/>
        </p:blipFill>
        <p:spPr>
          <a:xfrm>
            <a:off x="1752480" y="4572000"/>
            <a:ext cx="4343400" cy="485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990720" y="4114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Celkový efekt kombinace reakcí v buňce (2) a (3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09480" y="5257800"/>
            <a:ext cx="792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Výsledek: ačkoliv 1100kJ je uloženo do ATP , zbytek (tj. 1770kJ) se nevyužije a přemění se v tepelný pohyb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Tj. účinnost buňky je 38%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635040"/>
            <a:ext cx="74055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kladní vztah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1268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4057560" cy="1930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3"/>
          <a:stretch/>
        </p:blipFill>
        <p:spPr>
          <a:xfrm>
            <a:off x="3048120" y="5105520"/>
            <a:ext cx="3047760" cy="600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"/>
          <p:cNvPicPr/>
          <p:nvPr/>
        </p:nvPicPr>
        <p:blipFill>
          <a:blip r:embed="rId4"/>
          <a:stretch/>
        </p:blipFill>
        <p:spPr>
          <a:xfrm>
            <a:off x="2514600" y="6019920"/>
            <a:ext cx="2895480" cy="495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5"/>
          <a:stretch/>
        </p:blipFill>
        <p:spPr>
          <a:xfrm>
            <a:off x="5638680" y="5943600"/>
            <a:ext cx="2286000" cy="6224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8"/>
          <p:cNvSpPr/>
          <p:nvPr/>
        </p:nvSpPr>
        <p:spPr>
          <a:xfrm>
            <a:off x="762120" y="5105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Možný efekt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28600" y="6019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V rovnov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02-17T08:47:41Z</dcterms:modified>
  <cp:revision>53</cp:revision>
  <dc:subject/>
  <dc:title>C6730 Fázové rovnováhy</dc:title>
</cp:coreProperties>
</file>