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F972-32F5-4739-85E5-D348C3EB67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2FB1-68C7-4F5A-9683-8F93B5FD101A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8A02-01EE-4EF7-9BF6-06D2C8C02D14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D5E3-0FFC-4C42-8D9A-EEAF3D43BE4E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3E42-4D97-41A8-947B-48FDD32BD744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0C95-B4F5-4BEB-BCA5-FFF314C34740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7F15-5BCD-4B5A-8EE0-1433CC93B691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4D7C-63FE-4195-BC06-0D6511F8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E9A-030A-4425-AAB4-01C2F12B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014-6233-4FFF-B96E-484CABAC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7BC-62D9-4FDF-8013-8AF4BC28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6C60-CFF3-441F-93E8-BD9E6DB8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A532-5758-4247-A736-AA6F4677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F8B9-9493-4C36-8A97-207B6543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86C9-FF9C-49E7-997A-85E16CF7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CAEC-FED8-4914-AFA6-90FE4F97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3FE3-F2DC-4E76-9FC4-1611337C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A9B8-288E-4BF1-90A0-E557F63F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150-F7D1-4A54-BB1F-913B90B2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9A59-F9FD-4771-8C35-55745DF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337A-00A9-4C5B-AA1A-C30BC329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C05C-8E43-411C-9EA5-C1C957D6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9AE1-6287-48CF-A977-5926E3A3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D3FD-AFE9-496E-A739-37F50335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122-6B92-43FF-8A75-F6105F13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180-D77A-49BA-B06D-012D895F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7C7-1722-4F90-B10D-4651B173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404-E14A-4D4E-A7FC-0CBC6341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568-3867-42AB-9350-5CB247F0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D65-ECB8-49A9-AE3C-6F10410A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47B-1813-4127-8FA0-E677B529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2CB2-E696-4ECF-8FDB-58E3DCE9A3C9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74D2-B13C-4BA5-BDFE-3CC0D369A2C1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ká kinetika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br>
              <a:rPr sz="4400"/>
            </a:b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85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studoval rychlost inverze sacharózy (tj. hydrolýzy na D - (+) - glukózu a D - (-) - fruktózu v přítomnosti kyseliny) a zjistil, že je úměrná koncentraci jak cukru tak i kyseliny.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formuloval "zákon působení hmoty", podle kterého reakční "síly" jsou přímo úměrné součinu koncentrace reaktantů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s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/([A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de a, b, r and s jsou stechiometrické koeficienty pro chemickou reakci A+B=R+S. A to tak, že rychlost dopředné reakce je  úměrná součinu [A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 rychlost zpětné reakce je úměrná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analyzovali reakci mezi H2O2 a HI a mezi KMnO4 a (COOH)2.  Napsali odpovídající diferenciální rovnice, integrovali je a určili koncentrace v závislosti na čase. Také navrhli rovnici pro teplotní závislosti rychlosti reakce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.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publikoval své "Studie o chemické dynamice" (Études de dynamique CHIMIQUE), ve kterých zobecnil a dále rozvíjel práci Wilhelmyho (o sacharoze)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1885 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Uvedli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iferenciální metodu analýzy a rovněž analyzovali teplotní závislost rovnovážné konstanty (pojmenovali ji "van't Hoff rovnice"). Sledovali reakcí dopřednou i zpětnou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zavádí pojmy "řád reakce" a „poločas reakce" ve své knize: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ále analyzoval teplotní závislost reakční rychlosti a zjistil, že lépe odpovídá vzta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 exp (-B / t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de zajedl pojem "energetická bariéra" .  Dnes nese tato rovnice jeho jmén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1912 Mentenová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Se zabývala enzymovou kinetikou a popsala rychlost enzymové reakc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ovéPole 1"/>
          <p:cNvSpPr/>
          <p:nvPr/>
        </p:nvSpPr>
        <p:spPr>
          <a:xfrm>
            <a:off x="684360" y="2349360"/>
            <a:ext cx="395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racovala v oddělení prof. Michael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tala se profesorkou v 79-ti letech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Picture 2" descr="http://1.bp.blogspot.com/-7DSc73P4M_Q/VQs6mrwwwdI/AAAAAAAABHY/dUGD7b9EDGU/s1600/menten.gif"/>
          <p:cNvPicPr/>
          <p:nvPr/>
        </p:nvPicPr>
        <p:blipFill>
          <a:blip r:embed="rId1"/>
          <a:stretch/>
        </p:blipFill>
        <p:spPr>
          <a:xfrm>
            <a:off x="5692680" y="1700280"/>
            <a:ext cx="2735280" cy="4268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s://acsundergrad.files.wordpress.com/2012/07/menten-and-michaelis.jpg"/>
          <p:cNvPicPr/>
          <p:nvPr/>
        </p:nvPicPr>
        <p:blipFill>
          <a:blip r:embed="rId2"/>
          <a:stretch/>
        </p:blipFill>
        <p:spPr>
          <a:xfrm>
            <a:off x="4932360" y="2060640"/>
            <a:ext cx="4008600" cy="2114640"/>
          </a:xfrm>
          <a:prstGeom prst="rect">
            <a:avLst/>
          </a:prstGeom>
          <a:ln w="0">
            <a:noFill/>
          </a:ln>
        </p:spPr>
      </p:pic>
      <p:sp>
        <p:nvSpPr>
          <p:cNvPr id="306" name="Obdélník 3"/>
          <p:cNvSpPr/>
          <p:nvPr/>
        </p:nvSpPr>
        <p:spPr>
          <a:xfrm>
            <a:off x="655560" y="549108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366"/>
                </a:solidFill>
                <a:latin typeface="Times New Roman"/>
              </a:rPr>
              <a:t>http://www.chemheritage.org/discover/online-resources/chemistry-in-history/themes/biomolecules/proteins-and-sugars/michaelis-and-menten.aspx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ca 1890 J. Willard Gibbs (US): Shrnutí termodynam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 poznatků z histor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4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Řada pojmů a představ se kterými se setkáváme v chemické kinetice je již dlouho známýc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Získání některých kinetických informací je velmi náročné (mechanismy reakcí, reakční koordináta,…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Moderní kinetika je interdisciplinární (biochemická kinetika, molekulová dynamika , kvantová chemi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Významné ženy a muži věd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http://jchemed.chem.wisc.edu/JCEWWW/Features/eChemists/Bios/Menten.htm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5:18:40Z</dcterms:modified>
  <cp:revision>32</cp:revision>
  <dc:subject/>
  <dc:title>Prezentace aplikace PowerPoint</dc:title>
</cp:coreProperties>
</file>