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2408-D919-4263-9D42-DB963EE469E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8320-8FE9-4F66-8930-FDD681133255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A024-238A-4434-96A0-396CEEDCDA39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3FDF-7173-4266-BA1F-EA12B2C38196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45B0-C686-4254-843B-837F60D278B9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004A-9B99-4052-B917-D38F6C5BB69B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5A93-C508-4119-A341-C82F13863AE2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0D5-D86D-43F8-A915-2BE4BA42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36E-EA4A-4EDA-AB7C-7E50BF7F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13E-25E0-4627-B043-0C2D247D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C6E-42B4-432B-9A55-2FA29AF5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018D-CA10-4964-94E0-C09D0D55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86E9-5911-4005-8B1C-71716895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B9BA-3237-4D38-B0EC-3485F94E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DA85-DEFF-4F5E-8780-DD047CFC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E885-AD03-4CFA-A5BD-BF4480A0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F0EE-349F-496A-ACFC-2AC8D417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935B-96A7-46B2-9692-FE155F48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821-B60D-4A50-B88E-D9950A35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FCB4-C051-4973-87F2-8950CDB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1F88-A32E-4F0C-9790-FA31391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CA8F-ACB0-47F8-A36F-AD909980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E785-CCC2-4155-8918-824259EB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938E-0587-41D1-8766-97467AC3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449-D06A-4E5F-956D-8BE73E54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43F-3965-41B4-BD72-9768917E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B73-C541-4982-9A2C-424DF7F3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73C-7E56-4AB9-A415-7F9F84C5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AD6-3C62-4691-BA15-A8D267C9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A73-EEF4-4714-864C-EBC5A2E4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2F6-5591-495B-A7E4-815A95F6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8E36-FE3D-4B39-913D-C91AEA2029BA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41A5-BF21-4C4C-A1F4-FDD059138272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ká kinetika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br>
              <a:rPr sz="4400"/>
            </a:b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85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studoval rychlost inverze sacharózy (tj. hydrolýzy na D - (+) - glukózu a D - (-) - fruktózu v přítomnosti kyseliny) a zjistil, že je úměrná koncentraci jak cukru tak i kyseliny.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formuloval "zákon působení hmoty", podle kterého reakční "síly" jsou přímo úměrné součinu koncentrace reaktantů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s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/([A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de a, b, r and s jsou stechiometrické koeficienty pro chemickou reakci A+B=R+S. A to tak, že rychlost dopředné reakce je  úměrná součinu [A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 rychlost zpětné reakce je úměrná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analyzovali reakci mezi H2O2 a HI a mezi KMnO4 a (COOH)2.  Napsali odpovídající diferenciální rovnice, integrovali je a určili koncentrace v závislosti na čase. Také navrhli rovnici pro teplotní závislosti rychlosti reakce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.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publikoval své "Studie o chemické dynamice" (Études de dynamique CHIMIQUE), ve kterých zobecnil a dále rozvíjel práci Wilhelmyho (o sacharoze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1885 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Uvedli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iferenciální metodu analýzy a rovněž analyzovali teplotní závislost rovnovážné konstanty (pojmenovali ji "van't Hoff rovnice"). Sledovali reakcí dopřednou i zpětnou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zavádí pojmy "řád reakce" a „poločas reakce" ve své knize: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ále analyzoval teplotní závislost reakční rychlosti a zjistil, že lépe odpovídá vzta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 exp (-B / t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de zajedl pojem "energetická bariéra" .  Dnes nese tato rovnice jeho jmén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1912 Mentenová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Se zabývala enzymovou kinetikou a popsala rychlost enzymové reakc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ovéPole 1"/>
          <p:cNvSpPr/>
          <p:nvPr/>
        </p:nvSpPr>
        <p:spPr>
          <a:xfrm>
            <a:off x="684360" y="2349360"/>
            <a:ext cx="39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acovala v oddělení prof. Michael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tala se profesorkou v 79-ti letec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Picture 2" descr="http://1.bp.blogspot.com/-7DSc73P4M_Q/VQs6mrwwwdI/AAAAAAAABHY/dUGD7b9EDGU/s1600/menten.gif"/>
          <p:cNvPicPr/>
          <p:nvPr/>
        </p:nvPicPr>
        <p:blipFill>
          <a:blip r:embed="rId1"/>
          <a:stretch/>
        </p:blipFill>
        <p:spPr>
          <a:xfrm>
            <a:off x="5692680" y="1700280"/>
            <a:ext cx="2735280" cy="4268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s://acsundergrad.files.wordpress.com/2012/07/menten-and-michaelis.jpg"/>
          <p:cNvPicPr/>
          <p:nvPr/>
        </p:nvPicPr>
        <p:blipFill>
          <a:blip r:embed="rId2"/>
          <a:stretch/>
        </p:blipFill>
        <p:spPr>
          <a:xfrm>
            <a:off x="4932360" y="2060640"/>
            <a:ext cx="4008600" cy="2114640"/>
          </a:xfrm>
          <a:prstGeom prst="rect">
            <a:avLst/>
          </a:prstGeom>
          <a:ln w="0">
            <a:noFill/>
          </a:ln>
        </p:spPr>
      </p:pic>
      <p:sp>
        <p:nvSpPr>
          <p:cNvPr id="306" name="Obdélník 3"/>
          <p:cNvSpPr/>
          <p:nvPr/>
        </p:nvSpPr>
        <p:spPr>
          <a:xfrm>
            <a:off x="655560" y="54910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366"/>
                </a:solidFill>
                <a:latin typeface="Times New Roman"/>
              </a:rPr>
              <a:t>http://www.chemheritage.org/discover/online-resources/chemistry-in-history/themes/biomolecules/proteins-and-sugars/michaelis-and-menten.asp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ca 1890 J. Willard Gibbs (US): Shrnutí termodynam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 poznatků z histor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4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Řada pojmů a představ se kterými se setkáváme v chemické kinetice je již dlouho známýc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Získání některých kinetických informací je velmi náročné (mechanismy reakcí, reakční koordináta,…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Moderní kinetika je interdisciplinární (biochemická kinetika, molekulová dynamika , kvantová chemi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Významné ženy a muži věd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http://jchemed.chem.wisc.edu/JCEWWW/Features/eChemists/Bios/Menten.htm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5:18:40Z</dcterms:modified>
  <cp:revision>32</cp:revision>
  <dc:subject/>
  <dc:title>Prezentace aplikace PowerPoint</dc:title>
</cp:coreProperties>
</file>