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BA1-52FD-4629-AA00-2C04BE8FDE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BF9-B2E3-415A-8A93-DD2759A9F3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B5E-5A2E-4C19-AABE-4CEF5FF1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6AC-4DB1-40E4-93A7-09AC20A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380-2118-4CF0-968F-9DCCAF31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79E-1904-4FE7-8509-7F1F2445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B3D8-C521-4D3B-889D-F7E9904D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45A2-88CE-4E39-AA5E-14D79138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790C-A21A-473D-94FC-D870C85F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16E-E691-49D9-BF08-BB35FF7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AD65-E545-4B0C-A56A-64BE9717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A5E-282B-4894-9A49-AEE3D83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2DF-B3E0-48AA-ACA7-484373C0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DB1-481C-4B79-9BDC-68F3E64C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F6C3-18CE-4180-ACCD-5D06CA7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8155-7F55-40F7-B51A-C96775C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F0E-DAE1-4276-A2BD-AEE81C14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B97C-0184-4C0E-AFB7-C87A0B0A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40D9-D0A8-4F10-ADA3-9F413D89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4CF-DFBB-463A-B932-5486E4C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93E-7B68-457D-B68E-5D21CDA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11-73DE-48BF-80D5-D18F8886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750-567D-4EC8-82CA-D0D19A9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218-EFCE-4DDB-8BF8-B11AE1D4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935-EFE2-4134-99D8-6B82AC7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9AC-62F9-46F0-9195-20CC2A71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AADF-E78B-4048-AAF6-ED1B4399C6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33A0-6BA1-4E33-9C10-DB106A39EB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2C32-6BB8-4DE3-B2EC-AE324DC0F5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3-02-25T09:46:19Z</dcterms:modified>
  <cp:revision>23</cp:revision>
  <dc:subject/>
  <dc:title>Prezentace aplikace PowerPoint</dc:title>
</cp:coreProperties>
</file>