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6724-312A-4748-A194-0E46C7C770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6241-3491-4920-B37D-C2CAB6AF6046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1212-7BB2-4586-BF5F-B2CC0AE04220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8C6A-8F4D-4733-9920-29C215DCE142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B181-F5DC-4122-B1AE-9A7958064051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9A41-352C-469C-BEB7-28125476086A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1D83-5BBE-4E50-847B-E7966AAF2478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FBE-DDE6-4CB0-8169-CE83AB15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B63-991D-4E5C-A7A9-2CD468D8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E08-8554-4994-8B38-F60D3AEB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AD0-0180-4EF7-956D-B58365E7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21C7-B7A0-418E-B003-DD59F743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AF30-6DCF-40D0-BEDA-AD518F8A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3C8F-75F7-4540-AFD4-30ED76DF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6D3C-D9BD-43E5-96B9-C5C466BB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80A6-F28E-4771-97CE-BF2B8832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5888-98B6-4997-A060-7D72B4DB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B4AF-3387-4DE0-B218-D01A7A20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962-E485-40E0-8B7C-B53A3E20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4880-4173-47F4-AD27-D0D48046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1530-59A5-4E36-BB32-ACC75B01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6069-06F5-4E8F-97BB-94213821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2558-D650-4F7E-BECE-79873102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7180-1C37-4F55-ACB6-076D414B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0B3-7889-4E0B-BD7A-2280ADC7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290-89B4-4668-A7FC-B58C68BC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CB3-4AC9-4BB9-9A9A-69554845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52E-5FF0-4446-BA24-4731754D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698-8CDC-4226-ACFB-6BF42E0A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077-B0B0-43D6-875C-5DF6A13E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D60-3B18-45FD-AEA4-C004808B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7341-EBD2-4076-BBFE-E9B6730A6EAD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6E24-028F-44FA-98F2-D9C0081FCB5B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ká kinetika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br>
              <a:rPr sz="4400"/>
            </a:b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85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studoval rychlost inverze sacharózy (tj. hydrolýzy na D - (+) - glukózu a D - (-) - fruktózu v přítomnosti kyseliny) a zjistil, že je úměrná koncentraci jak cukru tak i kyseliny.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formuloval "zákon působení hmoty", podle kterého reakční "síly" jsou přímo úměrné součinu koncentrace reaktantů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s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/([A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de a, b, r and s jsou stechiometrické koeficienty pro chemickou reakci A+B=R+S. A to tak, že rychlost dopředné reakce je  úměrná součinu [A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 rychlost zpětné reakce je úměrná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analyzovali reakci mezi H2O2 a HI a mezi KMnO4 a (COOH)2.  Napsali odpovídající diferenciální rovnice, integrovali je a určili koncentrace v závislosti na čase. Také navrhli rovnici pro teplotní závislosti rychlosti reakce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.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publikoval své "Studie o chemické dynamice" (Études de dynamique CHIMIQUE), ve kterých zobecnil a dále rozvíjel práci Wilhelmyho (o sacharoze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1885 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Uvedli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iferenciální metodu analýzy a rovněž analyzovali teplotní závislost rovnovážné konstanty (pojmenovali ji "van't Hoff rovnice"). Sledovali reakcí dopřednou i zpětnou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zavádí pojmy "řád reakce" a „poločas reakce" ve své knize: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ále analyzoval teplotní závislost reakční rychlosti a zjistil, že lépe odpovídá vzta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 exp (-B / t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de zajedl pojem "energetická bariéra" .  Dnes nese tato rovnice jeho jmén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1912 Mentenová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Se zabývala enzymovou kinetikou a popsala rychlost enzymové reakc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ovéPole 1"/>
          <p:cNvSpPr/>
          <p:nvPr/>
        </p:nvSpPr>
        <p:spPr>
          <a:xfrm>
            <a:off x="684360" y="2349360"/>
            <a:ext cx="39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acovala v oddělení prof. Michael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tala se profesorkou v 79-ti letec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Picture 2" descr="http://1.bp.blogspot.com/-7DSc73P4M_Q/VQs6mrwwwdI/AAAAAAAABHY/dUGD7b9EDGU/s1600/menten.gif"/>
          <p:cNvPicPr/>
          <p:nvPr/>
        </p:nvPicPr>
        <p:blipFill>
          <a:blip r:embed="rId1"/>
          <a:stretch/>
        </p:blipFill>
        <p:spPr>
          <a:xfrm>
            <a:off x="5692680" y="1700280"/>
            <a:ext cx="2735280" cy="4268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s://acsundergrad.files.wordpress.com/2012/07/menten-and-michaelis.jpg"/>
          <p:cNvPicPr/>
          <p:nvPr/>
        </p:nvPicPr>
        <p:blipFill>
          <a:blip r:embed="rId2"/>
          <a:stretch/>
        </p:blipFill>
        <p:spPr>
          <a:xfrm>
            <a:off x="4932360" y="2060640"/>
            <a:ext cx="4008600" cy="2114640"/>
          </a:xfrm>
          <a:prstGeom prst="rect">
            <a:avLst/>
          </a:prstGeom>
          <a:ln w="0">
            <a:noFill/>
          </a:ln>
        </p:spPr>
      </p:pic>
      <p:sp>
        <p:nvSpPr>
          <p:cNvPr id="306" name="Obdélník 3"/>
          <p:cNvSpPr/>
          <p:nvPr/>
        </p:nvSpPr>
        <p:spPr>
          <a:xfrm>
            <a:off x="655560" y="54910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366"/>
                </a:solidFill>
                <a:latin typeface="Times New Roman"/>
              </a:rPr>
              <a:t>http://www.chemheritage.org/discover/online-resources/chemistry-in-history/themes/biomolecules/proteins-and-sugars/michaelis-and-menten.asp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ca 1890 J. Willard Gibbs (US): Shrnutí termodynam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 poznatků z histor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4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Řada pojmů a představ se kterými se setkáváme v chemické kinetice je již dlouho známýc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Získání některých kinetických informací je velmi náročné (mechanismy reakcí, reakční koordináta,…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Moderní kinetika je interdisciplinární (biochemická kinetika, molekulová dynamika , kvantová chemi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Významné ženy a muži věd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http://jchemed.chem.wisc.edu/JCEWWW/Features/eChemists/Bios/Menten.htm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5:18:40Z</dcterms:modified>
  <cp:revision>32</cp:revision>
  <dc:subject/>
  <dc:title>Prezentace aplikace PowerPoint</dc:title>
</cp:coreProperties>
</file>