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CFD-F89B-46AD-8184-78FCF3B130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BE58-9A1A-4A4C-A40E-C8BA72789F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82C-D7C6-4C01-B3A2-CE74D8AC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B83-8BB3-4C26-8385-1BD8A44E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AA3-F15A-4AD6-BA94-2477383C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D85-335E-4101-ADF3-3AD703D9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1364-8770-45A9-8791-8ABFA701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23A4-2513-42F6-924A-49217B0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7999-56DB-4268-BBFC-55ED6E1B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6C07-61CB-4011-A4B3-7FB95DBC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9B5-07A2-44B3-AA78-4BC31AE6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CDB-F078-4E6B-A364-672BE5C4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5061-D53E-4C62-AF9D-20C69FB2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0BB-0E7D-405C-B93B-D300E539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5A46-0DAB-47CA-8FF3-AC678A3C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02EE-66BD-444E-B602-CD6F949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23B5-DB9C-43D9-BD82-E1A060C9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61C3-8827-48F0-88A7-29AABB8D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FB50-15C0-4B74-8E95-F520FB6E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D4F-5EF7-4D5A-9122-8C38E56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0F8-4221-458C-BCDD-5791FB5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E0C-058B-4703-A804-6E9A980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12C-FFF6-42FB-90AD-345AAEB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657-AA93-4D82-9829-18A3E91D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C55-783E-4692-A959-041E2CE0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8E5-F1F0-4C2A-8DFF-D91D5EE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4723-CB79-4B05-A483-DE96FD19B5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5B5E-6909-4513-86AC-B3829BCDE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1FDF-C310-46EC-8D61-F1AFF0C19E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3-02-25T09:46:19Z</dcterms:modified>
  <cp:revision>23</cp:revision>
  <dc:subject/>
  <dc:title>Prezentace aplikace PowerPoint</dc:title>
</cp:coreProperties>
</file>