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13.png" ContentType="image/png"/>
  <Override PartName="/ppt/media/image4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40BE-5CF5-412B-BC0A-8BCC271B97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1885-D1D7-48A7-8E2B-6E94E73970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959-C0A3-48CD-85CA-C3A5E5AB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2DE-DC20-4F1D-BC8D-8843662E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66B-2AF8-4B57-B3DB-54A85433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37F-0C6E-480B-82F2-BDAD0FA7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C2D-EFEB-437C-8F9B-BF607960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90D3-243C-48F7-9E96-6949A91E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59D4-AFC6-432C-97FB-D7FE869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53B-8B0C-443E-8817-EC9C5E78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2E3-C9FD-4781-A782-36B7325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D13-992D-4D19-B1F7-53E5D4ED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3B8-5B03-4472-B812-B281DCA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46-43D1-4F7D-B283-11D31A07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C7E8-03D7-4D43-876B-4B353C6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D153-B7EE-4525-AEB5-39D6BFB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E09-A487-44B7-8D4A-ADB790B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8501-F7B2-4420-AF8C-7FC7DA1A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4440-3D4B-45F2-8C4A-1E0731D6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2B8A-1675-4F94-BBE9-0A660B61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3E38-4E7A-4788-8F9A-E9A2F0EF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B93A-8D1C-48D7-A5D2-33F6184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485E-1FA6-415D-A002-E699ECD9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FB99-0696-4310-BA0B-06FAB7D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130-B4DF-4012-8DA3-09E16CDE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E58C-AAC0-4A19-ADCF-4D025FF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C9DC-3550-4CA3-8B4F-488D4B9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DC64-6AC1-4916-BBD8-348C43F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18AC-24D4-4C4E-973A-E18A682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6DD3-E5DC-476B-BA05-21CF83E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F704-E44C-4871-B10A-DFE6C453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16C3-AD0F-4CCF-8389-B81A0409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B3F-DBD4-4157-8A9F-2E5FBBCB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F0D-399C-4086-B0E5-0ABEDC9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D7B-B8BF-43BF-973F-92591F2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AE3-792F-4014-B667-24BE99A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E6A-7D3A-4E70-ABC9-70CF034F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2D2-26C1-4AFF-8DBE-5603533C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92C6-DDAC-41F9-AB16-2C413BC94B8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0F7-BAF0-411D-8FEA-A86765BE7B9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D1C4-7196-4BA8-992D-1C3C2D9E889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ektrodová kin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9B2-BE93-4B3C-B31C-FC17972D17C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http://www.cartage.org.lb/en/themes/Sciences/Chemistry/Electrochemis/Electrochemical/ElectrodeKinetics/kinfig1.gif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87676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1"/>
          <p:cNvSpPr/>
          <p:nvPr/>
        </p:nvSpPr>
        <p:spPr>
          <a:xfrm>
            <a:off x="684360" y="5951520"/>
            <a:ext cx="58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mainpag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392-C161-42ED-AC7A-8AAF8F88971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bdélník 3"/>
          <p:cNvSpPr/>
          <p:nvPr/>
        </p:nvSpPr>
        <p:spPr>
          <a:xfrm>
            <a:off x="900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individual.utoronto.ca/sadeghi/electrochemical_files/image086.jpg"/>
          <p:cNvPicPr/>
          <p:nvPr/>
        </p:nvPicPr>
        <p:blipFill>
          <a:blip r:embed="rId1"/>
          <a:stretch/>
        </p:blipFill>
        <p:spPr>
          <a:xfrm>
            <a:off x="112680" y="2421000"/>
            <a:ext cx="3657600" cy="30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ndividual.utoronto.ca/sadeghi/electrochemical_files/image100.jpg"/>
          <p:cNvPicPr/>
          <p:nvPr/>
        </p:nvPicPr>
        <p:blipFill>
          <a:blip r:embed="rId2"/>
          <a:stretch/>
        </p:blipFill>
        <p:spPr>
          <a:xfrm>
            <a:off x="4211640" y="234792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radeův a kapacitní pro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942D-4EA2-433F-B296-1756C193DC5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http://www.felixmay.com/ESB/images/electrode-electrolyte-inter.gif"/>
          <p:cNvPicPr/>
          <p:nvPr/>
        </p:nvPicPr>
        <p:blipFill>
          <a:blip r:embed="rId1"/>
          <a:stretch/>
        </p:blipFill>
        <p:spPr>
          <a:xfrm>
            <a:off x="360360" y="1341360"/>
            <a:ext cx="4326120" cy="3632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seas.ucla.edu/~pilon/images/supercapacitors/CV%20Schematic.png"/>
          <p:cNvPicPr/>
          <p:nvPr/>
        </p:nvPicPr>
        <p:blipFill>
          <a:blip r:embed="rId2"/>
          <a:stretch/>
        </p:blipFill>
        <p:spPr>
          <a:xfrm>
            <a:off x="4981680" y="1312920"/>
            <a:ext cx="351000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Obdélník 3"/>
          <p:cNvSpPr/>
          <p:nvPr/>
        </p:nvSpPr>
        <p:spPr>
          <a:xfrm>
            <a:off x="237960" y="6381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oze a pasiv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09F-6371-4C5E-937C-305F31377C7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bdélník 3"/>
          <p:cNvSpPr/>
          <p:nvPr/>
        </p:nvSpPr>
        <p:spPr>
          <a:xfrm>
            <a:off x="395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jhamernik.sweb.cz/Koroz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jhamernik.sweb.cz/Koroze_soubory/image009.gif"/>
          <p:cNvPicPr/>
          <p:nvPr/>
        </p:nvPicPr>
        <p:blipFill>
          <a:blip r:embed="rId1"/>
          <a:stretch/>
        </p:blipFill>
        <p:spPr>
          <a:xfrm>
            <a:off x="324000" y="423216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jhamernik.sweb.cz/Koroze_soubory/image005.gif"/>
          <p:cNvPicPr/>
          <p:nvPr/>
        </p:nvPicPr>
        <p:blipFill>
          <a:blip r:embed="rId2"/>
          <a:stretch/>
        </p:blipFill>
        <p:spPr>
          <a:xfrm>
            <a:off x="6215040" y="1484280"/>
            <a:ext cx="208584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jhamernik.sweb.cz/Koroze_soubory/image008.gif"/>
          <p:cNvPicPr/>
          <p:nvPr/>
        </p:nvPicPr>
        <p:blipFill>
          <a:blip r:embed="rId3"/>
          <a:stretch/>
        </p:blipFill>
        <p:spPr>
          <a:xfrm>
            <a:off x="6315120" y="2612880"/>
            <a:ext cx="1990800" cy="66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2012books.lardbucket.org/books/general-chemistry-principles-patterns-and-applications-v1.0/section_23/28f7e127eabcc9de2916eefc451f6e03.jpg"/>
          <p:cNvPicPr/>
          <p:nvPr/>
        </p:nvPicPr>
        <p:blipFill>
          <a:blip r:embed="rId4"/>
          <a:stretch/>
        </p:blipFill>
        <p:spPr>
          <a:xfrm>
            <a:off x="412920" y="1197000"/>
            <a:ext cx="4748040" cy="2898720"/>
          </a:xfrm>
          <a:prstGeom prst="rect">
            <a:avLst/>
          </a:prstGeom>
          <a:ln w="0">
            <a:noFill/>
          </a:ln>
        </p:spPr>
      </p:pic>
      <p:sp>
        <p:nvSpPr>
          <p:cNvPr id="235" name="Obdélník 4"/>
          <p:cNvSpPr/>
          <p:nvPr/>
        </p:nvSpPr>
        <p:spPr>
          <a:xfrm>
            <a:off x="425520" y="6534000"/>
            <a:ext cx="78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6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0F3A-87FA-442B-87A9-7A79AA02949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electronicdesign.com/files/29/17465/figure_01.jpg"/>
          <p:cNvPicPr/>
          <p:nvPr/>
        </p:nvPicPr>
        <p:blipFill>
          <a:blip r:embed="rId1"/>
          <a:stretch/>
        </p:blipFill>
        <p:spPr>
          <a:xfrm>
            <a:off x="390600" y="2133720"/>
            <a:ext cx="6057720" cy="37335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3"/>
          <p:cNvSpPr/>
          <p:nvPr/>
        </p:nvSpPr>
        <p:spPr>
          <a:xfrm>
            <a:off x="548280" y="1413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perkapac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bdélník 4"/>
          <p:cNvSpPr/>
          <p:nvPr/>
        </p:nvSpPr>
        <p:spPr>
          <a:xfrm>
            <a:off x="539640" y="6093000"/>
            <a:ext cx="63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http://www.seas.ucla.edu/~pilon/images/supercapacitors/Power%20vs%20Energy.png"/>
          <p:cNvPicPr/>
          <p:nvPr/>
        </p:nvPicPr>
        <p:blipFill>
          <a:blip r:embed="rId2"/>
          <a:stretch/>
        </p:blipFill>
        <p:spPr>
          <a:xfrm>
            <a:off x="5364000" y="217440"/>
            <a:ext cx="33228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605-ED24-431F-B15F-6F6F70A2823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8" descr="http://www.meta-synthesis.com/webbook/24_complexity/transfer.jpg"/>
          <p:cNvPicPr/>
          <p:nvPr/>
        </p:nvPicPr>
        <p:blipFill>
          <a:blip r:embed="rId1"/>
          <a:stretch/>
        </p:blipFill>
        <p:spPr>
          <a:xfrm>
            <a:off x="3112920" y="3035160"/>
            <a:ext cx="5848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pojmy elektroch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065-4B09-49B9-8D27-8E8EB8E75DC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95280" y="1589040"/>
            <a:ext cx="8542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Standardní elektrodové potenciál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BE6E-FE46-46C3-BEAB-0CC90487C12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691160" cy="666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wikiskripta.eu/images/math/9/9/8/998917d6e26a4a6dc77d850dde8cc27d.png"/>
          <p:cNvPicPr/>
          <p:nvPr/>
        </p:nvPicPr>
        <p:blipFill>
          <a:blip r:embed="rId2"/>
          <a:stretch/>
        </p:blipFill>
        <p:spPr>
          <a:xfrm>
            <a:off x="395280" y="5084640"/>
            <a:ext cx="324000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individual.utoronto.ca/sadeghi/electrochemical_files/image006.jpg"/>
          <p:cNvPicPr/>
          <p:nvPr/>
        </p:nvPicPr>
        <p:blipFill>
          <a:blip r:embed="rId3"/>
          <a:stretch/>
        </p:blipFill>
        <p:spPr>
          <a:xfrm>
            <a:off x="549360" y="263700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1"/>
          <p:cNvSpPr/>
          <p:nvPr/>
        </p:nvSpPr>
        <p:spPr>
          <a:xfrm>
            <a:off x="395280" y="20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rnstova-Petersova rovni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ovéPole 1"/>
          <p:cNvSpPr/>
          <p:nvPr/>
        </p:nvSpPr>
        <p:spPr>
          <a:xfrm>
            <a:off x="395280" y="5732640"/>
            <a:ext cx="3240000" cy="825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á se stacionárn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nergie elektronu v kovech a roztocí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CE5A-E8B4-428F-AB15-11E1BF09174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http://www.cartage.org.lb/en/themes/Sciences/Chemistry/Electrochemis/Electrochemical/ElectrodeKinetics/fermi1.gif"/>
          <p:cNvPicPr/>
          <p:nvPr/>
        </p:nvPicPr>
        <p:blipFill>
          <a:blip r:embed="rId1"/>
          <a:stretch/>
        </p:blipFill>
        <p:spPr>
          <a:xfrm>
            <a:off x="395280" y="2417760"/>
            <a:ext cx="4762440" cy="16477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395280" y="13413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elektronů v kovech snadno porozumíne uvážíme li Fermiho hladinu. Elektrony v kovech obsazují hladivy, které se těsně překrývají a vytváří pásy. Nejvyšší hladina je Fermiho. Tuto hladinu můžeme měnit připojením k vnějšímu potenciál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www.cartage.org.lb/en/themes/Sciences/Chemistry/Electrochemis/Electrochemical/ElectrodeKinetics/fermi2.gif"/>
          <p:cNvPicPr/>
          <p:nvPr/>
        </p:nvPicPr>
        <p:blipFill>
          <a:blip r:embed="rId2"/>
          <a:stretch/>
        </p:blipFill>
        <p:spPr>
          <a:xfrm>
            <a:off x="291960" y="4724280"/>
            <a:ext cx="4970520" cy="172080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5"/>
          <p:cNvSpPr/>
          <p:nvPr/>
        </p:nvSpPr>
        <p:spPr>
          <a:xfrm>
            <a:off x="565200" y="4065480"/>
            <a:ext cx="41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 molekul a iontů v roztocích je ji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6"/>
          <p:cNvSpPr/>
          <p:nvPr/>
        </p:nvSpPr>
        <p:spPr>
          <a:xfrm>
            <a:off x="5724360" y="40086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u se pak přemísťují do místa s nižším potenciá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Šipka doprava 8"/>
          <p:cNvSpPr/>
          <p:nvPr/>
        </p:nvSpPr>
        <p:spPr>
          <a:xfrm>
            <a:off x="4599000" y="4916520"/>
            <a:ext cx="185760" cy="16812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Šipka doprava 11"/>
          <p:cNvSpPr/>
          <p:nvPr/>
        </p:nvSpPr>
        <p:spPr>
          <a:xfrm>
            <a:off x="2268360" y="5300640"/>
            <a:ext cx="184320" cy="16992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římá spojnice 12"/>
          <p:cNvSpPr/>
          <p:nvPr/>
        </p:nvSpPr>
        <p:spPr>
          <a:xfrm flipH="1">
            <a:off x="2238480" y="5221440"/>
            <a:ext cx="185760" cy="33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římá spojnice 14"/>
          <p:cNvSpPr/>
          <p:nvPr/>
        </p:nvSpPr>
        <p:spPr>
          <a:xfrm>
            <a:off x="2225520" y="5278320"/>
            <a:ext cx="1843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ovéPole 15"/>
          <p:cNvSpPr/>
          <p:nvPr/>
        </p:nvSpPr>
        <p:spPr>
          <a:xfrm>
            <a:off x="5737320" y="4978440"/>
            <a:ext cx="2879640" cy="824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chází tak k přenosu elektronů dokuď se neustaví  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www.cartage.org.lb/en/themes/Sciences/Chemistry/Electrochemis/Electrochemical/ElectrodeKinetics/eq1elec.gif"/>
          <p:cNvPicPr/>
          <p:nvPr/>
        </p:nvPicPr>
        <p:blipFill>
          <a:blip r:embed="rId3"/>
          <a:stretch/>
        </p:blipFill>
        <p:spPr>
          <a:xfrm>
            <a:off x="6060960" y="5932440"/>
            <a:ext cx="19908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dely rozhraní s přenosem elektrického ná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08D2-8053-43A8-BC0E-1AF666B4D34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ovéPole 3"/>
          <p:cNvSpPr/>
          <p:nvPr/>
        </p:nvSpPr>
        <p:spPr>
          <a:xfrm>
            <a:off x="39528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Helmholz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14360" y="1700280"/>
            <a:ext cx="1493640" cy="3368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9880" y="5229360"/>
            <a:ext cx="1978200" cy="12319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7"/>
          <p:cNvSpPr/>
          <p:nvPr/>
        </p:nvSpPr>
        <p:spPr>
          <a:xfrm>
            <a:off x="320364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Gouyon_Chap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ovéPole 8"/>
          <p:cNvSpPr/>
          <p:nvPr/>
        </p:nvSpPr>
        <p:spPr>
          <a:xfrm>
            <a:off x="6300720" y="1268280"/>
            <a:ext cx="201636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2917800" y="1773360"/>
            <a:ext cx="2589120" cy="296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2814480" y="4873680"/>
            <a:ext cx="2333880" cy="11509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2627280" y="61657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važuje narušování dvojvrstvy tepelným pohyb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6084720" y="19890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ombinace Obou model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ovéPole 14"/>
          <p:cNvSpPr/>
          <p:nvPr/>
        </p:nvSpPr>
        <p:spPr>
          <a:xfrm>
            <a:off x="6232680" y="2708280"/>
            <a:ext cx="2016000" cy="824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ávislost potenciálu na vzdálenosti od el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6084720" y="3770280"/>
            <a:ext cx="2302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lektronová dvojvrstva a difúzní vrst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A50-DDB7-445F-949D-F362718A88D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http://wandlowski.dcb.unibe.ch/research/edl/edl_big.png"/>
          <p:cNvPicPr/>
          <p:nvPr/>
        </p:nvPicPr>
        <p:blipFill>
          <a:blip r:embed="rId1"/>
          <a:stretch/>
        </p:blipFill>
        <p:spPr>
          <a:xfrm>
            <a:off x="1187280" y="1484280"/>
            <a:ext cx="36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ttp://www.electronicproducts.com/images2/facm_illinois_cap_fig2_oct-copy.gif"/>
          <p:cNvPicPr/>
          <p:nvPr/>
        </p:nvPicPr>
        <p:blipFill>
          <a:blip r:embed="rId2"/>
          <a:stretch/>
        </p:blipFill>
        <p:spPr>
          <a:xfrm>
            <a:off x="5076720" y="400536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://individual.utoronto.ca/sadeghi/electrochemical_files/image056.jpg"/>
          <p:cNvPicPr/>
          <p:nvPr/>
        </p:nvPicPr>
        <p:blipFill>
          <a:blip r:embed="rId3"/>
          <a:stretch/>
        </p:blipFill>
        <p:spPr>
          <a:xfrm>
            <a:off x="5403960" y="1341360"/>
            <a:ext cx="3321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5478-9698-4EF4-BB30-1AC96C2C20E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http://2012books.lardbucket.org/books/general-chemistry-principles-patterns-and-applications-v1.0/section_23/b45fb1f467be4a8e28df94c7d3af4503.jpg"/>
          <p:cNvPicPr/>
          <p:nvPr/>
        </p:nvPicPr>
        <p:blipFill>
          <a:blip r:embed="rId1"/>
          <a:stretch/>
        </p:blipFill>
        <p:spPr>
          <a:xfrm>
            <a:off x="539640" y="981000"/>
            <a:ext cx="769464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1"/>
          <p:cNvSpPr/>
          <p:nvPr/>
        </p:nvSpPr>
        <p:spPr>
          <a:xfrm>
            <a:off x="1051200" y="2602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lektrický člá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bdélník 3"/>
          <p:cNvSpPr/>
          <p:nvPr/>
        </p:nvSpPr>
        <p:spPr>
          <a:xfrm>
            <a:off x="566640" y="5299200"/>
            <a:ext cx="78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ost přenosu elektronu na el. dvojvrst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F51-4231-4A48-BD33-12F37E11298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cartage.org.lb/en/themes/Sciences/Chemistry/Electrochemis/Electrochemical/ElectrodeKinetics/eq1elec.gif"/>
          <p:cNvPicPr/>
          <p:nvPr/>
        </p:nvPicPr>
        <p:blipFill>
          <a:blip r:embed="rId1"/>
          <a:stretch/>
        </p:blipFill>
        <p:spPr>
          <a:xfrm>
            <a:off x="684360" y="1557360"/>
            <a:ext cx="1990440" cy="295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cartage.org.lb/en/themes/Sciences/Chemistry/Electrochemis/Electrochemical/ElectrodeKinetics/eq3elec.gif"/>
          <p:cNvPicPr/>
          <p:nvPr/>
        </p:nvPicPr>
        <p:blipFill>
          <a:blip r:embed="rId2"/>
          <a:stretch/>
        </p:blipFill>
        <p:spPr>
          <a:xfrm>
            <a:off x="573120" y="2455920"/>
            <a:ext cx="4048200" cy="23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individual.utoronto.ca/sadeghi/electrochemical_files/image008.gif"/>
          <p:cNvPicPr/>
          <p:nvPr/>
        </p:nvPicPr>
        <p:blipFill>
          <a:blip r:embed="rId3"/>
          <a:stretch/>
        </p:blipFill>
        <p:spPr>
          <a:xfrm>
            <a:off x="3492360" y="1436760"/>
            <a:ext cx="1752840" cy="36180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4"/>
          <p:cNvSpPr/>
          <p:nvPr/>
        </p:nvSpPr>
        <p:spPr>
          <a:xfrm>
            <a:off x="5580000" y="1508040"/>
            <a:ext cx="3348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koncentrace na povrchu eldy. (konc. Elektronů jako by zahrnuta do kons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ovéPole 5"/>
          <p:cNvSpPr/>
          <p:nvPr/>
        </p:nvSpPr>
        <p:spPr>
          <a:xfrm>
            <a:off x="3903480" y="1909800"/>
            <a:ext cx="9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ol s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bdélník 6"/>
          <p:cNvSpPr/>
          <p:nvPr/>
        </p:nvSpPr>
        <p:spPr>
          <a:xfrm>
            <a:off x="395280" y="2779560"/>
            <a:ext cx="55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le teorie přechodného stavu platí pro rychlostní konstanty předpokl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http://chemwiki.ucdavis.edu/@api/deki/files/6482/=Example_Reaction_Profile_Modified.jpg"/>
          <p:cNvPicPr/>
          <p:nvPr/>
        </p:nvPicPr>
        <p:blipFill>
          <a:blip r:embed="rId4"/>
          <a:stretch/>
        </p:blipFill>
        <p:spPr>
          <a:xfrm>
            <a:off x="6084720" y="2414520"/>
            <a:ext cx="2908440" cy="234792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3"/>
          <p:cNvSpPr/>
          <p:nvPr/>
        </p:nvSpPr>
        <p:spPr>
          <a:xfrm>
            <a:off x="2203560" y="3230640"/>
            <a:ext cx="356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rotože je energie přech. stavu ovlivněna i rozdílem vůči rovnovážnému potenciál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bdélník 7"/>
          <p:cNvSpPr/>
          <p:nvPr/>
        </p:nvSpPr>
        <p:spPr>
          <a:xfrm>
            <a:off x="4500720" y="4057560"/>
            <a:ext cx="1822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nodický a katodický koeficient přenosu (citlivost n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1" descr="http://individual.utoronto.ca/sadeghi/electrochemical_files/image016.gif"/>
          <p:cNvPicPr/>
          <p:nvPr/>
        </p:nvPicPr>
        <p:blipFill>
          <a:blip r:embed="rId5"/>
          <a:stretch/>
        </p:blipFill>
        <p:spPr>
          <a:xfrm>
            <a:off x="620640" y="4478400"/>
            <a:ext cx="21049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http://individual.utoronto.ca/sadeghi/electrochemical_files/image010.gif"/>
          <p:cNvPicPr/>
          <p:nvPr/>
        </p:nvPicPr>
        <p:blipFill>
          <a:blip r:embed="rId6"/>
          <a:stretch/>
        </p:blipFill>
        <p:spPr>
          <a:xfrm>
            <a:off x="463680" y="3378240"/>
            <a:ext cx="1476360" cy="42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ttp://individual.utoronto.ca/sadeghi/electrochemical_files/image012.gif"/>
          <p:cNvPicPr/>
          <p:nvPr/>
        </p:nvPicPr>
        <p:blipFill>
          <a:blip r:embed="rId7"/>
          <a:stretch/>
        </p:blipFill>
        <p:spPr>
          <a:xfrm>
            <a:off x="482760" y="3798720"/>
            <a:ext cx="1523880" cy="41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http://individual.utoronto.ca/sadeghi/electrochemical_files/image018.gif"/>
          <p:cNvPicPr/>
          <p:nvPr/>
        </p:nvPicPr>
        <p:blipFill>
          <a:blip r:embed="rId8"/>
          <a:stretch/>
        </p:blipFill>
        <p:spPr>
          <a:xfrm>
            <a:off x="3168720" y="4230720"/>
            <a:ext cx="1104840" cy="49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http://individual.utoronto.ca/sadeghi/electrochemical_files/image022.gif"/>
          <p:cNvPicPr/>
          <p:nvPr/>
        </p:nvPicPr>
        <p:blipFill>
          <a:blip r:embed="rId9"/>
          <a:stretch/>
        </p:blipFill>
        <p:spPr>
          <a:xfrm>
            <a:off x="573120" y="4853160"/>
            <a:ext cx="22003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individual.utoronto.ca/sadeghi/electrochemical_files/image024.gif"/>
          <p:cNvPicPr/>
          <p:nvPr/>
        </p:nvPicPr>
        <p:blipFill>
          <a:blip r:embed="rId10"/>
          <a:stretch/>
        </p:blipFill>
        <p:spPr>
          <a:xfrm>
            <a:off x="3168720" y="4762440"/>
            <a:ext cx="11523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3" descr="http://individual.utoronto.ca/sadeghi/electrochemical_files/image028.gif"/>
          <p:cNvPicPr/>
          <p:nvPr/>
        </p:nvPicPr>
        <p:blipFill>
          <a:blip r:embed="rId11"/>
          <a:stretch/>
        </p:blipFill>
        <p:spPr>
          <a:xfrm>
            <a:off x="6875640" y="5057640"/>
            <a:ext cx="599760" cy="2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http://individual.utoronto.ca/sadeghi/electrochemical_files/image032.gif"/>
          <p:cNvPicPr/>
          <p:nvPr/>
        </p:nvPicPr>
        <p:blipFill>
          <a:blip r:embed="rId12"/>
          <a:stretch/>
        </p:blipFill>
        <p:spPr>
          <a:xfrm>
            <a:off x="622440" y="5877000"/>
            <a:ext cx="3619440" cy="390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http://individual.utoronto.ca/sadeghi/electrochemical_files/image036.gif"/>
          <p:cNvPicPr/>
          <p:nvPr/>
        </p:nvPicPr>
        <p:blipFill>
          <a:blip r:embed="rId13"/>
          <a:stretch/>
        </p:blipFill>
        <p:spPr>
          <a:xfrm>
            <a:off x="5356080" y="5732640"/>
            <a:ext cx="1457640" cy="430200"/>
          </a:xfrm>
          <a:prstGeom prst="rect">
            <a:avLst/>
          </a:prstGeom>
          <a:ln w="0">
            <a:noFill/>
          </a:ln>
        </p:spPr>
      </p:pic>
      <p:sp>
        <p:nvSpPr>
          <p:cNvPr id="200" name="Obdélník 6"/>
          <p:cNvSpPr/>
          <p:nvPr/>
        </p:nvSpPr>
        <p:spPr>
          <a:xfrm>
            <a:off x="4511520" y="58737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461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1" descr="http://individual.utoronto.ca/sadeghi/electrochemical_files/image038.gif"/>
          <p:cNvPicPr/>
          <p:nvPr/>
        </p:nvPicPr>
        <p:blipFill>
          <a:blip r:embed="rId14"/>
          <a:stretch/>
        </p:blipFill>
        <p:spPr>
          <a:xfrm>
            <a:off x="7596360" y="57625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6"/>
          <p:cNvSpPr/>
          <p:nvPr/>
        </p:nvSpPr>
        <p:spPr>
          <a:xfrm>
            <a:off x="7475400" y="5948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pě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ovéPole 3"/>
          <p:cNvSpPr/>
          <p:nvPr/>
        </p:nvSpPr>
        <p:spPr>
          <a:xfrm>
            <a:off x="395280" y="19242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ně: i=nFA.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E88-B831-4990-8B8D-C68E22BB724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bdélník 3"/>
          <p:cNvSpPr/>
          <p:nvPr/>
        </p:nvSpPr>
        <p:spPr>
          <a:xfrm>
            <a:off x="208800" y="2657520"/>
            <a:ext cx="67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jednodušená Butler-Volmer rovnice  pro dokonalé míchanou dvojvrstv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http://www.cartage.org.lb/en/themes/Sciences/Chemistry/Electrochemis/Electrochemical/ElectrodeKinetics/eq7elec.gif"/>
          <p:cNvPicPr/>
          <p:nvPr/>
        </p:nvPicPr>
        <p:blipFill>
          <a:blip r:embed="rId1"/>
          <a:stretch/>
        </p:blipFill>
        <p:spPr>
          <a:xfrm>
            <a:off x="539640" y="3105000"/>
            <a:ext cx="3505320" cy="6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cartage.org.lb/en/themes/Sciences/Chemistry/Electrochemis/Electrochemical/ElectrodeKinetics/kinfig1.gif"/>
          <p:cNvPicPr/>
          <p:nvPr/>
        </p:nvPicPr>
        <p:blipFill>
          <a:blip r:embed="rId2"/>
          <a:stretch/>
        </p:blipFill>
        <p:spPr>
          <a:xfrm>
            <a:off x="5329080" y="275436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3"/>
          <p:cNvSpPr/>
          <p:nvPr/>
        </p:nvSpPr>
        <p:spPr>
          <a:xfrm>
            <a:off x="715680" y="4365720"/>
            <a:ext cx="4509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liv parametru výměnného proudu 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při 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0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E - E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…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lké …reverzibilní el. re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řední …sem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alý …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4"/>
          <p:cNvSpPr/>
          <p:nvPr/>
        </p:nvSpPr>
        <p:spPr>
          <a:xfrm>
            <a:off x="210960" y="6093000"/>
            <a:ext cx="83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Electrochemical/mainpag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4" descr="http://www.cartage.org.lb/en/themes/Sciences/Chemistry/Electrochemis/Electrochemical/ElectrodeKinetics/eq6elec.gif"/>
          <p:cNvPicPr/>
          <p:nvPr/>
        </p:nvPicPr>
        <p:blipFill>
          <a:blip r:embed="rId3"/>
          <a:stretch/>
        </p:blipFill>
        <p:spPr>
          <a:xfrm>
            <a:off x="669960" y="1844640"/>
            <a:ext cx="458136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8"/>
          <p:cNvSpPr/>
          <p:nvPr/>
        </p:nvSpPr>
        <p:spPr>
          <a:xfrm>
            <a:off x="251280" y="112536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m rovnic získáme Butler-Volmer rovnic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17"/>
          <p:cNvSpPr/>
          <p:nvPr/>
        </p:nvSpPr>
        <p:spPr>
          <a:xfrm>
            <a:off x="6260040" y="1844640"/>
            <a:ext cx="195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výměnný pro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http://individual.utoronto.ca/sadeghi/electrochemical_files/image040.gif"/>
          <p:cNvPicPr/>
          <p:nvPr/>
        </p:nvPicPr>
        <p:blipFill>
          <a:blip r:embed="rId4"/>
          <a:stretch/>
        </p:blipFill>
        <p:spPr>
          <a:xfrm>
            <a:off x="669960" y="3720960"/>
            <a:ext cx="227628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http://individual.utoronto.ca/sadeghi/electrochemical_files/image042.gif"/>
          <p:cNvPicPr/>
          <p:nvPr/>
        </p:nvPicPr>
        <p:blipFill>
          <a:blip r:embed="rId5"/>
          <a:stretch/>
        </p:blipFill>
        <p:spPr>
          <a:xfrm>
            <a:off x="3548160" y="3830760"/>
            <a:ext cx="1457280" cy="237960"/>
          </a:xfrm>
          <a:prstGeom prst="rect">
            <a:avLst/>
          </a:prstGeom>
          <a:ln w="0">
            <a:noFill/>
          </a:ln>
        </p:spPr>
      </p:pic>
      <p:sp>
        <p:nvSpPr>
          <p:cNvPr id="217" name="Obdélník 5"/>
          <p:cNvSpPr/>
          <p:nvPr/>
        </p:nvSpPr>
        <p:spPr>
          <a:xfrm>
            <a:off x="233280" y="5765760"/>
            <a:ext cx="837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4-02-20T12:07:01Z</dcterms:modified>
  <cp:revision>40</cp:revision>
  <dc:subject/>
  <dc:title>Prezentace aplikace PowerPoint</dc:title>
</cp:coreProperties>
</file>