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13.png" ContentType="image/png"/>
  <Override PartName="/ppt/media/image4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540-4034-4982-900A-3768C059C1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1E83-8D2D-46CC-AF13-BE1BA23EF9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378-D5AB-4735-94AB-C3F4DBF0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B5A-9DF5-44AD-8953-56DCA542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D41-192C-4285-9CF4-799AE61A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781-5822-4088-B737-E37FFE49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15EB-40DE-47B1-8C6C-26A5D170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64DA-FEAB-466F-A021-8A88DDC8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D08F-0ED5-4F08-88A4-99F70F5F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8A9E-1D45-4B4A-9232-43CD7C82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18F1-A8AB-407A-96ED-2BD5EC9B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9AF3-7B1A-4303-BB4C-28F45681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3B71-EAF4-4EA7-BE92-02342ED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BB0-AB8F-477E-9731-5627566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214-459D-4909-B6F7-8D3C0F9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880E-E020-4E89-BDF3-4FC6E21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8B24-A415-4131-97F5-5D627E5F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1CC5-CC7A-42F6-9A70-7182FDA1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A292-60A4-48E5-96B3-538BB189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7865-ADCD-467A-9C4C-3F6869F1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7CAF-A392-48D2-BA9F-FD996B8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E598-60FB-4448-A17A-2A75997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559B-13D7-4426-8747-56354AE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6F29-7A47-4E09-8775-BC13D422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5CE-E6DC-433A-9169-C639A7F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4382-3FB9-44BD-A5AB-C5CB933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FCE2-E23E-4431-91B3-3C1286F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D09A-0A90-489D-A489-EFC4A38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750C-7A14-4783-8B7B-ED43919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73BA-0052-4547-A455-7BC2C47A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4AC9-EAF8-4AD2-82FF-B1413C44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5227-83B6-48D7-AB21-04C97C4E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7CC-4BB2-4275-BD9C-D9F2404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6E9-C132-42A4-B914-E248797A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1E8-CFBD-41AB-87D7-EB5BA083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BB4-73F8-4060-AECA-D98AC4C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193-4106-4AD5-B1F5-51405E36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42F-E85F-4EDF-A901-A42C069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1DC9-DFDF-4949-B4CD-6C127E85865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EBE-43CE-4466-8808-37E9C7EF16D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E8B-5738-4969-9D6C-6E8A81808FF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ektrodová kine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6A7A-6BC9-4DF9-848D-63DFA983837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http://www.cartage.org.lb/en/themes/Sciences/Chemistry/Electrochemis/Electrochemical/ElectrodeKinetics/kinfig1.gif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87676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1"/>
          <p:cNvSpPr/>
          <p:nvPr/>
        </p:nvSpPr>
        <p:spPr>
          <a:xfrm>
            <a:off x="684360" y="5951520"/>
            <a:ext cx="58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mainpag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91BA-7341-4AF9-BFD7-C2FBA9739E7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bdélník 3"/>
          <p:cNvSpPr/>
          <p:nvPr/>
        </p:nvSpPr>
        <p:spPr>
          <a:xfrm>
            <a:off x="90000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individual.utoronto.ca/sadeghi/electrochemical_files/image086.jpg"/>
          <p:cNvPicPr/>
          <p:nvPr/>
        </p:nvPicPr>
        <p:blipFill>
          <a:blip r:embed="rId1"/>
          <a:stretch/>
        </p:blipFill>
        <p:spPr>
          <a:xfrm>
            <a:off x="112680" y="2421000"/>
            <a:ext cx="3657600" cy="308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individual.utoronto.ca/sadeghi/electrochemical_files/image100.jpg"/>
          <p:cNvPicPr/>
          <p:nvPr/>
        </p:nvPicPr>
        <p:blipFill>
          <a:blip r:embed="rId2"/>
          <a:stretch/>
        </p:blipFill>
        <p:spPr>
          <a:xfrm>
            <a:off x="4211640" y="234792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radeův a kapacitní prou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0CC-80E7-460B-AD2B-9CF9647DC30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http://www.felixmay.com/ESB/images/electrode-electrolyte-inter.gif"/>
          <p:cNvPicPr/>
          <p:nvPr/>
        </p:nvPicPr>
        <p:blipFill>
          <a:blip r:embed="rId1"/>
          <a:stretch/>
        </p:blipFill>
        <p:spPr>
          <a:xfrm>
            <a:off x="360360" y="1341360"/>
            <a:ext cx="4326120" cy="3632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seas.ucla.edu/~pilon/images/supercapacitors/CV%20Schematic.png"/>
          <p:cNvPicPr/>
          <p:nvPr/>
        </p:nvPicPr>
        <p:blipFill>
          <a:blip r:embed="rId2"/>
          <a:stretch/>
        </p:blipFill>
        <p:spPr>
          <a:xfrm>
            <a:off x="4981680" y="1312920"/>
            <a:ext cx="351000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Obdélník 3"/>
          <p:cNvSpPr/>
          <p:nvPr/>
        </p:nvSpPr>
        <p:spPr>
          <a:xfrm>
            <a:off x="237960" y="6381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oze a pasiv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1AC1-8E2A-4D55-8BBD-EF40548EEC3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bdélník 3"/>
          <p:cNvSpPr/>
          <p:nvPr/>
        </p:nvSpPr>
        <p:spPr>
          <a:xfrm>
            <a:off x="395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jhamernik.sweb.cz/Koroz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://jhamernik.sweb.cz/Koroze_soubory/image009.gif"/>
          <p:cNvPicPr/>
          <p:nvPr/>
        </p:nvPicPr>
        <p:blipFill>
          <a:blip r:embed="rId1"/>
          <a:stretch/>
        </p:blipFill>
        <p:spPr>
          <a:xfrm>
            <a:off x="324000" y="4232160"/>
            <a:ext cx="2705040" cy="163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jhamernik.sweb.cz/Koroze_soubory/image005.gif"/>
          <p:cNvPicPr/>
          <p:nvPr/>
        </p:nvPicPr>
        <p:blipFill>
          <a:blip r:embed="rId2"/>
          <a:stretch/>
        </p:blipFill>
        <p:spPr>
          <a:xfrm>
            <a:off x="6215040" y="1484280"/>
            <a:ext cx="2085840" cy="87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jhamernik.sweb.cz/Koroze_soubory/image008.gif"/>
          <p:cNvPicPr/>
          <p:nvPr/>
        </p:nvPicPr>
        <p:blipFill>
          <a:blip r:embed="rId3"/>
          <a:stretch/>
        </p:blipFill>
        <p:spPr>
          <a:xfrm>
            <a:off x="6315120" y="2612880"/>
            <a:ext cx="1990800" cy="66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2012books.lardbucket.org/books/general-chemistry-principles-patterns-and-applications-v1.0/section_23/28f7e127eabcc9de2916eefc451f6e03.jpg"/>
          <p:cNvPicPr/>
          <p:nvPr/>
        </p:nvPicPr>
        <p:blipFill>
          <a:blip r:embed="rId4"/>
          <a:stretch/>
        </p:blipFill>
        <p:spPr>
          <a:xfrm>
            <a:off x="412920" y="1197000"/>
            <a:ext cx="4748040" cy="2898720"/>
          </a:xfrm>
          <a:prstGeom prst="rect">
            <a:avLst/>
          </a:prstGeom>
          <a:ln w="0">
            <a:noFill/>
          </a:ln>
        </p:spPr>
      </p:pic>
      <p:sp>
        <p:nvSpPr>
          <p:cNvPr id="235" name="Obdélník 4"/>
          <p:cNvSpPr/>
          <p:nvPr/>
        </p:nvSpPr>
        <p:spPr>
          <a:xfrm>
            <a:off x="425520" y="6534000"/>
            <a:ext cx="78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6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64D0-0155-4613-A799-A1CB8A7E839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electronicdesign.com/files/29/17465/figure_01.jpg"/>
          <p:cNvPicPr/>
          <p:nvPr/>
        </p:nvPicPr>
        <p:blipFill>
          <a:blip r:embed="rId1"/>
          <a:stretch/>
        </p:blipFill>
        <p:spPr>
          <a:xfrm>
            <a:off x="390600" y="2133720"/>
            <a:ext cx="6057720" cy="37335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3"/>
          <p:cNvSpPr/>
          <p:nvPr/>
        </p:nvSpPr>
        <p:spPr>
          <a:xfrm>
            <a:off x="548280" y="1413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perkapac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bdélník 4"/>
          <p:cNvSpPr/>
          <p:nvPr/>
        </p:nvSpPr>
        <p:spPr>
          <a:xfrm>
            <a:off x="539640" y="6093000"/>
            <a:ext cx="63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http://www.seas.ucla.edu/~pilon/images/supercapacitors/Power%20vs%20Energy.png"/>
          <p:cNvPicPr/>
          <p:nvPr/>
        </p:nvPicPr>
        <p:blipFill>
          <a:blip r:embed="rId2"/>
          <a:stretch/>
        </p:blipFill>
        <p:spPr>
          <a:xfrm>
            <a:off x="5364000" y="217440"/>
            <a:ext cx="33228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F19E-E342-45F3-BF84-0113C18E462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8" descr="http://www.meta-synthesis.com/webbook/24_complexity/transfer.jpg"/>
          <p:cNvPicPr/>
          <p:nvPr/>
        </p:nvPicPr>
        <p:blipFill>
          <a:blip r:embed="rId1"/>
          <a:stretch/>
        </p:blipFill>
        <p:spPr>
          <a:xfrm>
            <a:off x="3112920" y="3035160"/>
            <a:ext cx="5848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pojmy elektroche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0989-83CE-433C-973D-FD86976B4F3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95280" y="1589040"/>
            <a:ext cx="8542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Standardní elektrodové potenciál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AE00-9FEE-4C05-AF64-15558E76ED3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691160" cy="666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www.wikiskripta.eu/images/math/9/9/8/998917d6e26a4a6dc77d850dde8cc27d.png"/>
          <p:cNvPicPr/>
          <p:nvPr/>
        </p:nvPicPr>
        <p:blipFill>
          <a:blip r:embed="rId2"/>
          <a:stretch/>
        </p:blipFill>
        <p:spPr>
          <a:xfrm>
            <a:off x="395280" y="5084640"/>
            <a:ext cx="324000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individual.utoronto.ca/sadeghi/electrochemical_files/image006.jpg"/>
          <p:cNvPicPr/>
          <p:nvPr/>
        </p:nvPicPr>
        <p:blipFill>
          <a:blip r:embed="rId3"/>
          <a:stretch/>
        </p:blipFill>
        <p:spPr>
          <a:xfrm>
            <a:off x="549360" y="2637000"/>
            <a:ext cx="3085920" cy="205740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1"/>
          <p:cNvSpPr/>
          <p:nvPr/>
        </p:nvSpPr>
        <p:spPr>
          <a:xfrm>
            <a:off x="395280" y="206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rnstova-Petersova rovni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ovéPole 1"/>
          <p:cNvSpPr/>
          <p:nvPr/>
        </p:nvSpPr>
        <p:spPr>
          <a:xfrm>
            <a:off x="395280" y="5732640"/>
            <a:ext cx="3240000" cy="825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á se stacionárn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nergie elektronu v kovech a roztocí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C81D-27EE-47C7-AB22-878A7B525EC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http://www.cartage.org.lb/en/themes/Sciences/Chemistry/Electrochemis/Electrochemical/ElectrodeKinetics/fermi1.gif"/>
          <p:cNvPicPr/>
          <p:nvPr/>
        </p:nvPicPr>
        <p:blipFill>
          <a:blip r:embed="rId1"/>
          <a:stretch/>
        </p:blipFill>
        <p:spPr>
          <a:xfrm>
            <a:off x="395280" y="2417760"/>
            <a:ext cx="4762440" cy="16477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395280" y="134136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elektronů v kovech snadno porozumíne uvážíme li Fermiho hladinu. Elektrony v kovech obsazují hladivy, které se těsně překrývají a vytváří pásy. Nejvyšší hladina je Fermiho. Tuto hladinu můžeme měnit připojením k vnějšímu potenciál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www.cartage.org.lb/en/themes/Sciences/Chemistry/Electrochemis/Electrochemical/ElectrodeKinetics/fermi2.gif"/>
          <p:cNvPicPr/>
          <p:nvPr/>
        </p:nvPicPr>
        <p:blipFill>
          <a:blip r:embed="rId2"/>
          <a:stretch/>
        </p:blipFill>
        <p:spPr>
          <a:xfrm>
            <a:off x="291960" y="4724280"/>
            <a:ext cx="4970520" cy="172080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5"/>
          <p:cNvSpPr/>
          <p:nvPr/>
        </p:nvSpPr>
        <p:spPr>
          <a:xfrm>
            <a:off x="565200" y="4065480"/>
            <a:ext cx="41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 molekul a iontů v roztocích je ji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6"/>
          <p:cNvSpPr/>
          <p:nvPr/>
        </p:nvSpPr>
        <p:spPr>
          <a:xfrm>
            <a:off x="5724360" y="40086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lektronu se pak přemísťují do místa s nižším potenciá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Šipka doprava 8"/>
          <p:cNvSpPr/>
          <p:nvPr/>
        </p:nvSpPr>
        <p:spPr>
          <a:xfrm>
            <a:off x="4599000" y="4916520"/>
            <a:ext cx="185760" cy="16812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Šipka doprava 11"/>
          <p:cNvSpPr/>
          <p:nvPr/>
        </p:nvSpPr>
        <p:spPr>
          <a:xfrm>
            <a:off x="2268360" y="5300640"/>
            <a:ext cx="184320" cy="16992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římá spojnice 12"/>
          <p:cNvSpPr/>
          <p:nvPr/>
        </p:nvSpPr>
        <p:spPr>
          <a:xfrm flipH="1">
            <a:off x="2238480" y="5221440"/>
            <a:ext cx="185760" cy="33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římá spojnice 14"/>
          <p:cNvSpPr/>
          <p:nvPr/>
        </p:nvSpPr>
        <p:spPr>
          <a:xfrm>
            <a:off x="2225520" y="5278320"/>
            <a:ext cx="1843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ovéPole 15"/>
          <p:cNvSpPr/>
          <p:nvPr/>
        </p:nvSpPr>
        <p:spPr>
          <a:xfrm>
            <a:off x="5737320" y="4978440"/>
            <a:ext cx="2879640" cy="824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chází tak k přenosu elektronů dokuď se neustaví  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www.cartage.org.lb/en/themes/Sciences/Chemistry/Electrochemis/Electrochemical/ElectrodeKinetics/eq1elec.gif"/>
          <p:cNvPicPr/>
          <p:nvPr/>
        </p:nvPicPr>
        <p:blipFill>
          <a:blip r:embed="rId3"/>
          <a:stretch/>
        </p:blipFill>
        <p:spPr>
          <a:xfrm>
            <a:off x="6060960" y="5932440"/>
            <a:ext cx="19908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dely rozhraní s přenosem elektrického ná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1424-80B2-4BD0-91B9-8F805957C42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ovéPole 3"/>
          <p:cNvSpPr/>
          <p:nvPr/>
        </p:nvSpPr>
        <p:spPr>
          <a:xfrm>
            <a:off x="39528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Helmholz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14360" y="1700280"/>
            <a:ext cx="1493640" cy="3368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99880" y="5229360"/>
            <a:ext cx="1978200" cy="12319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7"/>
          <p:cNvSpPr/>
          <p:nvPr/>
        </p:nvSpPr>
        <p:spPr>
          <a:xfrm>
            <a:off x="320364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Gouyon_Chap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ovéPole 8"/>
          <p:cNvSpPr/>
          <p:nvPr/>
        </p:nvSpPr>
        <p:spPr>
          <a:xfrm>
            <a:off x="6300720" y="1268280"/>
            <a:ext cx="201636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2917800" y="1773360"/>
            <a:ext cx="2589120" cy="296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2814480" y="4873680"/>
            <a:ext cx="2333880" cy="11509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2627280" y="61657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važuje narušování dvojvrstvy tepelným pohyb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6084720" y="19890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ombinace Obou model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ovéPole 14"/>
          <p:cNvSpPr/>
          <p:nvPr/>
        </p:nvSpPr>
        <p:spPr>
          <a:xfrm>
            <a:off x="6232680" y="2708280"/>
            <a:ext cx="2016000" cy="8240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ávislost potenciálu na vzdálenosti od el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6084720" y="3770280"/>
            <a:ext cx="2302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lektronová dvojvrstva a difúzní vrst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5C8-35E3-4F0C-8FD9-F592DCDFB06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http://wandlowski.dcb.unibe.ch/research/edl/edl_big.png"/>
          <p:cNvPicPr/>
          <p:nvPr/>
        </p:nvPicPr>
        <p:blipFill>
          <a:blip r:embed="rId1"/>
          <a:stretch/>
        </p:blipFill>
        <p:spPr>
          <a:xfrm>
            <a:off x="1187280" y="1484280"/>
            <a:ext cx="36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ttp://www.electronicproducts.com/images2/facm_illinois_cap_fig2_oct-copy.gif"/>
          <p:cNvPicPr/>
          <p:nvPr/>
        </p:nvPicPr>
        <p:blipFill>
          <a:blip r:embed="rId2"/>
          <a:stretch/>
        </p:blipFill>
        <p:spPr>
          <a:xfrm>
            <a:off x="5076720" y="400536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http://individual.utoronto.ca/sadeghi/electrochemical_files/image056.jpg"/>
          <p:cNvPicPr/>
          <p:nvPr/>
        </p:nvPicPr>
        <p:blipFill>
          <a:blip r:embed="rId3"/>
          <a:stretch/>
        </p:blipFill>
        <p:spPr>
          <a:xfrm>
            <a:off x="5403960" y="1341360"/>
            <a:ext cx="3321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C654-29F1-45A2-B4A1-326BE007ACC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http://2012books.lardbucket.org/books/general-chemistry-principles-patterns-and-applications-v1.0/section_23/b45fb1f467be4a8e28df94c7d3af4503.jpg"/>
          <p:cNvPicPr/>
          <p:nvPr/>
        </p:nvPicPr>
        <p:blipFill>
          <a:blip r:embed="rId1"/>
          <a:stretch/>
        </p:blipFill>
        <p:spPr>
          <a:xfrm>
            <a:off x="539640" y="981000"/>
            <a:ext cx="769464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ovéPole 1"/>
          <p:cNvSpPr/>
          <p:nvPr/>
        </p:nvSpPr>
        <p:spPr>
          <a:xfrm>
            <a:off x="1051200" y="2602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lektrický člá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bdélník 3"/>
          <p:cNvSpPr/>
          <p:nvPr/>
        </p:nvSpPr>
        <p:spPr>
          <a:xfrm>
            <a:off x="566640" y="5299200"/>
            <a:ext cx="78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ost přenosu elektronu na el. dvojvrst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1DE7-A8AA-4B0C-8AFF-865E7E9FE17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www.cartage.org.lb/en/themes/Sciences/Chemistry/Electrochemis/Electrochemical/ElectrodeKinetics/eq1elec.gif"/>
          <p:cNvPicPr/>
          <p:nvPr/>
        </p:nvPicPr>
        <p:blipFill>
          <a:blip r:embed="rId1"/>
          <a:stretch/>
        </p:blipFill>
        <p:spPr>
          <a:xfrm>
            <a:off x="684360" y="1557360"/>
            <a:ext cx="1990440" cy="295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cartage.org.lb/en/themes/Sciences/Chemistry/Electrochemis/Electrochemical/ElectrodeKinetics/eq3elec.gif"/>
          <p:cNvPicPr/>
          <p:nvPr/>
        </p:nvPicPr>
        <p:blipFill>
          <a:blip r:embed="rId2"/>
          <a:stretch/>
        </p:blipFill>
        <p:spPr>
          <a:xfrm>
            <a:off x="573120" y="2455920"/>
            <a:ext cx="4048200" cy="237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individual.utoronto.ca/sadeghi/electrochemical_files/image008.gif"/>
          <p:cNvPicPr/>
          <p:nvPr/>
        </p:nvPicPr>
        <p:blipFill>
          <a:blip r:embed="rId3"/>
          <a:stretch/>
        </p:blipFill>
        <p:spPr>
          <a:xfrm>
            <a:off x="3492360" y="1436760"/>
            <a:ext cx="1752840" cy="36180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4"/>
          <p:cNvSpPr/>
          <p:nvPr/>
        </p:nvSpPr>
        <p:spPr>
          <a:xfrm>
            <a:off x="5580000" y="1508040"/>
            <a:ext cx="3348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koncentrace na povrchu eldy. (konc. Elektronů jako by zahrnuta do kons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ovéPole 5"/>
          <p:cNvSpPr/>
          <p:nvPr/>
        </p:nvSpPr>
        <p:spPr>
          <a:xfrm>
            <a:off x="3903480" y="1909800"/>
            <a:ext cx="9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ol s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bdélník 6"/>
          <p:cNvSpPr/>
          <p:nvPr/>
        </p:nvSpPr>
        <p:spPr>
          <a:xfrm>
            <a:off x="395280" y="2779560"/>
            <a:ext cx="55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le teorie přechodného stavu platí pro rychlostní konstanty předpokl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http://chemwiki.ucdavis.edu/@api/deki/files/6482/=Example_Reaction_Profile_Modified.jpg"/>
          <p:cNvPicPr/>
          <p:nvPr/>
        </p:nvPicPr>
        <p:blipFill>
          <a:blip r:embed="rId4"/>
          <a:stretch/>
        </p:blipFill>
        <p:spPr>
          <a:xfrm>
            <a:off x="6084720" y="2414520"/>
            <a:ext cx="2908440" cy="234792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3"/>
          <p:cNvSpPr/>
          <p:nvPr/>
        </p:nvSpPr>
        <p:spPr>
          <a:xfrm>
            <a:off x="2203560" y="3230640"/>
            <a:ext cx="356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rotože je energie přech. stavu ovlivněna i rozdílem vůči rovnovážnému potenciál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bdélník 7"/>
          <p:cNvSpPr/>
          <p:nvPr/>
        </p:nvSpPr>
        <p:spPr>
          <a:xfrm>
            <a:off x="4500720" y="4057560"/>
            <a:ext cx="18223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nodický a katodický koeficient přenosu (citlivost n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1" descr="http://individual.utoronto.ca/sadeghi/electrochemical_files/image016.gif"/>
          <p:cNvPicPr/>
          <p:nvPr/>
        </p:nvPicPr>
        <p:blipFill>
          <a:blip r:embed="rId5"/>
          <a:stretch/>
        </p:blipFill>
        <p:spPr>
          <a:xfrm>
            <a:off x="620640" y="4478400"/>
            <a:ext cx="21049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http://individual.utoronto.ca/sadeghi/electrochemical_files/image010.gif"/>
          <p:cNvPicPr/>
          <p:nvPr/>
        </p:nvPicPr>
        <p:blipFill>
          <a:blip r:embed="rId6"/>
          <a:stretch/>
        </p:blipFill>
        <p:spPr>
          <a:xfrm>
            <a:off x="463680" y="3378240"/>
            <a:ext cx="1476360" cy="42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ttp://individual.utoronto.ca/sadeghi/electrochemical_files/image012.gif"/>
          <p:cNvPicPr/>
          <p:nvPr/>
        </p:nvPicPr>
        <p:blipFill>
          <a:blip r:embed="rId7"/>
          <a:stretch/>
        </p:blipFill>
        <p:spPr>
          <a:xfrm>
            <a:off x="482760" y="3798720"/>
            <a:ext cx="1523880" cy="41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http://individual.utoronto.ca/sadeghi/electrochemical_files/image018.gif"/>
          <p:cNvPicPr/>
          <p:nvPr/>
        </p:nvPicPr>
        <p:blipFill>
          <a:blip r:embed="rId8"/>
          <a:stretch/>
        </p:blipFill>
        <p:spPr>
          <a:xfrm>
            <a:off x="3168720" y="4230720"/>
            <a:ext cx="1104840" cy="49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http://individual.utoronto.ca/sadeghi/electrochemical_files/image022.gif"/>
          <p:cNvPicPr/>
          <p:nvPr/>
        </p:nvPicPr>
        <p:blipFill>
          <a:blip r:embed="rId9"/>
          <a:stretch/>
        </p:blipFill>
        <p:spPr>
          <a:xfrm>
            <a:off x="573120" y="4853160"/>
            <a:ext cx="22003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http://individual.utoronto.ca/sadeghi/electrochemical_files/image024.gif"/>
          <p:cNvPicPr/>
          <p:nvPr/>
        </p:nvPicPr>
        <p:blipFill>
          <a:blip r:embed="rId10"/>
          <a:stretch/>
        </p:blipFill>
        <p:spPr>
          <a:xfrm>
            <a:off x="3168720" y="4762440"/>
            <a:ext cx="115236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3" descr="http://individual.utoronto.ca/sadeghi/electrochemical_files/image028.gif"/>
          <p:cNvPicPr/>
          <p:nvPr/>
        </p:nvPicPr>
        <p:blipFill>
          <a:blip r:embed="rId11"/>
          <a:stretch/>
        </p:blipFill>
        <p:spPr>
          <a:xfrm>
            <a:off x="6875640" y="5057640"/>
            <a:ext cx="599760" cy="2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http://individual.utoronto.ca/sadeghi/electrochemical_files/image032.gif"/>
          <p:cNvPicPr/>
          <p:nvPr/>
        </p:nvPicPr>
        <p:blipFill>
          <a:blip r:embed="rId12"/>
          <a:stretch/>
        </p:blipFill>
        <p:spPr>
          <a:xfrm>
            <a:off x="622440" y="5877000"/>
            <a:ext cx="3619440" cy="390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9" descr="http://individual.utoronto.ca/sadeghi/electrochemical_files/image036.gif"/>
          <p:cNvPicPr/>
          <p:nvPr/>
        </p:nvPicPr>
        <p:blipFill>
          <a:blip r:embed="rId13"/>
          <a:stretch/>
        </p:blipFill>
        <p:spPr>
          <a:xfrm>
            <a:off x="5356080" y="5732640"/>
            <a:ext cx="1457640" cy="430200"/>
          </a:xfrm>
          <a:prstGeom prst="rect">
            <a:avLst/>
          </a:prstGeom>
          <a:ln w="0">
            <a:noFill/>
          </a:ln>
        </p:spPr>
      </p:pic>
      <p:sp>
        <p:nvSpPr>
          <p:cNvPr id="200" name="Obdélník 6"/>
          <p:cNvSpPr/>
          <p:nvPr/>
        </p:nvSpPr>
        <p:spPr>
          <a:xfrm>
            <a:off x="4511520" y="58737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46160" y="6453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1" descr="http://individual.utoronto.ca/sadeghi/electrochemical_files/image038.gif"/>
          <p:cNvPicPr/>
          <p:nvPr/>
        </p:nvPicPr>
        <p:blipFill>
          <a:blip r:embed="rId14"/>
          <a:stretch/>
        </p:blipFill>
        <p:spPr>
          <a:xfrm>
            <a:off x="7596360" y="57625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203" name="Obdélník 6"/>
          <p:cNvSpPr/>
          <p:nvPr/>
        </p:nvSpPr>
        <p:spPr>
          <a:xfrm>
            <a:off x="7475400" y="5948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řepě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ovéPole 3"/>
          <p:cNvSpPr/>
          <p:nvPr/>
        </p:nvSpPr>
        <p:spPr>
          <a:xfrm>
            <a:off x="395280" y="19242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becně: i=nFA.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E816-90C6-4822-9C76-B315CC9D3DC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bdélník 3"/>
          <p:cNvSpPr/>
          <p:nvPr/>
        </p:nvSpPr>
        <p:spPr>
          <a:xfrm>
            <a:off x="208800" y="2657520"/>
            <a:ext cx="67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jednodušená Butler-Volmer rovnice  pro dokonalé míchanou dvojvrstv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http://www.cartage.org.lb/en/themes/Sciences/Chemistry/Electrochemis/Electrochemical/ElectrodeKinetics/eq7elec.gif"/>
          <p:cNvPicPr/>
          <p:nvPr/>
        </p:nvPicPr>
        <p:blipFill>
          <a:blip r:embed="rId1"/>
          <a:stretch/>
        </p:blipFill>
        <p:spPr>
          <a:xfrm>
            <a:off x="539640" y="3105000"/>
            <a:ext cx="3505320" cy="6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cartage.org.lb/en/themes/Sciences/Chemistry/Electrochemis/Electrochemical/ElectrodeKinetics/kinfig1.gif"/>
          <p:cNvPicPr/>
          <p:nvPr/>
        </p:nvPicPr>
        <p:blipFill>
          <a:blip r:embed="rId2"/>
          <a:stretch/>
        </p:blipFill>
        <p:spPr>
          <a:xfrm>
            <a:off x="5329080" y="275436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3"/>
          <p:cNvSpPr/>
          <p:nvPr/>
        </p:nvSpPr>
        <p:spPr>
          <a:xfrm>
            <a:off x="715680" y="4365720"/>
            <a:ext cx="4509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liv parametru výměnného proudu 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při 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0,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E - E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…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lké …reverzibilní el. re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řední …sem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alý …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4"/>
          <p:cNvSpPr/>
          <p:nvPr/>
        </p:nvSpPr>
        <p:spPr>
          <a:xfrm>
            <a:off x="210960" y="6093000"/>
            <a:ext cx="83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Electrochemical/mainpag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4" descr="http://www.cartage.org.lb/en/themes/Sciences/Chemistry/Electrochemis/Electrochemical/ElectrodeKinetics/eq6elec.gif"/>
          <p:cNvPicPr/>
          <p:nvPr/>
        </p:nvPicPr>
        <p:blipFill>
          <a:blip r:embed="rId3"/>
          <a:stretch/>
        </p:blipFill>
        <p:spPr>
          <a:xfrm>
            <a:off x="669960" y="1844640"/>
            <a:ext cx="4581360" cy="64764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8"/>
          <p:cNvSpPr/>
          <p:nvPr/>
        </p:nvSpPr>
        <p:spPr>
          <a:xfrm>
            <a:off x="251280" y="112536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pojením rovnic získáme Butler-Volmer rovnic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bdélník 17"/>
          <p:cNvSpPr/>
          <p:nvPr/>
        </p:nvSpPr>
        <p:spPr>
          <a:xfrm>
            <a:off x="6260040" y="1844640"/>
            <a:ext cx="195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výměnný pro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http://individual.utoronto.ca/sadeghi/electrochemical_files/image040.gif"/>
          <p:cNvPicPr/>
          <p:nvPr/>
        </p:nvPicPr>
        <p:blipFill>
          <a:blip r:embed="rId4"/>
          <a:stretch/>
        </p:blipFill>
        <p:spPr>
          <a:xfrm>
            <a:off x="669960" y="3720960"/>
            <a:ext cx="227628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http://individual.utoronto.ca/sadeghi/electrochemical_files/image042.gif"/>
          <p:cNvPicPr/>
          <p:nvPr/>
        </p:nvPicPr>
        <p:blipFill>
          <a:blip r:embed="rId5"/>
          <a:stretch/>
        </p:blipFill>
        <p:spPr>
          <a:xfrm>
            <a:off x="3548160" y="3830760"/>
            <a:ext cx="1457280" cy="237960"/>
          </a:xfrm>
          <a:prstGeom prst="rect">
            <a:avLst/>
          </a:prstGeom>
          <a:ln w="0">
            <a:noFill/>
          </a:ln>
        </p:spPr>
      </p:pic>
      <p:sp>
        <p:nvSpPr>
          <p:cNvPr id="217" name="Obdélník 5"/>
          <p:cNvSpPr/>
          <p:nvPr/>
        </p:nvSpPr>
        <p:spPr>
          <a:xfrm>
            <a:off x="233280" y="5765760"/>
            <a:ext cx="837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4-02-20T12:07:01Z</dcterms:modified>
  <cp:revision>40</cp:revision>
  <dc:subject/>
  <dc:title>Prezentace aplikace PowerPoint</dc:title>
</cp:coreProperties>
</file>