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13.png" ContentType="image/png"/>
  <Override PartName="/ppt/media/image40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3.jpeg" ContentType="image/jpeg"/>
  <Override PartName="/ppt/media/image44.png" ContentType="image/png"/>
  <Override PartName="/ppt/media/image45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239B-B654-413C-A4EB-C45F93FCA8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4362-383B-4EBB-8FC0-0B20A84EC3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2E3-A436-4A4C-84E2-6D559C09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A65-A1C8-473B-8012-B0D6CD03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439-B184-42E1-BC00-41C204B9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562-0454-4F7D-A088-164A5BCA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4609-EAF8-4D2A-8F32-B3BD35E0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F0CA-4466-4F1D-97E2-89C12C99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E69A-C738-49E8-BF01-573C3D39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6D75-7E62-41DC-94F5-1B845046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60DE-2475-4319-8E24-E37EC424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5886-2597-42E0-9BE4-493AA41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00A5-6C3E-49E7-BA1D-C056EDD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118-300F-4169-85A6-0BEDEEFA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23B2-C432-4194-88BC-507B2EEC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3C56-4FDC-449D-A495-41D287EA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3AF2-F9AE-4046-BDDB-1A695502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FE6A-82A5-433A-9915-D049A079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E33F-8FC6-49EE-B39B-D9B8D94E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CE02-2D79-4BCB-912C-A88C6D01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BF673-D9FC-46B8-9770-19B8E90F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6867-AFB2-4B5E-87BD-FFA314A7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CB84-4C29-4950-963E-458634F6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F64F-6561-49FF-A36A-D35E7BB0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3D3-3A28-4F2A-BC4A-7BCD5C37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A1F9-F86C-45EF-8DAE-12E43322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BC6A-17FB-4E3A-A3C9-58771A67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F9BF-F695-4157-A686-C3EFFA7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D57A-6DFF-4131-AEA0-3B7B0A3E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664A3-A155-4A8F-BEC0-A19B03B4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F532-1FF2-48E7-B5CF-0937CA4F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007B-2D67-4324-919F-E6EFB530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48A-E3EC-4B2B-A305-9AD9AB6C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D79-52C7-4759-B13E-8342B66E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3C2F-2335-4AE3-BCE3-218E37AE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B53-C794-445F-8D6D-8CF39260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F78-4B5C-43A5-9965-8944CBB1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5999-F43A-47E5-9160-5BF7FDE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76CE-0D26-4A15-B809-0DD0A9605D5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B97D-943A-4E9C-8954-D788130E738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8DED-063B-40A2-A9D4-EAA456181FB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Elektrodová kinet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48D8-B22F-4436-87BC-0186206543C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http://www.cartage.org.lb/en/themes/Sciences/Chemistry/Electrochemis/Electrochemical/ElectrodeKinetics/kinfig1.gif"/>
          <p:cNvPicPr/>
          <p:nvPr/>
        </p:nvPicPr>
        <p:blipFill>
          <a:blip r:embed="rId1"/>
          <a:stretch/>
        </p:blipFill>
        <p:spPr>
          <a:xfrm>
            <a:off x="395280" y="3213000"/>
            <a:ext cx="3809880" cy="287676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1"/>
          <p:cNvSpPr/>
          <p:nvPr/>
        </p:nvSpPr>
        <p:spPr>
          <a:xfrm>
            <a:off x="684360" y="5951520"/>
            <a:ext cx="58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cartage.org.lb/en/themes/Sciences/Chemistry/Electrochemis/mainpag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D6F-1F47-4F6D-AD17-F5EC4BD5FCB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bdélník 3"/>
          <p:cNvSpPr/>
          <p:nvPr/>
        </p:nvSpPr>
        <p:spPr>
          <a:xfrm>
            <a:off x="900000" y="580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http://individual.utoronto.ca/sadeghi/electrochemical_files/image086.jpg"/>
          <p:cNvPicPr/>
          <p:nvPr/>
        </p:nvPicPr>
        <p:blipFill>
          <a:blip r:embed="rId1"/>
          <a:stretch/>
        </p:blipFill>
        <p:spPr>
          <a:xfrm>
            <a:off x="112680" y="2421000"/>
            <a:ext cx="3657600" cy="3085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://individual.utoronto.ca/sadeghi/electrochemical_files/image100.jpg"/>
          <p:cNvPicPr/>
          <p:nvPr/>
        </p:nvPicPr>
        <p:blipFill>
          <a:blip r:embed="rId2"/>
          <a:stretch/>
        </p:blipFill>
        <p:spPr>
          <a:xfrm>
            <a:off x="4211640" y="2347920"/>
            <a:ext cx="43099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radeův a kapacitní prou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9E17-F969-4A35-B847-B92E3DB23AE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http://www.felixmay.com/ESB/images/electrode-electrolyte-inter.gif"/>
          <p:cNvPicPr/>
          <p:nvPr/>
        </p:nvPicPr>
        <p:blipFill>
          <a:blip r:embed="rId1"/>
          <a:stretch/>
        </p:blipFill>
        <p:spPr>
          <a:xfrm>
            <a:off x="360360" y="1341360"/>
            <a:ext cx="4326120" cy="3632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www.seas.ucla.edu/~pilon/images/supercapacitors/CV%20Schematic.png"/>
          <p:cNvPicPr/>
          <p:nvPr/>
        </p:nvPicPr>
        <p:blipFill>
          <a:blip r:embed="rId2"/>
          <a:stretch/>
        </p:blipFill>
        <p:spPr>
          <a:xfrm>
            <a:off x="4981680" y="1312920"/>
            <a:ext cx="3510000" cy="2663640"/>
          </a:xfrm>
          <a:prstGeom prst="rect">
            <a:avLst/>
          </a:prstGeom>
          <a:ln w="0">
            <a:noFill/>
          </a:ln>
        </p:spPr>
      </p:pic>
      <p:sp>
        <p:nvSpPr>
          <p:cNvPr id="227" name="Obdélník 3"/>
          <p:cNvSpPr/>
          <p:nvPr/>
        </p:nvSpPr>
        <p:spPr>
          <a:xfrm>
            <a:off x="237960" y="6381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seas.ucla.edu/~pilon/CV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oze a pasiva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5737-51CA-40A0-9592-E075FDE3349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bdélník 3"/>
          <p:cNvSpPr/>
          <p:nvPr/>
        </p:nvSpPr>
        <p:spPr>
          <a:xfrm>
            <a:off x="395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jhamernik.sweb.cz/Koroz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http://jhamernik.sweb.cz/Koroze_soubory/image009.gif"/>
          <p:cNvPicPr/>
          <p:nvPr/>
        </p:nvPicPr>
        <p:blipFill>
          <a:blip r:embed="rId1"/>
          <a:stretch/>
        </p:blipFill>
        <p:spPr>
          <a:xfrm>
            <a:off x="324000" y="4232160"/>
            <a:ext cx="2705040" cy="163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http://jhamernik.sweb.cz/Koroze_soubory/image005.gif"/>
          <p:cNvPicPr/>
          <p:nvPr/>
        </p:nvPicPr>
        <p:blipFill>
          <a:blip r:embed="rId2"/>
          <a:stretch/>
        </p:blipFill>
        <p:spPr>
          <a:xfrm>
            <a:off x="6215040" y="1484280"/>
            <a:ext cx="2085840" cy="876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http://jhamernik.sweb.cz/Koroze_soubory/image008.gif"/>
          <p:cNvPicPr/>
          <p:nvPr/>
        </p:nvPicPr>
        <p:blipFill>
          <a:blip r:embed="rId3"/>
          <a:stretch/>
        </p:blipFill>
        <p:spPr>
          <a:xfrm>
            <a:off x="6315120" y="2612880"/>
            <a:ext cx="1990800" cy="66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http://2012books.lardbucket.org/books/general-chemistry-principles-patterns-and-applications-v1.0/section_23/28f7e127eabcc9de2916eefc451f6e03.jpg"/>
          <p:cNvPicPr/>
          <p:nvPr/>
        </p:nvPicPr>
        <p:blipFill>
          <a:blip r:embed="rId4"/>
          <a:stretch/>
        </p:blipFill>
        <p:spPr>
          <a:xfrm>
            <a:off x="412920" y="1197000"/>
            <a:ext cx="4748040" cy="2898720"/>
          </a:xfrm>
          <a:prstGeom prst="rect">
            <a:avLst/>
          </a:prstGeom>
          <a:ln w="0">
            <a:noFill/>
          </a:ln>
        </p:spPr>
      </p:pic>
      <p:sp>
        <p:nvSpPr>
          <p:cNvPr id="235" name="Obdélník 4"/>
          <p:cNvSpPr/>
          <p:nvPr/>
        </p:nvSpPr>
        <p:spPr>
          <a:xfrm>
            <a:off x="425520" y="6534000"/>
            <a:ext cx="789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2012books.lardbucket.org/books/general-chemistry-principles-patterns-and-applications-v1.0/section_23_06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z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B283-9664-48D9-AC6B-F077ABFE97F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electronicdesign.com/files/29/17465/figure_01.jpg"/>
          <p:cNvPicPr/>
          <p:nvPr/>
        </p:nvPicPr>
        <p:blipFill>
          <a:blip r:embed="rId1"/>
          <a:stretch/>
        </p:blipFill>
        <p:spPr>
          <a:xfrm>
            <a:off x="390600" y="2133720"/>
            <a:ext cx="6057720" cy="373356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3"/>
          <p:cNvSpPr/>
          <p:nvPr/>
        </p:nvSpPr>
        <p:spPr>
          <a:xfrm>
            <a:off x="548280" y="14130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perkapac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bdélník 4"/>
          <p:cNvSpPr/>
          <p:nvPr/>
        </p:nvSpPr>
        <p:spPr>
          <a:xfrm>
            <a:off x="539640" y="6093000"/>
            <a:ext cx="63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seas.ucla.edu/~pilon/CV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http://www.seas.ucla.edu/~pilon/images/supercapacitors/Power%20vs%20Energy.png"/>
          <p:cNvPicPr/>
          <p:nvPr/>
        </p:nvPicPr>
        <p:blipFill>
          <a:blip r:embed="rId2"/>
          <a:stretch/>
        </p:blipFill>
        <p:spPr>
          <a:xfrm>
            <a:off x="5364000" y="217440"/>
            <a:ext cx="33228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636C-9BC1-4736-94DE-24EF024FBCA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8" descr="http://www.meta-synthesis.com/webbook/24_complexity/transfer.jpg"/>
          <p:cNvPicPr/>
          <p:nvPr/>
        </p:nvPicPr>
        <p:blipFill>
          <a:blip r:embed="rId1"/>
          <a:stretch/>
        </p:blipFill>
        <p:spPr>
          <a:xfrm>
            <a:off x="3112920" y="3035160"/>
            <a:ext cx="5848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pojmy elektroche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BACA-989B-40B9-9132-D2C45951150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395280" y="1589040"/>
            <a:ext cx="85424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35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Standardní elektrodové potenciál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F6B7-5378-42AA-960B-0EBA42537A1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691160" cy="666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http://www.wikiskripta.eu/images/math/9/9/8/998917d6e26a4a6dc77d850dde8cc27d.png"/>
          <p:cNvPicPr/>
          <p:nvPr/>
        </p:nvPicPr>
        <p:blipFill>
          <a:blip r:embed="rId2"/>
          <a:stretch/>
        </p:blipFill>
        <p:spPr>
          <a:xfrm>
            <a:off x="395280" y="5084640"/>
            <a:ext cx="324000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http://individual.utoronto.ca/sadeghi/electrochemical_files/image006.jpg"/>
          <p:cNvPicPr/>
          <p:nvPr/>
        </p:nvPicPr>
        <p:blipFill>
          <a:blip r:embed="rId3"/>
          <a:stretch/>
        </p:blipFill>
        <p:spPr>
          <a:xfrm>
            <a:off x="549360" y="2637000"/>
            <a:ext cx="3085920" cy="2057400"/>
          </a:xfrm>
          <a:prstGeom prst="rect">
            <a:avLst/>
          </a:prstGeom>
          <a:ln w="0">
            <a:noFill/>
          </a:ln>
        </p:spPr>
      </p:pic>
      <p:sp>
        <p:nvSpPr>
          <p:cNvPr id="143" name="TextovéPole 1"/>
          <p:cNvSpPr/>
          <p:nvPr/>
        </p:nvSpPr>
        <p:spPr>
          <a:xfrm>
            <a:off x="395280" y="2060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rnstova-Petersova rovnic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ovéPole 1"/>
          <p:cNvSpPr/>
          <p:nvPr/>
        </p:nvSpPr>
        <p:spPr>
          <a:xfrm>
            <a:off x="395280" y="5732640"/>
            <a:ext cx="3240000" cy="825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á se stacionární st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Energie elektronu v kovech a roztocí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0892-7A18-4545-A090-F67C9F826DB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http://www.cartage.org.lb/en/themes/Sciences/Chemistry/Electrochemis/Electrochemical/ElectrodeKinetics/fermi1.gif"/>
          <p:cNvPicPr/>
          <p:nvPr/>
        </p:nvPicPr>
        <p:blipFill>
          <a:blip r:embed="rId1"/>
          <a:stretch/>
        </p:blipFill>
        <p:spPr>
          <a:xfrm>
            <a:off x="395280" y="2417760"/>
            <a:ext cx="4762440" cy="164772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4"/>
          <p:cNvSpPr/>
          <p:nvPr/>
        </p:nvSpPr>
        <p:spPr>
          <a:xfrm>
            <a:off x="395280" y="134136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hování elektronů v kovech snadno porozumíne uvážíme li Fermiho hladinu. Elektrony v kovech obsazují hladivy, které se těsně překrývají a vytváří pásy. Nejvyšší hladina je Fermiho. Tuto hladinu můžeme měnit připojením k vnějšímu potenciálu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www.cartage.org.lb/en/themes/Sciences/Chemistry/Electrochemis/Electrochemical/ElectrodeKinetics/fermi2.gif"/>
          <p:cNvPicPr/>
          <p:nvPr/>
        </p:nvPicPr>
        <p:blipFill>
          <a:blip r:embed="rId2"/>
          <a:stretch/>
        </p:blipFill>
        <p:spPr>
          <a:xfrm>
            <a:off x="291960" y="4724280"/>
            <a:ext cx="4970520" cy="172080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5"/>
          <p:cNvSpPr/>
          <p:nvPr/>
        </p:nvSpPr>
        <p:spPr>
          <a:xfrm>
            <a:off x="565200" y="4065480"/>
            <a:ext cx="41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hování  molekul a iontů v roztocích je jin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ovéPole 6"/>
          <p:cNvSpPr/>
          <p:nvPr/>
        </p:nvSpPr>
        <p:spPr>
          <a:xfrm>
            <a:off x="5724360" y="400860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Elektronu se pak přemísťují do místa s nižším potenciá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Šipka doprava 8"/>
          <p:cNvSpPr/>
          <p:nvPr/>
        </p:nvSpPr>
        <p:spPr>
          <a:xfrm>
            <a:off x="4599000" y="4916520"/>
            <a:ext cx="185760" cy="16812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Šipka doprava 11"/>
          <p:cNvSpPr/>
          <p:nvPr/>
        </p:nvSpPr>
        <p:spPr>
          <a:xfrm>
            <a:off x="2268360" y="5300640"/>
            <a:ext cx="184320" cy="16992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římá spojnice 12"/>
          <p:cNvSpPr/>
          <p:nvPr/>
        </p:nvSpPr>
        <p:spPr>
          <a:xfrm flipH="1">
            <a:off x="2238480" y="5221440"/>
            <a:ext cx="185760" cy="330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římá spojnice 14"/>
          <p:cNvSpPr/>
          <p:nvPr/>
        </p:nvSpPr>
        <p:spPr>
          <a:xfrm>
            <a:off x="2225520" y="5278320"/>
            <a:ext cx="18432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ovéPole 15"/>
          <p:cNvSpPr/>
          <p:nvPr/>
        </p:nvSpPr>
        <p:spPr>
          <a:xfrm>
            <a:off x="5737320" y="4978440"/>
            <a:ext cx="2879640" cy="824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chází tak k přenosu elektronů dokuď se neustaví  rovnová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http://www.cartage.org.lb/en/themes/Sciences/Chemistry/Electrochemis/Electrochemical/ElectrodeKinetics/eq1elec.gif"/>
          <p:cNvPicPr/>
          <p:nvPr/>
        </p:nvPicPr>
        <p:blipFill>
          <a:blip r:embed="rId3"/>
          <a:stretch/>
        </p:blipFill>
        <p:spPr>
          <a:xfrm>
            <a:off x="6060960" y="5932440"/>
            <a:ext cx="19908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dely rozhraní s přenosem elektrického náb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FA41-FF2B-4F8C-AE3E-191CE48770C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ovéPole 3"/>
          <p:cNvSpPr/>
          <p:nvPr/>
        </p:nvSpPr>
        <p:spPr>
          <a:xfrm>
            <a:off x="395280" y="1268280"/>
            <a:ext cx="201600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Helmholz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14360" y="1700280"/>
            <a:ext cx="1493640" cy="3368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299880" y="5229360"/>
            <a:ext cx="1978200" cy="123192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7"/>
          <p:cNvSpPr/>
          <p:nvPr/>
        </p:nvSpPr>
        <p:spPr>
          <a:xfrm>
            <a:off x="3203640" y="1268280"/>
            <a:ext cx="201600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Gouyon_Chap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ovéPole 8"/>
          <p:cNvSpPr/>
          <p:nvPr/>
        </p:nvSpPr>
        <p:spPr>
          <a:xfrm>
            <a:off x="6300720" y="1268280"/>
            <a:ext cx="2016360" cy="3373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2917800" y="1773360"/>
            <a:ext cx="2589120" cy="2963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4"/>
          <a:stretch/>
        </p:blipFill>
        <p:spPr>
          <a:xfrm>
            <a:off x="2814480" y="4873680"/>
            <a:ext cx="2333880" cy="1150920"/>
          </a:xfrm>
          <a:prstGeom prst="rect">
            <a:avLst/>
          </a:prstGeom>
          <a:ln w="0">
            <a:noFill/>
          </a:ln>
        </p:spPr>
      </p:pic>
      <p:sp>
        <p:nvSpPr>
          <p:cNvPr id="167" name="TextovéPole 4"/>
          <p:cNvSpPr/>
          <p:nvPr/>
        </p:nvSpPr>
        <p:spPr>
          <a:xfrm>
            <a:off x="2627280" y="616572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Uvažuje narušování dvojvrstvy tepelným pohyb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ovéPole 13"/>
          <p:cNvSpPr/>
          <p:nvPr/>
        </p:nvSpPr>
        <p:spPr>
          <a:xfrm>
            <a:off x="6084720" y="19890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ombinace Obou model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ovéPole 14"/>
          <p:cNvSpPr/>
          <p:nvPr/>
        </p:nvSpPr>
        <p:spPr>
          <a:xfrm>
            <a:off x="6232680" y="2708280"/>
            <a:ext cx="2016000" cy="8240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ávislost potenciálu na vzdálenosti od el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6084720" y="3770280"/>
            <a:ext cx="23022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Elektronová dvojvrstva a difúzní vrst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B30E-233C-4937-A5D0-FD97F2A67A3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7" descr="http://wandlowski.dcb.unibe.ch/research/edl/edl_big.png"/>
          <p:cNvPicPr/>
          <p:nvPr/>
        </p:nvPicPr>
        <p:blipFill>
          <a:blip r:embed="rId1"/>
          <a:stretch/>
        </p:blipFill>
        <p:spPr>
          <a:xfrm>
            <a:off x="1187280" y="1484280"/>
            <a:ext cx="36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http://www.electronicproducts.com/images2/facm_illinois_cap_fig2_oct-copy.gif"/>
          <p:cNvPicPr/>
          <p:nvPr/>
        </p:nvPicPr>
        <p:blipFill>
          <a:blip r:embed="rId2"/>
          <a:stretch/>
        </p:blipFill>
        <p:spPr>
          <a:xfrm>
            <a:off x="5076720" y="4005360"/>
            <a:ext cx="3810240" cy="2095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http://individual.utoronto.ca/sadeghi/electrochemical_files/image056.jpg"/>
          <p:cNvPicPr/>
          <p:nvPr/>
        </p:nvPicPr>
        <p:blipFill>
          <a:blip r:embed="rId3"/>
          <a:stretch/>
        </p:blipFill>
        <p:spPr>
          <a:xfrm>
            <a:off x="5403960" y="1341360"/>
            <a:ext cx="33210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46B9-E6B1-46FB-BB5A-D3851E2D8E0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9" descr="http://2012books.lardbucket.org/books/general-chemistry-principles-patterns-and-applications-v1.0/section_23/b45fb1f467be4a8e28df94c7d3af4503.jpg"/>
          <p:cNvPicPr/>
          <p:nvPr/>
        </p:nvPicPr>
        <p:blipFill>
          <a:blip r:embed="rId1"/>
          <a:stretch/>
        </p:blipFill>
        <p:spPr>
          <a:xfrm>
            <a:off x="539640" y="981000"/>
            <a:ext cx="7694640" cy="4103640"/>
          </a:xfrm>
          <a:prstGeom prst="rect">
            <a:avLst/>
          </a:prstGeom>
          <a:ln w="0">
            <a:noFill/>
          </a:ln>
        </p:spPr>
      </p:pic>
      <p:sp>
        <p:nvSpPr>
          <p:cNvPr id="178" name="TextovéPole 1"/>
          <p:cNvSpPr/>
          <p:nvPr/>
        </p:nvSpPr>
        <p:spPr>
          <a:xfrm>
            <a:off x="1051200" y="26028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lektrický člá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bdélník 3"/>
          <p:cNvSpPr/>
          <p:nvPr/>
        </p:nvSpPr>
        <p:spPr>
          <a:xfrm>
            <a:off x="566640" y="5299200"/>
            <a:ext cx="78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2012books.lardbucket.org/books/general-chemistry-principles-patterns-and-applications-v1.0/section_23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ychlost přenosu elektronu na el. dvojvrstv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467F-97F4-45F5-9CD1-F40724F2FB6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http://www.cartage.org.lb/en/themes/Sciences/Chemistry/Electrochemis/Electrochemical/ElectrodeKinetics/eq1elec.gif"/>
          <p:cNvPicPr/>
          <p:nvPr/>
        </p:nvPicPr>
        <p:blipFill>
          <a:blip r:embed="rId1"/>
          <a:stretch/>
        </p:blipFill>
        <p:spPr>
          <a:xfrm>
            <a:off x="684360" y="1557360"/>
            <a:ext cx="1990440" cy="295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cartage.org.lb/en/themes/Sciences/Chemistry/Electrochemis/Electrochemical/ElectrodeKinetics/eq3elec.gif"/>
          <p:cNvPicPr/>
          <p:nvPr/>
        </p:nvPicPr>
        <p:blipFill>
          <a:blip r:embed="rId2"/>
          <a:stretch/>
        </p:blipFill>
        <p:spPr>
          <a:xfrm>
            <a:off x="573120" y="2455920"/>
            <a:ext cx="4048200" cy="237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individual.utoronto.ca/sadeghi/electrochemical_files/image008.gif"/>
          <p:cNvPicPr/>
          <p:nvPr/>
        </p:nvPicPr>
        <p:blipFill>
          <a:blip r:embed="rId3"/>
          <a:stretch/>
        </p:blipFill>
        <p:spPr>
          <a:xfrm>
            <a:off x="3492360" y="1436760"/>
            <a:ext cx="1752840" cy="36180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4"/>
          <p:cNvSpPr/>
          <p:nvPr/>
        </p:nvSpPr>
        <p:spPr>
          <a:xfrm>
            <a:off x="5580000" y="1508040"/>
            <a:ext cx="3348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…koncentrace na povrchu eldy. (konc. Elektronů jako by zahrnuta do konst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ovéPole 5"/>
          <p:cNvSpPr/>
          <p:nvPr/>
        </p:nvSpPr>
        <p:spPr>
          <a:xfrm>
            <a:off x="3903480" y="1909800"/>
            <a:ext cx="93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ol s</a:t>
            </a:r>
            <a:r>
              <a:rPr b="0" lang="cs-CZ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cs-CZ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bdélník 6"/>
          <p:cNvSpPr/>
          <p:nvPr/>
        </p:nvSpPr>
        <p:spPr>
          <a:xfrm>
            <a:off x="395280" y="2779560"/>
            <a:ext cx="558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le teorie přechodného stavu platí pro rychlostní konstanty předpokl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http://chemwiki.ucdavis.edu/@api/deki/files/6482/=Example_Reaction_Profile_Modified.jpg"/>
          <p:cNvPicPr/>
          <p:nvPr/>
        </p:nvPicPr>
        <p:blipFill>
          <a:blip r:embed="rId4"/>
          <a:stretch/>
        </p:blipFill>
        <p:spPr>
          <a:xfrm>
            <a:off x="6084720" y="2414520"/>
            <a:ext cx="2908440" cy="234792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3"/>
          <p:cNvSpPr/>
          <p:nvPr/>
        </p:nvSpPr>
        <p:spPr>
          <a:xfrm>
            <a:off x="2203560" y="3230640"/>
            <a:ext cx="356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rotože je energie přech. stavu ovlivněna i rozdílem vůči rovnovážnému potenciál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bdélník 7"/>
          <p:cNvSpPr/>
          <p:nvPr/>
        </p:nvSpPr>
        <p:spPr>
          <a:xfrm>
            <a:off x="4500720" y="4057560"/>
            <a:ext cx="18223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nodický a katodický koeficient přenosu (citlivost n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1" descr="http://individual.utoronto.ca/sadeghi/electrochemical_files/image016.gif"/>
          <p:cNvPicPr/>
          <p:nvPr/>
        </p:nvPicPr>
        <p:blipFill>
          <a:blip r:embed="rId5"/>
          <a:stretch/>
        </p:blipFill>
        <p:spPr>
          <a:xfrm>
            <a:off x="620640" y="4478400"/>
            <a:ext cx="2104920" cy="22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3" descr="http://individual.utoronto.ca/sadeghi/electrochemical_files/image010.gif"/>
          <p:cNvPicPr/>
          <p:nvPr/>
        </p:nvPicPr>
        <p:blipFill>
          <a:blip r:embed="rId6"/>
          <a:stretch/>
        </p:blipFill>
        <p:spPr>
          <a:xfrm>
            <a:off x="463680" y="3378240"/>
            <a:ext cx="1476360" cy="420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ttp://individual.utoronto.ca/sadeghi/electrochemical_files/image012.gif"/>
          <p:cNvPicPr/>
          <p:nvPr/>
        </p:nvPicPr>
        <p:blipFill>
          <a:blip r:embed="rId7"/>
          <a:stretch/>
        </p:blipFill>
        <p:spPr>
          <a:xfrm>
            <a:off x="482760" y="3798720"/>
            <a:ext cx="1523880" cy="419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http://individual.utoronto.ca/sadeghi/electrochemical_files/image018.gif"/>
          <p:cNvPicPr/>
          <p:nvPr/>
        </p:nvPicPr>
        <p:blipFill>
          <a:blip r:embed="rId8"/>
          <a:stretch/>
        </p:blipFill>
        <p:spPr>
          <a:xfrm>
            <a:off x="3168720" y="4230720"/>
            <a:ext cx="1104840" cy="495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http://individual.utoronto.ca/sadeghi/electrochemical_files/image022.gif"/>
          <p:cNvPicPr/>
          <p:nvPr/>
        </p:nvPicPr>
        <p:blipFill>
          <a:blip r:embed="rId9"/>
          <a:stretch/>
        </p:blipFill>
        <p:spPr>
          <a:xfrm>
            <a:off x="573120" y="4853160"/>
            <a:ext cx="22003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1" descr="http://individual.utoronto.ca/sadeghi/electrochemical_files/image024.gif"/>
          <p:cNvPicPr/>
          <p:nvPr/>
        </p:nvPicPr>
        <p:blipFill>
          <a:blip r:embed="rId10"/>
          <a:stretch/>
        </p:blipFill>
        <p:spPr>
          <a:xfrm>
            <a:off x="3168720" y="4762440"/>
            <a:ext cx="1152360" cy="495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3" descr="http://individual.utoronto.ca/sadeghi/electrochemical_files/image028.gif"/>
          <p:cNvPicPr/>
          <p:nvPr/>
        </p:nvPicPr>
        <p:blipFill>
          <a:blip r:embed="rId11"/>
          <a:stretch/>
        </p:blipFill>
        <p:spPr>
          <a:xfrm>
            <a:off x="6875640" y="5057640"/>
            <a:ext cx="599760" cy="200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7" descr="http://individual.utoronto.ca/sadeghi/electrochemical_files/image032.gif"/>
          <p:cNvPicPr/>
          <p:nvPr/>
        </p:nvPicPr>
        <p:blipFill>
          <a:blip r:embed="rId12"/>
          <a:stretch/>
        </p:blipFill>
        <p:spPr>
          <a:xfrm>
            <a:off x="622440" y="5877000"/>
            <a:ext cx="3619440" cy="390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9" descr="http://individual.utoronto.ca/sadeghi/electrochemical_files/image036.gif"/>
          <p:cNvPicPr/>
          <p:nvPr/>
        </p:nvPicPr>
        <p:blipFill>
          <a:blip r:embed="rId13"/>
          <a:stretch/>
        </p:blipFill>
        <p:spPr>
          <a:xfrm>
            <a:off x="5356080" y="5732640"/>
            <a:ext cx="1457640" cy="430200"/>
          </a:xfrm>
          <a:prstGeom prst="rect">
            <a:avLst/>
          </a:prstGeom>
          <a:ln w="0">
            <a:noFill/>
          </a:ln>
        </p:spPr>
      </p:pic>
      <p:sp>
        <p:nvSpPr>
          <p:cNvPr id="200" name="Obdélník 6"/>
          <p:cNvSpPr/>
          <p:nvPr/>
        </p:nvSpPr>
        <p:spPr>
          <a:xfrm>
            <a:off x="4511520" y="58737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bdélník 3"/>
          <p:cNvSpPr/>
          <p:nvPr/>
        </p:nvSpPr>
        <p:spPr>
          <a:xfrm>
            <a:off x="146160" y="64533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1" descr="http://individual.utoronto.ca/sadeghi/electrochemical_files/image038.gif"/>
          <p:cNvPicPr/>
          <p:nvPr/>
        </p:nvPicPr>
        <p:blipFill>
          <a:blip r:embed="rId14"/>
          <a:stretch/>
        </p:blipFill>
        <p:spPr>
          <a:xfrm>
            <a:off x="7596360" y="5762520"/>
            <a:ext cx="685800" cy="228600"/>
          </a:xfrm>
          <a:prstGeom prst="rect">
            <a:avLst/>
          </a:prstGeom>
          <a:ln w="0">
            <a:noFill/>
          </a:ln>
        </p:spPr>
      </p:pic>
      <p:sp>
        <p:nvSpPr>
          <p:cNvPr id="203" name="Obdélník 6"/>
          <p:cNvSpPr/>
          <p:nvPr/>
        </p:nvSpPr>
        <p:spPr>
          <a:xfrm>
            <a:off x="7475400" y="5948280"/>
            <a:ext cx="120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řepět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ovéPole 3"/>
          <p:cNvSpPr/>
          <p:nvPr/>
        </p:nvSpPr>
        <p:spPr>
          <a:xfrm>
            <a:off x="395280" y="192420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becně: i=nFA.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0188-8AFD-4A4B-ABC9-BDA15132BBE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bdélník 3"/>
          <p:cNvSpPr/>
          <p:nvPr/>
        </p:nvSpPr>
        <p:spPr>
          <a:xfrm>
            <a:off x="208800" y="2657520"/>
            <a:ext cx="67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Zjednodušená Butler-Volmer rovnice  pro dokonalé míchanou dvojvrstv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" descr="http://www.cartage.org.lb/en/themes/Sciences/Chemistry/Electrochemis/Electrochemical/ElectrodeKinetics/eq7elec.gif"/>
          <p:cNvPicPr/>
          <p:nvPr/>
        </p:nvPicPr>
        <p:blipFill>
          <a:blip r:embed="rId1"/>
          <a:stretch/>
        </p:blipFill>
        <p:spPr>
          <a:xfrm>
            <a:off x="539640" y="3105000"/>
            <a:ext cx="3505320" cy="64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http://www.cartage.org.lb/en/themes/Sciences/Chemistry/Electrochemis/Electrochemical/ElectrodeKinetics/kinfig1.gif"/>
          <p:cNvPicPr/>
          <p:nvPr/>
        </p:nvPicPr>
        <p:blipFill>
          <a:blip r:embed="rId2"/>
          <a:stretch/>
        </p:blipFill>
        <p:spPr>
          <a:xfrm>
            <a:off x="5329080" y="2754360"/>
            <a:ext cx="3810240" cy="2876400"/>
          </a:xfrm>
          <a:prstGeom prst="rect">
            <a:avLst/>
          </a:prstGeom>
          <a:ln w="0">
            <a:noFill/>
          </a:ln>
        </p:spPr>
      </p:pic>
      <p:sp>
        <p:nvSpPr>
          <p:cNvPr id="210" name="Obdélník 3"/>
          <p:cNvSpPr/>
          <p:nvPr/>
        </p:nvSpPr>
        <p:spPr>
          <a:xfrm>
            <a:off x="715680" y="4365720"/>
            <a:ext cx="450900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liv parametru výměnného proudu 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při (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=0,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E - E</a:t>
            </a:r>
            <a:r>
              <a:rPr b="1" i="1" lang="cs-CZ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…rovnová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elké …reverzibilní el. reak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třední …semireverzibil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malý …ireverzibiln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bdélník 4"/>
          <p:cNvSpPr/>
          <p:nvPr/>
        </p:nvSpPr>
        <p:spPr>
          <a:xfrm>
            <a:off x="210960" y="6093000"/>
            <a:ext cx="839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cartage.org.lb/en/themes/Sciences/Chemistry/Electrochemis/Electrochemical/mainpag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4" descr="http://www.cartage.org.lb/en/themes/Sciences/Chemistry/Electrochemis/Electrochemical/ElectrodeKinetics/eq6elec.gif"/>
          <p:cNvPicPr/>
          <p:nvPr/>
        </p:nvPicPr>
        <p:blipFill>
          <a:blip r:embed="rId3"/>
          <a:stretch/>
        </p:blipFill>
        <p:spPr>
          <a:xfrm>
            <a:off x="669960" y="1844640"/>
            <a:ext cx="4581360" cy="64764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8"/>
          <p:cNvSpPr/>
          <p:nvPr/>
        </p:nvSpPr>
        <p:spPr>
          <a:xfrm>
            <a:off x="251280" y="112536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Spojením rovnic získáme Butler-Volmer rovnic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bdélník 17"/>
          <p:cNvSpPr/>
          <p:nvPr/>
        </p:nvSpPr>
        <p:spPr>
          <a:xfrm>
            <a:off x="6260040" y="1844640"/>
            <a:ext cx="1950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…výměnný prou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http://individual.utoronto.ca/sadeghi/electrochemical_files/image040.gif"/>
          <p:cNvPicPr/>
          <p:nvPr/>
        </p:nvPicPr>
        <p:blipFill>
          <a:blip r:embed="rId4"/>
          <a:stretch/>
        </p:blipFill>
        <p:spPr>
          <a:xfrm>
            <a:off x="669960" y="3720960"/>
            <a:ext cx="227628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http://individual.utoronto.ca/sadeghi/electrochemical_files/image042.gif"/>
          <p:cNvPicPr/>
          <p:nvPr/>
        </p:nvPicPr>
        <p:blipFill>
          <a:blip r:embed="rId5"/>
          <a:stretch/>
        </p:blipFill>
        <p:spPr>
          <a:xfrm>
            <a:off x="3548160" y="3830760"/>
            <a:ext cx="1457280" cy="237960"/>
          </a:xfrm>
          <a:prstGeom prst="rect">
            <a:avLst/>
          </a:prstGeom>
          <a:ln w="0">
            <a:noFill/>
          </a:ln>
        </p:spPr>
      </p:pic>
      <p:sp>
        <p:nvSpPr>
          <p:cNvPr id="217" name="Obdélník 5"/>
          <p:cNvSpPr/>
          <p:nvPr/>
        </p:nvSpPr>
        <p:spPr>
          <a:xfrm>
            <a:off x="233280" y="5765760"/>
            <a:ext cx="837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individual.utoronto.ca/sadeghi/electrochemical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4-02-20T12:07:01Z</dcterms:modified>
  <cp:revision>40</cp:revision>
  <dc:subject/>
  <dc:title>Prezentace aplikace PowerPoint</dc:title>
</cp:coreProperties>
</file>