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F6D5-E5C1-491E-9A4B-5C1DE244A09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E859-E844-450A-A603-94D263A732F8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4A4D-AC52-4EE0-A8C1-78687EAEE9A0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7F1C-39EB-4C2F-BA58-B4A4280CEAB5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ADC5-58C4-493B-BC85-17A08C803FFC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87D3-119D-46E2-BD62-A933A70B449D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6558-981D-4450-85BB-A902C6E7F0BE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38A7-E4A8-4F8A-A9AE-ABE0EFD3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723-04E9-4800-9A7A-74E815D8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102-F646-4F80-92AC-02FFAC02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7C5-EA58-48EC-9098-571C17EB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B44B-B23B-4486-A85C-4C1E3BBD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A6D3-4192-47E8-9FC2-3267515E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889D-A633-4E60-9B38-DF3A5563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34AB-ADEB-49D2-AE8F-78C7BA46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951D-C8D3-405A-B447-753EF8D0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3CE5-69A2-464F-BEF3-2DF70B44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610E-7F88-4D6A-80E3-86BCBA46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B80-C7CE-4261-9C74-2FDC1AEF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CB6E-66E7-4F57-A78E-038A3BCA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17EA-389B-46E0-968D-CD4708F4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9CEA-0658-4E06-B3D1-2DA24E41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9398-4096-4CE9-A1BC-3F6E42B7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DABF-9225-463F-B028-417F5F6C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6B4C-93E6-43A8-9A97-EC89B491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337-2AAF-4064-8862-5A9EF48E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025-173C-4B17-A79C-99E86167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F8E-D448-45D1-AE1A-C69E6E8E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920-F173-40E1-9C98-272F9A74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D4B-1C44-42C5-AF63-9DD4FDED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B11-ED0F-412B-A00C-FA482660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980B-AC85-44DE-AEDA-6DCF9E9E8D05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8BA6-274C-46ED-AD36-91D80A5998D5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chemed.chem.wisc.edu/JCEWWW/Features/eChemists/Bios/Menten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al kinetics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850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tudied the rate of inversion of sucros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hydrolysis into D-(+)-glucose and D-(-)-fructose in the presence of an acid) and found it to be proportional to the concentrations of both the sugar and the acid.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ormulated their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law of mass acti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," according to which the reaction "forces" are proportional to the product of the concentrations of the reactants: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r [S]s/([A]a [B]b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where a, b, r and s are the stoichiometric coefficients in the chemical equation A+B=R+S. So the rate of the forward reaction is proportional to [A]a [B]b and that of the reverse reaction is proportional to {R]r [S]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alyzed the reactions between H2O2 and HI and between KMnO4 and (COOH)2.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hey wrote the corresponding differential equations, integrated them and determined the concentration vs. time relationships.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They also proposed an equation for the temperature dependence of the reaction rate, k = A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published his "Studies of Chemical Dynamics" (Études de dynamique chimique), in which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he generalized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further developed the work of Wilhelmy (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acharoz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In particular, he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introduced the differential method of analysis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He also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analyzed the temperature dependence of the equilibrium constant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now called the "van't Hoff equation") and of forward and reverse reaction rat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introduces the terms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reaction order" and "half-lif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" in his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urther analyzed the temperature dependence of reaction rate,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 = A exp(-B/T),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gave it an "energy barrier" interpretation; this is now called the "Arrhenius equation.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ss Menten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chaelis-Menten equation (1912),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zyme kinetics (Professor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a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79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years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age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Picture 8" descr="http://employees.csbsju.edu/hjakubowski/classes/ch331/transkinetics/Menten.GIF"/>
          <p:cNvPicPr/>
          <p:nvPr/>
        </p:nvPicPr>
        <p:blipFill>
          <a:blip r:embed="rId1"/>
          <a:stretch/>
        </p:blipFill>
        <p:spPr>
          <a:xfrm>
            <a:off x="4572000" y="2133720"/>
            <a:ext cx="3429000" cy="4022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Termodynami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 of findings from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mmary of findings from history. Many concepts and ideas encountered in chemical kinetics has long been know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etting some kinetic information is very demanding (reaction mechanisms, reaction coordinate, ...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dern kinetics is interdisciplinary (biochemical kinetics, molecular dynamics, quantum chemistry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table women and men of science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jchemed.chem.wisc.edu/JCEWWW/Features/eChemists/Bios/Menten.html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42:42Z</dcterms:modified>
  <cp:revision>24</cp:revision>
  <dc:subject/>
  <dc:title>Prezentace aplikace PowerPoint</dc:title>
</cp:coreProperties>
</file>