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461F-B5DD-4DE7-9AFC-8F598321822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57FC-4F79-492C-AC74-51D22AC0C29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660F-B6AE-4FE7-9282-7957D14F4DB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368C-B193-4044-AB7A-6597D32F452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EA0C-61F5-4BE3-B227-BD232B6BABC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8126-AB4A-4FAA-9A3A-5F60AEF0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5A5-6B0D-438B-9D7C-CE23FC25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97EAA-42DB-4458-AABF-9DDD80F3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FE0A8-93CF-4D11-BA8E-0AD827CC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E97A7-7333-4815-95B9-683BF0DD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E224A-1850-4F2D-85B9-B11CE4D4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68E28-85A8-4897-97ED-99F74DF7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8AA72-887D-49C8-B476-B522BB4F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06D21-707F-4DA5-B701-26F4EDF0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E67A8-498C-48EC-BD0A-EFE2F2EA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707E0-829C-4550-8146-68442B6C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353EF-16AE-409A-862A-93C3681F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367-5842-4E05-BA72-2D1E3B4C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EBD79-9964-4F86-8AED-26D3927D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BEE0B-07A4-47ED-A912-3B8E86A9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8072F-25D1-4B4F-B1D6-60A64779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EB639-0511-4EF3-9950-63F180E7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CA6DB-B965-43C5-981C-658075BC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F700C-52AF-479C-84DE-C553BE58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30B74-6CED-4D7C-9D3A-C5EE7D93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B12AD-9F3B-4D0F-A9F4-E0A623BF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89DBB-D807-4E0D-8042-5DDE1A31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49142-AA2E-41FE-ACEF-23B6CEFB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8C37-9B32-485B-A1A5-55E70411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D6124-33FB-4C50-AD61-C6488D95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6F094-FDEC-492C-94AC-7560F3DE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0B31E-5355-4EE8-AA11-7F7BE08A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E37F7-4A54-463E-A404-5902E90D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D6DE0-CF98-45F3-B1A1-0936035F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958E5-B770-4545-806B-4965B9ED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0352C-960C-4064-B27C-0422F073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C6888-DB80-4C43-947F-93AFF0A1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2FE09-ADBB-48AA-B547-60D4882A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23A0C-AF20-4640-B48A-46378FC9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0344-056A-4525-B9F4-4954D80B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54DD1-E1F6-4DBD-8FDE-CAA6562A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27622-8C3C-4C28-996E-7FE467F6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F43A6-C3EC-4F44-8B15-B0942FE0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15E3E-5E41-4228-B6A8-BDB5CFCC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8A2A8-64CD-4B25-BAD5-9DFCB226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54EBE-44FA-469E-B342-C7373B64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02ACD-9D29-41BE-AF0E-CE07EA64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67CEA-C69C-40E1-BD2E-A2C89592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33C26-DDDB-4733-AECF-E3162F89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2DC15-BBCD-486F-A10F-45BAF71E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DDE0-312C-4363-B4BC-ED032E72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727E7-8A42-45B0-AF2F-9A54E768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2F242-AB4B-4EA7-8762-6C3CC027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2369C-23AB-4AAB-96A9-B35D885C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FBE9A-F6A9-4566-8F54-CB0361D3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F059D-E1C4-44B2-B879-96560A2D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FF26-2DFB-47E2-9479-E4AB1B82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70A8-AB38-4601-8152-103B3433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A7E6-57EE-4123-A240-911C5995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8596-14BA-46DA-A8CA-57C1D90F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14E0-95A4-4CE5-AFF0-453DC3FE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A3F2-EF7E-41C7-AD39-E5818325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063F-8EE8-4A12-870D-34BAEC20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0E17-39B6-4361-A01F-3A5F04CA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38A2-A8F5-4B4D-B87A-767C17AC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BB24-68FB-4949-90B7-19C6A63F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E12B-76A3-4FDB-9180-BE42B8B7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EB036-EDD0-4702-A09E-B5D5DAC0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34190-4E0B-4079-998B-26E83091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D5358-8B20-43BC-A0FF-C6B3A053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1EE76-26C4-489A-B05C-DF644270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D5D1A-58D0-42F4-BF37-264E5444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6BFD-3CF2-4147-968C-E30F87B4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22B2A-0DBF-4671-9C58-57FE2116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98C18-F898-4726-A65C-B0559FFC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21035-8A70-4A72-A697-9939C06A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D008D-A567-4A95-A952-A92CDDD0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E42A6-150B-4D90-919E-5DEFA722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38518-FDAB-428B-9928-95BC2F69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7ABE9-B1D3-4EC0-BB28-6CB2D760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DED30-A81F-464E-AFFA-EDFE3F17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2EA5D-BFED-4441-B2D3-E9964976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08993-9751-4EC3-992C-3D7C6DA8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B95-F88F-4DEC-97AA-B58C118B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20CAC-64C1-40CB-B044-B5CE7444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15764-95DA-48B1-B0AD-27642A4B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DCE1D-55F7-460E-A13E-20E96A59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49999-78C6-4B2F-AB24-80C04472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2D239-EB55-4E19-A81E-80041DBA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22468-314E-49A3-BF45-63B80937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DDCD4-3A09-4D92-BA05-9A83CE5C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E752D-6324-49EE-8EFF-F46653DD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2975C-D667-4AAD-85BB-496288E8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561F4-9F5C-4E97-B63A-6AF1A338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176E-EC24-44F0-97B2-4D980D6D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84B36-8D85-4328-9E9E-86F28D43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CA73C-307E-4A80-8578-19AFF25F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5831C-E542-4A2D-A3EF-0BE4F08F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4260B-DFB7-4BAB-83B6-A474A7F6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167B9-AF7A-42A0-9E13-30F93DAE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A875D-833F-4B5E-9B94-19516546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12122-FAC8-4388-803F-F1EF2D3D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F3309-F2EB-4A25-8265-4F6558B6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1DD01-D78E-4283-90CF-F331022C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44FAC-41CB-4B12-82E7-D916BF8A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ED56-0BE8-458C-BE9D-2336D65E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7246A-1A47-4DF3-888D-AA4085E1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88855-67F3-4310-BD2B-76253DD2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A91ED-6710-4245-A0D4-045EB0FD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92868-5A10-41D4-B874-42EE1A16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504DC-9792-4D22-AF68-22F1318A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8BC71-40F9-4380-B5BD-A1785AAC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1D83D-0EAA-43A8-95AA-42BA3CF2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DC13C-2531-4B41-962F-5FC7ADAC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E6081-22F6-4ADA-A721-41301189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AB403-DC7A-411C-BFCA-58F12A39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28BC-0DE1-4006-A047-596926D9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743C2-FD8E-4B6E-83F6-A3138DBE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C62E1-912B-4D3B-AD93-44206A65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A8202-80B8-49AF-A316-BDEE43D9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F142D-E272-4534-B0FA-057D6E5B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AECFB-DB87-4159-9A60-6E263865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3D67F-67F5-4039-B15B-C155E4B1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AE73C-68D2-45BC-882F-D703D839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C82BE-E580-4C18-BA1C-BAE1FEE9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C9B17-1822-41AA-82B8-D916D1E8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BAFF6-AA41-4F77-AF2F-71006DF0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A4D-E43D-4FBB-A820-22AEF90F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01BC5-FAB9-4671-AFB4-DBB047E4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9F113-9A39-4CA5-9EBC-982E9CA4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69365-4B38-4148-9B42-F111320C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12DDA-2982-418D-9FD9-1A3EEE15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56216-AA92-4EE6-9ACA-547D4CB8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BB444-F2FC-4D7C-BB54-D8479184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40260-44D1-42AC-A750-7A333238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4F166-7C84-4DB4-B268-3AB2C7DB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2326F-DA1D-418F-91F7-FF0B4A04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A5533-9932-4E72-9313-D5D886F8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CC89-6FEE-4591-94EC-E50AC0C4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4EC19-7BC1-48B4-BA2C-8A869EB7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49EB6-4BAD-46E9-BB3C-0FD72438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817F3-EC16-4161-A513-9FDA3B39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A6FBD-485E-4148-BDEE-5808DA22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B55A4-D758-4FA9-B8EA-145971D5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3F109-4503-495C-BE36-80373EB7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473C3-04AE-40D9-9E8C-98B72D3D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D33C8-24C2-438E-89EA-29D8195E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D2BA7-CC9A-4E35-8070-3F9560F9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8F7A5-D8C9-4A9E-9404-C316F6E8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CC61-9AE2-4DCB-953B-822FB9840C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EE2E-D9BC-4AD5-B590-6D1621C8A0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B82F-7C21-4DF3-85B9-DFE4CB23CF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569D-51BF-47E8-A761-13564345E4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DFB6-DAF2-452F-BA56-7EE9BD6C8BB9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78A6-EF67-4434-BD20-44E39B8103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4C3C-D495-45B2-A1C2-2A1BF0D522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9294-00B1-4055-AB4F-27768DE5CB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5FFB-FA6D-4A8B-8D8A-6FA39C4D07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1FD3-04AA-4934-B578-318F1BA821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1235-1D6B-472A-BA81-293BD8F28A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C27F-013C-4BE7-BEB0-06C49C05FA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Sopousek, L01_01 Chemická kinet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95F9-A3E1-4A31-A78E-9137D80F1FE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6320 Chemical kinetic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lec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EB40-C9F7-42EA-B722-2C8675307B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6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talytic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ction 1: homogeneous catalysis, acid-base catalysis, autocatalysis, enzyme catalysis, Michalisova-Menten equation, transient kinetics, integrated Michaelis-Menten equation, complex enzyme reactions (Cleland symbolism, the King-Altman method) inhib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1029" descr="http://www.millipore.com/publications.nsf/dda0cb48c91c0fb6852567430063b5d6/7b111b8ca85b07a085256fa20052b376/en_RTBody/2.FBC?OpenElement&amp;FieldElemFormat=gif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1028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 3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termination of Michaelis constants - Menten K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C3BF-55BB-4431-88F2-B1CEF6E718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7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ction cataly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2: heterogeneous catalysis, surface coverage and chemisorption, adsorption isotherm (Langmuir, BET, Freundlich, Temkinova), uni and bimolecular reactions on the surface, product inhib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8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ain Reaction: initiation, promotion, termination, radical reactions, branched reaction, polymerization, combustion, explo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1028" descr="http://img.sparknotes.com/figures/6/62c26fd494fed99200569cfa94d97377/cat.gif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029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1031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543" name="Rectangle 1027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1030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DCC9-A826-4BA1-98C0-F721541E98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P9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cill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cillators (Lotka-Volterr, Brusselator, Oreg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or), limit cycle, recurrent equations by relaxation: temperature, pressure jump, ultrasound, micro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D:\Sopousek\Vyuka\Kinetika\Předchozí přednáška\Oscilace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  <p:sp>
        <p:nvSpPr>
          <p:cNvPr id="548" name="TextovéPole 1"/>
          <p:cNvSpPr/>
          <p:nvPr/>
        </p:nvSpPr>
        <p:spPr>
          <a:xfrm>
            <a:off x="1287360" y="5121360"/>
            <a:ext cx="6740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oscilations: Belousov – Zabotinsk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1D7A-6B2D-4F04-A68D-EE53CF72E7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0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pendence of the rate constant at temperature 1: Arrhenius equation, collision theory, probability factor, Lindemann theory of unimolecular re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1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pendence of the rate constant at a temperature of 2: potential energy surfaces activated complex, Eyring equation, reaction thermodynam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2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usion mechanisms. Fabric flows and diffusion coefficients. 1 and 2 Fick's law. Analytical and numerical solutions of diffusion equations, boundary conditions. ~ Diffusion in non-ideal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5" descr="http://www.iaq.dk/iap/iap1998/1998_06/Image6.gif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436A-F3A4-4EB0-9D06-ED6B138F80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3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lectrode kinetics mechanism of electron transfer in homogeneous and heterogeneous environment (the interface electrode / solution), Marcus theory, power surges, Butler and Volmer equation, the coefficient of charge transfer rate of the electrode reaction electrode process with chemical reaction (overpriced, interposed a subsequent chemical reaction ), heterogeneous rate constant, an evaluation of heterogeneous expressways, constants using conventional electrochemical metho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4" descr="fig1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DDFD-3D61-488C-B1F3-5EFD8AA756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rganization of lectures C6320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r and tutor: Doc. Dr.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iř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poušek, Ph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el. 549 497 138, sopousek@chemi.muni.cz, Department of Chemistry,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ffic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1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/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3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requisites: Completion of lectures physics. Chemistry I and I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s and study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s for admission to the examination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monstrate the ability to solv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inetic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btaining credi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the seminar C63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s (2+2) / Completion of examination or test vi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60D4-11A4-4BE7-BCF7-12BA390227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Organization of seminar C6330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r and tutor: Doc. Dr.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iř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poušek, Ph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ology of exerci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tical training (ea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tuden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cula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ap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ng examples of experimental measurements (book, laboratory,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of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oftware acceler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XCEL, Math CAD, Mathematics: Wolf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uiring search for necessary information (internet, wifi internet connec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s (1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Knowledge of the themes discussed on lectures C63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ation of the movie on chemical kinetics (show, problem solv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6A9D-68FD-4C86-9BA3-F89D73722A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5420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Vohlídal, Chemická kinetika, Karolinum, Praha 2001 (scrip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9F93-D46F-4800-851E-D1FAED34C7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hemes (chronological)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L1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ory lecture. Why do chemical reactions take place? How can we describe their speed? Basic concepts of chemical kinetics. The types of chemical reactions, the elementary reactions molecula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1029" descr="http://www.engin.umich.edu/~cre/03chap/html/moledyn/MolecularDynamic_files/image113.gif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1030"/>
          <p:cNvSpPr/>
          <p:nvPr/>
        </p:nvSpPr>
        <p:spPr>
          <a:xfrm>
            <a:off x="5292720" y="2933640"/>
            <a:ext cx="385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1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ctic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as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rmodynam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028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4882-3C89-4836-811C-3A130694F6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te of reaction, the extent of reaction, rate equation, order of reaction. Reaction unidirectional (1st and 2nd order, consequential, simultaneous, consequential,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analytical and numerical solutions of reaction schemes of unidirectional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795B-847B-4120-80FC-10CED4C360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40388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tion of the reaction: the integral method, the method of fractional times (half-reaction, the mean lifetime), methods of targeted experiments (isolation method, the method of initial rates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030"/>
          <p:cNvSpPr/>
          <p:nvPr/>
        </p:nvSpPr>
        <p:spPr>
          <a:xfrm>
            <a:off x="0" y="3276720"/>
            <a:ext cx="419112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ical solutions of reaction schemes and their graphical visualization. Determination of the reaction order from experimental data. Linear and nonlinear regression.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103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1032"/>
          <p:cNvSpPr/>
          <p:nvPr/>
        </p:nvSpPr>
        <p:spPr>
          <a:xfrm>
            <a:off x="4191120" y="4724280"/>
            <a:ext cx="4647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: 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bsequent irreversible first-order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--&gt; B -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BB58-25F6-4072-BBEB-7194906C5B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ible reaction: a dynamic equilibrium, steady state, equilibrium constant speed linear and exponential eq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Picture 7" descr="http://www.psigate.ac.uk/newsite/reference/plambeck/chem2/p02154g1.gif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8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and numerical solutions of reaction with a reversible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Zástupný symbol pro číslo snímku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FF3C-D16B-4C83-AB2F-3A93BA8501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P5: </a:t>
            </a:r>
            <a:r>
              <a:rPr b="0" lang="cs-CZ" sz="2400" spc="-1" strike="noStrike">
                <a:solidFill>
                  <a:srgbClr val="330099"/>
                </a:solidFill>
                <a:latin typeface="Times New Roman"/>
              </a:rPr>
              <a:t>Experiment. Batch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 reaction mixture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532" name="Picture 3077" descr="D:\Vyuka\FCh-základní praktikum\Fotografie praktika a úloh\7c_zmydelneni.jpg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075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5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technical problems with the experiment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opousek</cp:lastModifiedBy>
  <dcterms:modified xsi:type="dcterms:W3CDTF">2014-02-19T16:38:43Z</dcterms:modified>
  <cp:revision>43</cp:revision>
  <dc:subject/>
  <dc:title>Prezentace aplikace PowerPoint</dc:title>
</cp:coreProperties>
</file>