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3.wmf" ContentType="image/x-wmf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5827-B6BC-4A90-BEF6-6B8CC40EC30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8B35-CB47-467F-AC52-10457A8695E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FFD-2281-4DB1-9E89-69EC6934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EC9-7E46-4B85-8854-2DCC1DF7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0CE3-FDE8-47AC-9DE3-5C24FB00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CF4-3EA5-484B-983F-73EB5D3D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32E5-A178-40DB-963D-AAB98E92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47E6-B5D1-43AD-A8E8-35106F1B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899D-49AE-40E5-BFC9-9802E309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B233-4A89-4289-8AB5-FC4D575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9EB7-6E0E-4A3C-825B-B0CAE9B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DD4E-519B-4EED-921C-FA1E3422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53BC-7C5D-4473-BB40-80BFB530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C85-EAE1-4410-8006-8D2DFC75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8D4B-7F00-4ADB-AEFB-D62274F8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402E-1275-4A79-9F20-B60B333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00F3-4056-4FA8-864E-B9CD3639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58D-A938-4FE4-B5F6-804D02D5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ADD7-A039-4EBA-B9B8-0842E370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B32-3736-4AB9-B064-1376BB7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A30-A016-4951-9F3F-6ADDC2D8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281-6D8F-4ACA-A9EB-8BDE168B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E1B-5B8E-4F8F-A97A-87E252A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8B5-F42D-44AB-B436-7BC517B3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684-67BB-4AFF-8C59-7F1F446F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922-82EF-4BEE-AE5D-6F9EF19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7C3A-803E-4F7C-AD45-CC1AD1D5177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AF12-7A07-4E54-873A-1C4CB3AA27F7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mentární reakce v rozto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lementární reakce v roztocích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934320" cy="22924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lecový efek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647640" y="2468520"/>
            <a:ext cx="7925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liv rozpouštědl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838080" y="966960"/>
            <a:ext cx="7467840" cy="5891040"/>
          </a:xfrm>
          <a:prstGeom prst="rect">
            <a:avLst/>
          </a:prstGeom>
          <a:ln w="0">
            <a:noFill/>
          </a:ln>
        </p:spPr>
      </p:pic>
      <p:sp>
        <p:nvSpPr>
          <p:cNvPr id="157" name="Přímá spojnice 2"/>
          <p:cNvSpPr/>
          <p:nvPr/>
        </p:nvSpPr>
        <p:spPr>
          <a:xfrm>
            <a:off x="3276720" y="1700280"/>
            <a:ext cx="502920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římá spojnice 6"/>
          <p:cNvSpPr/>
          <p:nvPr/>
        </p:nvSpPr>
        <p:spPr>
          <a:xfrm>
            <a:off x="838080" y="1916280"/>
            <a:ext cx="7467840" cy="72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římá spojnice 8"/>
          <p:cNvSpPr/>
          <p:nvPr/>
        </p:nvSpPr>
        <p:spPr>
          <a:xfrm>
            <a:off x="971640" y="2133720"/>
            <a:ext cx="733428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římá spojnice 10"/>
          <p:cNvSpPr/>
          <p:nvPr/>
        </p:nvSpPr>
        <p:spPr>
          <a:xfrm>
            <a:off x="971640" y="2349360"/>
            <a:ext cx="316872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římá spojnice 12"/>
          <p:cNvSpPr/>
          <p:nvPr/>
        </p:nvSpPr>
        <p:spPr>
          <a:xfrm>
            <a:off x="5940360" y="4508640"/>
            <a:ext cx="26640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římá spojnice 14"/>
          <p:cNvSpPr/>
          <p:nvPr/>
        </p:nvSpPr>
        <p:spPr>
          <a:xfrm>
            <a:off x="838080" y="4724280"/>
            <a:ext cx="4525920" cy="73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ovéPole 15"/>
          <p:cNvSpPr/>
          <p:nvPr/>
        </p:nvSpPr>
        <p:spPr>
          <a:xfrm>
            <a:off x="1476360" y="479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Vzniku= zánik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09480" y="5105520"/>
            <a:ext cx="8077320" cy="1584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Limitní rozbor řešen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572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2057400" y="3276720"/>
            <a:ext cx="1905120" cy="272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800600" y="5562720"/>
            <a:ext cx="3124080" cy="34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Diskuse</a:t>
            </a:r>
            <a:br>
              <a:rPr sz="2000"/>
            </a:b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transport látky a tepla konvekce a difúz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0" name="Picture 5" descr="C:\Documents and Settings\Sopoušek\Dokumenty\Obrázky\Difúze\mereni_difuzniho_koeficientu_1.jpg"/>
          <p:cNvPicPr/>
          <p:nvPr/>
        </p:nvPicPr>
        <p:blipFill>
          <a:blip r:embed="rId1"/>
          <a:stretch/>
        </p:blipFill>
        <p:spPr>
          <a:xfrm>
            <a:off x="838080" y="1193760"/>
            <a:ext cx="6705720" cy="52848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720" y="39625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centra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09480" y="5486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ok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Picture 3" descr="C:\Documents and Settings\Sopoušek\Dokumenty\Obrázky\Difúze\heat transport.jpg"/>
          <p:cNvPicPr/>
          <p:nvPr/>
        </p:nvPicPr>
        <p:blipFill>
          <a:blip r:embed="rId1"/>
          <a:stretch/>
        </p:blipFill>
        <p:spPr>
          <a:xfrm>
            <a:off x="5638680" y="2895480"/>
            <a:ext cx="2743200" cy="1692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Sopoušek\Dokumenty\Obrázky\Difúze\konvection a diffusion.jpg"/>
          <p:cNvPicPr/>
          <p:nvPr/>
        </p:nvPicPr>
        <p:blipFill>
          <a:blip r:embed="rId2"/>
          <a:stretch/>
        </p:blipFill>
        <p:spPr>
          <a:xfrm>
            <a:off x="457200" y="2438280"/>
            <a:ext cx="3124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676520" y="6248520"/>
            <a:ext cx="501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zurichmedtech.com/products/cls/r-d-projects/convection-diffusion-reaction/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Picture 4" descr="C:\Documents and Settings\Sopoušek\Dokumenty\Obrázky\Difúze\koncekce a difúze v těle.png"/>
          <p:cNvPicPr/>
          <p:nvPr/>
        </p:nvPicPr>
        <p:blipFill>
          <a:blip r:embed="rId1"/>
          <a:stretch/>
        </p:blipFill>
        <p:spPr>
          <a:xfrm>
            <a:off x="228600" y="533520"/>
            <a:ext cx="6553080" cy="5019480"/>
          </a:xfrm>
          <a:prstGeom prst="rect">
            <a:avLst/>
          </a:prstGeom>
          <a:ln w="0">
            <a:noFill/>
          </a:ln>
        </p:spPr>
      </p:pic>
      <p:sp>
        <p:nvSpPr>
          <p:cNvPr id="179" name="TextovéPole 1"/>
          <p:cNvSpPr/>
          <p:nvPr/>
        </p:nvSpPr>
        <p:spPr>
          <a:xfrm>
            <a:off x="6913440" y="1844640"/>
            <a:ext cx="2195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binace transportního mechanismu a difúzního mechanismu zásobováním kyslíkem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4-13T10:33:51Z</dcterms:modified>
  <cp:revision>141</cp:revision>
  <dc:subject/>
  <dc:title>C6730 Fázové rovnováhy</dc:title>
</cp:coreProperties>
</file>