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2.gif" ContentType="image/gi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png" ContentType="image/png"/>
  <Override PartName="/ppt/media/image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854F-CBAB-4D6D-9C42-25249B77EA4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E57A-CA1E-44A1-947E-E854C6FB83E0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9E4-C301-489C-AB61-06A549B3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D0C-0F64-4DBF-AE24-A17E0C63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194-4D52-4732-8542-39B68B43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E03-8984-4E43-A404-8FDD03EF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23F1-C3B4-4CE9-90FE-E0913119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C1DC-3E23-4730-967E-C71BDB9A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9F58-09B2-4769-A021-D1A6CF6F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9559-18D0-4BCA-9C64-B6A4ED97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EFB5-1DEC-4BE9-8E21-2A361657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9B53-1707-4AA1-9A80-8B4A6507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6B2D-0BBD-4613-BE43-158B2AB3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8C6-CC1F-45CB-BEDD-6F2383E8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C8A2-423D-45D4-85CA-84B78838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04DB-73AF-4111-8AEA-AAF9E206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951A-3C9D-4152-BFC9-6E90A444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095A-C35C-47C2-95AC-8F16E53B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DEBF-91C3-42AF-B9B8-C354E16C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D64-518F-4E8E-8865-89039D51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AFC-2379-4BE1-A437-7F261983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A96-9C30-4C53-ABA6-0D5485D2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2FB-AC80-44AD-A7C2-17C647E8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68F-8618-439D-BB5E-83EB94EE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A57-063D-4ACD-BE67-F4DF5698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2599-0832-4FC8-88DB-C46A4831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7690-DF2F-4099-B541-152407A1E6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F1EB-96E9-4DF9-8610-A8C06084CFB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Specifické vlivy reakčního prostřed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05560" cy="785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792468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746748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839080" cy="3487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33360" cy="342720"/>
          </a:xfrm>
          <a:prstGeom prst="rect">
            <a:avLst/>
          </a:prstGeom>
          <a:ln w="0">
            <a:noFill/>
          </a:ln>
        </p:spPr>
      </p:pic>
      <p:cxnSp>
        <p:nvCxnSpPr>
          <p:cNvPr id="190" name="Přímá spojnice se šipkou 2"/>
          <p:cNvCxnSpPr/>
          <p:nvPr/>
        </p:nvCxnSpPr>
        <p:spPr>
          <a:xfrm>
            <a:off x="850680" y="1883880"/>
            <a:ext cx="1080" cy="1659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201600" y="692280"/>
            <a:ext cx="8610480" cy="31892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380880" y="1073160"/>
            <a:ext cx="8512200" cy="149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římá spojnice 2"/>
          <p:cNvSpPr/>
          <p:nvPr/>
        </p:nvSpPr>
        <p:spPr>
          <a:xfrm flipV="1">
            <a:off x="380880" y="980640"/>
            <a:ext cx="84312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neutrálních části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5446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380880" y="3809880"/>
            <a:ext cx="739152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38188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97560"/>
          </a:xfrm>
          <a:prstGeom prst="rect">
            <a:avLst/>
          </a:prstGeom>
          <a:ln w="0">
            <a:noFill/>
          </a:ln>
        </p:spPr>
      </p:pic>
      <p:sp>
        <p:nvSpPr>
          <p:cNvPr id="204" name="Obdélník 1"/>
          <p:cNvSpPr/>
          <p:nvPr/>
        </p:nvSpPr>
        <p:spPr>
          <a:xfrm>
            <a:off x="304920" y="4508640"/>
            <a:ext cx="8515080" cy="1368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ovéPole 2"/>
          <p:cNvSpPr/>
          <p:nvPr/>
        </p:nvSpPr>
        <p:spPr>
          <a:xfrm>
            <a:off x="6300720" y="488952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ildebrandovy parametry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6" name="Přímá spojnice se šipkou 4"/>
          <p:cNvCxnSpPr/>
          <p:nvPr/>
        </p:nvCxnSpPr>
        <p:spPr>
          <a:xfrm flipH="1">
            <a:off x="5795280" y="5192280"/>
            <a:ext cx="36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07" name="Přímá spojnice se šipkou 6"/>
          <p:cNvCxnSpPr/>
          <p:nvPr/>
        </p:nvCxnSpPr>
        <p:spPr>
          <a:xfrm>
            <a:off x="6443280" y="5192280"/>
            <a:ext cx="1080" cy="1818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08" name="Přímá spojnice se šipkou 8"/>
          <p:cNvCxnSpPr/>
          <p:nvPr/>
        </p:nvCxnSpPr>
        <p:spPr>
          <a:xfrm>
            <a:off x="7019640" y="5227560"/>
            <a:ext cx="73800" cy="146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203800"/>
          </a:xfrm>
          <a:prstGeom prst="rect">
            <a:avLst/>
          </a:prstGeom>
          <a:ln w="0">
            <a:noFill/>
          </a:ln>
        </p:spPr>
      </p:pic>
      <p:sp>
        <p:nvSpPr>
          <p:cNvPr id="211" name="Obdélník 1"/>
          <p:cNvSpPr/>
          <p:nvPr/>
        </p:nvSpPr>
        <p:spPr>
          <a:xfrm>
            <a:off x="228600" y="762120"/>
            <a:ext cx="8686800" cy="209052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římá spojnice 5"/>
          <p:cNvSpPr/>
          <p:nvPr/>
        </p:nvSpPr>
        <p:spPr>
          <a:xfrm flipV="1">
            <a:off x="228600" y="2060280"/>
            <a:ext cx="85201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eakce v roztocích řízené chemickým dějem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7631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tlaku na elementární reakce v roztocích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0" y="1371600"/>
            <a:ext cx="8915400" cy="982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0" y="2286000"/>
            <a:ext cx="876312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Obdélník 1"/>
          <p:cNvSpPr/>
          <p:nvPr/>
        </p:nvSpPr>
        <p:spPr>
          <a:xfrm>
            <a:off x="6418800" y="6566040"/>
            <a:ext cx="23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…Planckova konstanta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34520" cy="5987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3962520" y="5908680"/>
            <a:ext cx="4647960" cy="949320"/>
          </a:xfrm>
          <a:prstGeom prst="rect">
            <a:avLst/>
          </a:prstGeom>
          <a:ln w="0">
            <a:noFill/>
          </a:ln>
        </p:spPr>
      </p:pic>
      <p:sp>
        <p:nvSpPr>
          <p:cNvPr id="159" name="Obdélník 1"/>
          <p:cNvSpPr/>
          <p:nvPr/>
        </p:nvSpPr>
        <p:spPr>
          <a:xfrm>
            <a:off x="1403280" y="692280"/>
            <a:ext cx="2737080" cy="79200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bdélník 9"/>
          <p:cNvSpPr/>
          <p:nvPr/>
        </p:nvSpPr>
        <p:spPr>
          <a:xfrm>
            <a:off x="395280" y="1989000"/>
            <a:ext cx="8064360" cy="180036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římá spojnice 7"/>
          <p:cNvSpPr/>
          <p:nvPr/>
        </p:nvSpPr>
        <p:spPr>
          <a:xfrm flipV="1">
            <a:off x="395280" y="4797000"/>
            <a:ext cx="568944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římá spojnice 10"/>
          <p:cNvSpPr/>
          <p:nvPr/>
        </p:nvSpPr>
        <p:spPr>
          <a:xfrm>
            <a:off x="1692360" y="5373720"/>
            <a:ext cx="4319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ktrostrik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534520" cy="1913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838080" y="4191120"/>
            <a:ext cx="76964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coulombických interakc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556160"/>
          </a:xfrm>
          <a:prstGeom prst="rect">
            <a:avLst/>
          </a:prstGeom>
          <a:ln w="0">
            <a:noFill/>
          </a:ln>
        </p:spPr>
      </p:pic>
      <p:sp>
        <p:nvSpPr>
          <p:cNvPr id="168" name="Přímá spojnice 2"/>
          <p:cNvSpPr/>
          <p:nvPr/>
        </p:nvSpPr>
        <p:spPr>
          <a:xfrm>
            <a:off x="900000" y="1413000"/>
            <a:ext cx="7488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římá spojnice 6"/>
          <p:cNvSpPr/>
          <p:nvPr/>
        </p:nvSpPr>
        <p:spPr>
          <a:xfrm>
            <a:off x="457200" y="1628640"/>
            <a:ext cx="79311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římá spojnice 8"/>
          <p:cNvSpPr/>
          <p:nvPr/>
        </p:nvSpPr>
        <p:spPr>
          <a:xfrm>
            <a:off x="457200" y="1916280"/>
            <a:ext cx="4762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>
            <a:off x="1736640" y="4653000"/>
            <a:ext cx="268596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01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216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1"/>
          <p:cNvSpPr/>
          <p:nvPr/>
        </p:nvSpPr>
        <p:spPr>
          <a:xfrm>
            <a:off x="7074000" y="32716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Bez náboj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7" name="Přímá spojnice se šipkou 5"/>
          <p:cNvCxnSpPr/>
          <p:nvPr/>
        </p:nvCxnSpPr>
        <p:spPr>
          <a:xfrm flipH="1">
            <a:off x="6678000" y="3671640"/>
            <a:ext cx="19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78" name="TextovéPole 6"/>
          <p:cNvSpPr/>
          <p:nvPr/>
        </p:nvSpPr>
        <p:spPr>
          <a:xfrm>
            <a:off x="6443640" y="218448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Ne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TextovéPole 9"/>
          <p:cNvSpPr/>
          <p:nvPr/>
        </p:nvSpPr>
        <p:spPr>
          <a:xfrm>
            <a:off x="6738840" y="4154400"/>
            <a:ext cx="156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ouhlasné náboje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13T13:48:40Z</dcterms:modified>
  <cp:revision>166</cp:revision>
  <dc:subject/>
  <dc:title>C6730 Fázové rovnováhy</dc:title>
</cp:coreProperties>
</file>