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B92-D753-48F1-8E9C-65C3CBB8E0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15E-3416-4464-8923-68683836B0A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4F1-9774-431D-A511-D77DC4D6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51F-4EBE-4432-BC48-78320D8C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68F-2A62-43B4-B9F3-16B3BC4F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D68-DFFD-47E3-BD44-BEA7A5D1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03F5-46B5-4E2C-963A-1A03E626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8C34-C21A-44C2-A700-B6291F9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C98-FAD3-4EB1-8060-6229AFF9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68FC-A67D-48A9-B1BE-1A41E1AC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AB1-5037-4B33-B28D-6CFF9B62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192C-29B7-41F0-B399-BDFCFDF3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1AFE-9A77-498D-8310-111C172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FBF-C500-4D29-897F-89F76F1B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C19E-C61E-450F-9FC8-A41C2AF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7DE7-CD63-4730-9F99-CADD726A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5AC3-E447-4022-8163-7EB8BEB3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3547-4C44-4DF8-BC4C-2DA86B79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9E19-A039-4D36-AF96-A08DAF55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746-07BC-462D-A58F-3F3D414C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79C-102D-476A-9D93-DA846B8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1AF-77D6-402E-941B-9A12C164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267-DFFC-41F2-894D-262CAD9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D49-AF80-4552-BABB-99B9418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336-A21D-4C48-9E2E-4A96DC7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294-F4B2-4052-ACD4-CC03DAD1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7F47-2DBD-4CD7-82F1-8221CDD57C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89AF-3E3B-45A6-B70F-FBD82DD4425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2:03:50Z</dcterms:modified>
  <cp:revision>146</cp:revision>
  <dc:subject/>
  <dc:title>C6730 Fázové rovnováhy</dc:title>
</cp:coreProperties>
</file>