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5.wmf" ContentType="image/x-wmf"/>
  <Override PartName="/ppt/media/image14.png" ContentType="image/png"/>
  <Override PartName="/ppt/media/image5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5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32.png" ContentType="image/png"/>
  <Override PartName="/ppt/media/image7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35.wmf" ContentType="image/x-wmf"/>
  <Override PartName="/ppt/media/image37.wmf" ContentType="image/x-wmf"/>
  <Override PartName="/ppt/media/image30.jpeg" ContentType="image/jpeg"/>
  <Override PartName="/ppt/media/image47.wmf" ContentType="image/x-wmf"/>
  <Override PartName="/ppt/media/image27.png" ContentType="image/png"/>
  <Override PartName="/ppt/media/image48.wmf" ContentType="image/x-wmf"/>
  <Override PartName="/ppt/media/image5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3.wmf" ContentType="image/x-wmf"/>
  <Override PartName="/ppt/media/image13.png" ContentType="image/png"/>
  <Override PartName="/ppt/media/image52.wmf" ContentType="image/x-wmf"/>
  <Override PartName="/ppt/media/image49.png" ContentType="image/png"/>
  <Override PartName="/ppt/media/image12.png" ContentType="image/png"/>
  <Override PartName="/ppt/media/image50.wmf" ContentType="image/x-wmf"/>
  <Override PartName="/ppt/media/image10.png" ContentType="image/png"/>
  <Override PartName="/ppt/media/image4.png" ContentType="image/png"/>
  <Override PartName="/ppt/media/image3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946F-02DD-4573-83FB-74E0894C509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836B-C0CF-4BF1-8741-DEB0F251A990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6BC-2DFB-4020-95BC-6297CFDB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4A2-F7C5-4E32-ABA7-0133B1D8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D42-415E-4BFA-B975-777FA882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C70C-20A2-420E-9D4B-C5C18199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A617-2973-4792-A5B3-DBC109C3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DF2D-BF8B-4070-AF48-759CA6CC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A0FF-BCE5-46FD-9891-0362335B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8E28-083F-4BF2-90DC-7FC9B2C6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D372-37A4-4A50-81E0-4FF288DE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C889-63AB-4572-A635-E7E86E53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ADDC-83FE-478B-B57F-79F4995A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F7F-21E7-45E3-9D02-D57F3FA9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D8F1-D4B5-47E7-812C-1C372BAE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7195-106A-4EAC-995C-410C7A5B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E340-A252-4D37-9A88-E83D2EF6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C981-0685-4B51-A0BA-FFC6F094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B936-E8B2-4A76-AE47-99EAC9FC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BAF-78A3-43C2-ACB2-68D8EBA8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DB2-5CB2-4740-857A-ABFA5BDB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AF9D-DBB6-4DF3-A314-F038AD43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2532-3E55-433F-9086-D8A52B26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B6B-B975-4888-9E55-7375B561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407-5CC8-4241-89ED-56E0892F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86B-B41D-4A24-BFDF-24001112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90D1-2013-4F8F-B2B6-8FD1546615B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3DC1-917C-400A-B5F8-D71B7052C865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71640" y="95220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http://www.spaceflight.esa.int/impress/text/education/Images/Catalysis/Image_001.png"/>
          <p:cNvPicPr/>
          <p:nvPr/>
        </p:nvPicPr>
        <p:blipFill>
          <a:blip r:embed="rId1"/>
          <a:stretch/>
        </p:blipFill>
        <p:spPr>
          <a:xfrm>
            <a:off x="1979640" y="3068640"/>
            <a:ext cx="547200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7" name="TextovéPole 2"/>
          <p:cNvSpPr/>
          <p:nvPr/>
        </p:nvSpPr>
        <p:spPr>
          <a:xfrm>
            <a:off x="1403280" y="644400"/>
            <a:ext cx="59770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ělení dle chemické podstaty katalyzátor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374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0" name="TextovéPole 2"/>
          <p:cNvSpPr/>
          <p:nvPr/>
        </p:nvSpPr>
        <p:spPr>
          <a:xfrm>
            <a:off x="250920" y="254160"/>
            <a:ext cx="878508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lasifikace v případech, kdy je katalyzátorem reaktant nebo produkt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447040" cy="1511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324000" y="3432240"/>
            <a:ext cx="8353440" cy="1047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3"/>
          <a:stretch/>
        </p:blipFill>
        <p:spPr>
          <a:xfrm>
            <a:off x="444600" y="4653000"/>
            <a:ext cx="81057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uto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2" descr="http://upload.wikimedia.org/wikipedia/commons/thumb/5/55/Sigmoid_curve_for_an_autocatalytical_reaction.jpg/256px-Sigmoid_curve_for_an_autocatalytical_reaction.jpg"/>
          <p:cNvPicPr/>
          <p:nvPr/>
        </p:nvPicPr>
        <p:blipFill>
          <a:blip r:embed="rId1"/>
          <a:stretch/>
        </p:blipFill>
        <p:spPr>
          <a:xfrm>
            <a:off x="4803840" y="2556000"/>
            <a:ext cx="3267000" cy="201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ttp://upload.wikimedia.org/math/b/3/7/b370df265a61aac09d6fc60660f4ce23.png"/>
          <p:cNvPicPr/>
          <p:nvPr/>
        </p:nvPicPr>
        <p:blipFill>
          <a:blip r:embed="rId2"/>
          <a:stretch/>
        </p:blipFill>
        <p:spPr>
          <a:xfrm>
            <a:off x="1403280" y="1679400"/>
            <a:ext cx="1720800" cy="236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http://upload.wikimedia.org/math/a/2/e/a2e8f292ed1676b68823e5e5bdcff432.png"/>
          <p:cNvPicPr/>
          <p:nvPr/>
        </p:nvPicPr>
        <p:blipFill>
          <a:blip r:embed="rId3"/>
          <a:stretch/>
        </p:blipFill>
        <p:spPr>
          <a:xfrm>
            <a:off x="4781520" y="1558800"/>
            <a:ext cx="2133720" cy="533520"/>
          </a:xfrm>
          <a:prstGeom prst="rect">
            <a:avLst/>
          </a:prstGeom>
          <a:ln w="0">
            <a:noFill/>
          </a:ln>
        </p:spPr>
      </p:pic>
      <p:sp>
        <p:nvSpPr>
          <p:cNvPr id="198" name="TextovéPole 2"/>
          <p:cNvSpPr/>
          <p:nvPr/>
        </p:nvSpPr>
        <p:spPr>
          <a:xfrm>
            <a:off x="6213600" y="3564000"/>
            <a:ext cx="252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Sigmoidální průběh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9" name="Picture 8" descr="http://www.chemguide.co.uk/physical/catalysis/autocatgr2.gif"/>
          <p:cNvPicPr/>
          <p:nvPr/>
        </p:nvPicPr>
        <p:blipFill>
          <a:blip r:embed="rId4"/>
          <a:stretch/>
        </p:blipFill>
        <p:spPr>
          <a:xfrm>
            <a:off x="611280" y="2556000"/>
            <a:ext cx="3143160" cy="220968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3"/>
          <p:cNvSpPr/>
          <p:nvPr/>
        </p:nvSpPr>
        <p:spPr>
          <a:xfrm>
            <a:off x="673560" y="3198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ovéPole 8"/>
          <p:cNvSpPr/>
          <p:nvPr/>
        </p:nvSpPr>
        <p:spPr>
          <a:xfrm>
            <a:off x="510948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05720" cy="3800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179280" y="5084640"/>
            <a:ext cx="8839440" cy="14018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79360" y="115560"/>
            <a:ext cx="7772400" cy="708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podle rozlišení při výběru substrátu a cílového produktu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8852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ubstrátová specificita a selektivita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reaguje pouze určitá skupina, nebo dokonce jen jediný reaktant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6" name="Picture 2" descr="http://nd01.jxs.cz/194/383/b492d566a7_37034313_o2.jpg"/>
          <p:cNvPicPr/>
          <p:nvPr/>
        </p:nvPicPr>
        <p:blipFill>
          <a:blip r:embed="rId1"/>
          <a:stretch/>
        </p:blipFill>
        <p:spPr>
          <a:xfrm>
            <a:off x="2411280" y="184464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207" name="TextovéPole 2"/>
          <p:cNvSpPr/>
          <p:nvPr/>
        </p:nvSpPr>
        <p:spPr>
          <a:xfrm>
            <a:off x="702360" y="5229360"/>
            <a:ext cx="76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a přítomnosti katalyzátoru je substrátem jediný nebo skupina latek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ovéPole 1"/>
          <p:cNvSpPr/>
          <p:nvPr/>
        </p:nvSpPr>
        <p:spPr>
          <a:xfrm>
            <a:off x="349560" y="5805360"/>
            <a:ext cx="4123440" cy="82548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Panda je substrátově specifická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Kočka je substrátově selektivní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TextovéPole 3"/>
          <p:cNvSpPr/>
          <p:nvPr/>
        </p:nvSpPr>
        <p:spPr>
          <a:xfrm>
            <a:off x="5435640" y="5805360"/>
            <a:ext cx="3313080" cy="82548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Příklady produktové selektivity a specificity ?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Produktová specifita a selektivit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28600" y="2744640"/>
            <a:ext cx="8229600" cy="2435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263520" y="1197000"/>
            <a:ext cx="8467560" cy="1305000"/>
          </a:xfrm>
          <a:prstGeom prst="rect">
            <a:avLst/>
          </a:prstGeom>
          <a:ln w="0">
            <a:noFill/>
          </a:ln>
        </p:spPr>
      </p:pic>
      <p:sp>
        <p:nvSpPr>
          <p:cNvPr id="213" name="TextovéPole 1"/>
          <p:cNvSpPr/>
          <p:nvPr/>
        </p:nvSpPr>
        <p:spPr>
          <a:xfrm>
            <a:off x="7162920" y="2997360"/>
            <a:ext cx="1295280" cy="52020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pecificit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TextovéPole 8"/>
          <p:cNvSpPr/>
          <p:nvPr/>
        </p:nvSpPr>
        <p:spPr>
          <a:xfrm>
            <a:off x="7162920" y="4508640"/>
            <a:ext cx="1295280" cy="52020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elektivit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TextovéPole 9"/>
          <p:cNvSpPr/>
          <p:nvPr/>
        </p:nvSpPr>
        <p:spPr>
          <a:xfrm>
            <a:off x="7792920" y="3700440"/>
            <a:ext cx="1295640" cy="73332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pecificita na alkany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3"/>
          <a:stretch/>
        </p:blipFill>
        <p:spPr>
          <a:xfrm>
            <a:off x="334800" y="5445000"/>
            <a:ext cx="83250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katalyzátorů dle výběru polohy – </a:t>
            </a:r>
            <a:r>
              <a:rPr b="1" lang="cs-CZ" sz="2000" spc="-1" strike="noStrike">
                <a:solidFill>
                  <a:srgbClr val="4d4d4d"/>
                </a:solidFill>
                <a:latin typeface="Arial Black"/>
              </a:rPr>
              <a:t>regioselektivita a regiospecificita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8" name="Picture 1024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15280" cy="981000"/>
          </a:xfrm>
          <a:prstGeom prst="rect">
            <a:avLst/>
          </a:prstGeom>
          <a:ln w="0">
            <a:noFill/>
          </a:ln>
        </p:spPr>
      </p:pic>
      <p:sp>
        <p:nvSpPr>
          <p:cNvPr id="219" name="TextovéPole 1"/>
          <p:cNvSpPr/>
          <p:nvPr/>
        </p:nvSpPr>
        <p:spPr>
          <a:xfrm>
            <a:off x="309600" y="256536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Regioselektivita: např. Nitrace toluen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0" name="Picture 9" descr="http://www.e-chembook.eu/cz/images/orgchem/Nitrace_toluenu.png"/>
          <p:cNvPicPr/>
          <p:nvPr/>
        </p:nvPicPr>
        <p:blipFill>
          <a:blip r:embed="rId2"/>
          <a:stretch/>
        </p:blipFill>
        <p:spPr>
          <a:xfrm>
            <a:off x="1116000" y="3357720"/>
            <a:ext cx="63500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1280" y="45360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egiospecificit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320760" y="2637000"/>
            <a:ext cx="6508800" cy="3159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395280" y="1343160"/>
            <a:ext cx="3600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říklad: Elektrofilní adice dle Markovnikova pravidla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227640" y="1297080"/>
            <a:ext cx="27003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Další příklady: vysoká regioselektivita reakcí s enzymy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3960"/>
            <a:ext cx="777240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katalyzátorů dle výběru stereoizomerů – </a:t>
            </a:r>
            <a:r>
              <a:rPr b="1" lang="cs-CZ" sz="2400" spc="-1" strike="noStrike">
                <a:solidFill>
                  <a:srgbClr val="4d4d4d"/>
                </a:solidFill>
                <a:latin typeface="Arial Black"/>
              </a:rPr>
              <a:t>stereoselektivita a stereospecificita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457200" y="914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olymerace oxiranů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924680" cy="4659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380880" y="6045120"/>
            <a:ext cx="845820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77320" cy="66564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533520" y="914400"/>
            <a:ext cx="77724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římá spojnice 2"/>
          <p:cNvSpPr/>
          <p:nvPr/>
        </p:nvSpPr>
        <p:spPr>
          <a:xfrm>
            <a:off x="4716360" y="5084640"/>
            <a:ext cx="3384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3720" y="4042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a 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431640" y="1106640"/>
            <a:ext cx="8204400" cy="1618920"/>
          </a:xfrm>
          <a:prstGeom prst="rect">
            <a:avLst/>
          </a:prstGeom>
          <a:ln w="0">
            <a:noFill/>
          </a:ln>
        </p:spPr>
      </p:pic>
      <p:sp>
        <p:nvSpPr>
          <p:cNvPr id="153" name="Přímá spojnice 3"/>
          <p:cNvSpPr/>
          <p:nvPr/>
        </p:nvSpPr>
        <p:spPr>
          <a:xfrm>
            <a:off x="523800" y="2349360"/>
            <a:ext cx="792000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546120" y="2873520"/>
            <a:ext cx="4471920" cy="3171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560520" y="6165720"/>
            <a:ext cx="848988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říkla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4521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380880" y="5705640"/>
            <a:ext cx="83822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Další termíny z oblasti katalýz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42512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3809880" y="2819520"/>
            <a:ext cx="251460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římá spojnice 2"/>
          <p:cNvSpPr/>
          <p:nvPr/>
        </p:nvSpPr>
        <p:spPr>
          <a:xfrm>
            <a:off x="3809880" y="1268280"/>
            <a:ext cx="4865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římá spojnice 4"/>
          <p:cNvSpPr/>
          <p:nvPr/>
        </p:nvSpPr>
        <p:spPr>
          <a:xfrm>
            <a:off x="539640" y="1484280"/>
            <a:ext cx="792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římá spojnice 6"/>
          <p:cNvSpPr/>
          <p:nvPr/>
        </p:nvSpPr>
        <p:spPr>
          <a:xfrm>
            <a:off x="3492360" y="3429000"/>
            <a:ext cx="5183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římá spojnice 8"/>
          <p:cNvSpPr/>
          <p:nvPr/>
        </p:nvSpPr>
        <p:spPr>
          <a:xfrm>
            <a:off x="539640" y="3645000"/>
            <a:ext cx="504036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římá spojnice 2"/>
          <p:cNvSpPr/>
          <p:nvPr/>
        </p:nvSpPr>
        <p:spPr>
          <a:xfrm>
            <a:off x="1619280" y="2492280"/>
            <a:ext cx="7056360" cy="73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Přímá spojnice 4"/>
          <p:cNvSpPr/>
          <p:nvPr/>
        </p:nvSpPr>
        <p:spPr>
          <a:xfrm>
            <a:off x="539640" y="2819520"/>
            <a:ext cx="8136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Přímá spojnice 6"/>
          <p:cNvSpPr/>
          <p:nvPr/>
        </p:nvSpPr>
        <p:spPr>
          <a:xfrm>
            <a:off x="6324480" y="4149720"/>
            <a:ext cx="235116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Přímá spojnice 8"/>
          <p:cNvSpPr/>
          <p:nvPr/>
        </p:nvSpPr>
        <p:spPr>
          <a:xfrm>
            <a:off x="380880" y="4365720"/>
            <a:ext cx="858384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římá spojnice 10"/>
          <p:cNvSpPr/>
          <p:nvPr/>
        </p:nvSpPr>
        <p:spPr>
          <a:xfrm>
            <a:off x="380880" y="4653000"/>
            <a:ext cx="858384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římá spojnice 12"/>
          <p:cNvSpPr/>
          <p:nvPr/>
        </p:nvSpPr>
        <p:spPr>
          <a:xfrm>
            <a:off x="380880" y="4869000"/>
            <a:ext cx="8458200" cy="72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Přímá spojnice 14"/>
          <p:cNvSpPr/>
          <p:nvPr/>
        </p:nvSpPr>
        <p:spPr>
          <a:xfrm>
            <a:off x="380880" y="5241960"/>
            <a:ext cx="2606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katalyzátor+prekurzor katalyzátor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1892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212760" y="3200400"/>
            <a:ext cx="6889680" cy="3324240"/>
          </a:xfrm>
          <a:prstGeom prst="rect">
            <a:avLst/>
          </a:prstGeom>
          <a:ln w="0">
            <a:noFill/>
          </a:ln>
        </p:spPr>
      </p:pic>
      <p:sp>
        <p:nvSpPr>
          <p:cNvPr id="253" name="TextovéPole 1"/>
          <p:cNvSpPr/>
          <p:nvPr/>
        </p:nvSpPr>
        <p:spPr>
          <a:xfrm>
            <a:off x="7299360" y="3170160"/>
            <a:ext cx="1736640" cy="33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onomer se „vtiskne“ do místa, které ma komplementární elektronovou hustotu. Nasledně dochází k přesunu a uvolnění aktivního místa katalyzátoru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380880" y="95400"/>
            <a:ext cx="843912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Katalytický systém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-22320" y="1052640"/>
            <a:ext cx="90583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5614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2"/>
          <a:stretch/>
        </p:blipFill>
        <p:spPr>
          <a:xfrm>
            <a:off x="1219320" y="368280"/>
            <a:ext cx="6491160" cy="480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5791320" y="4343400"/>
            <a:ext cx="3047760" cy="312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5638680" y="51055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2 katalytická centr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5960" y="11556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 Black"/>
              </a:rPr>
              <a:t>Základní pojmy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145360" cy="2159280"/>
          </a:xfrm>
          <a:prstGeom prst="rect">
            <a:avLst/>
          </a:prstGeom>
          <a:ln w="0">
            <a:noFill/>
          </a:ln>
        </p:spPr>
      </p:pic>
      <p:sp>
        <p:nvSpPr>
          <p:cNvPr id="158" name="Obdélník 1"/>
          <p:cNvSpPr/>
          <p:nvPr/>
        </p:nvSpPr>
        <p:spPr>
          <a:xfrm>
            <a:off x="4427640" y="3533760"/>
            <a:ext cx="4572000" cy="340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Oxidační katalyzátor převádí spaliny vznětového motoru obsahující uhlovodíky (CH) a oxid uhelnatý (CO) na vodu a oxid uhličitý (C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. Kromě toho oxiduje oxid dusný (NO) na oxid dusičitý (N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. 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Oxidační katalyzátor sestává z nosného tělesa z keramiky nebo kovu s axiálně průchozími kanály s šířkou hrany přibližně jeden milimetr. Stěny jsou potaženy platinou nebo Rhodiem jako katalyticky působící substance. 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U vozidel s filtrem částic je před filtr zařazen oxidační katalyzátor. V katalyzátoru uvolněný N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oxiduje v částečkovém filtru zbývající saze, které sestávají hlavně z uhlíku, na neškodlivou složku vzduchu dusík (N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 a na oxid uhličitý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Picture 5" descr="http://rb-kwin.bosch.com/cz/pool/de/Diesel/Nfz/Abgas/Oxi_Kat.jpg"/>
          <p:cNvPicPr/>
          <p:nvPr/>
        </p:nvPicPr>
        <p:blipFill>
          <a:blip r:embed="rId2"/>
          <a:stretch/>
        </p:blipFill>
        <p:spPr>
          <a:xfrm>
            <a:off x="158760" y="3073320"/>
            <a:ext cx="4032360" cy="2641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http://img.cadillac.porcus.cz/radime/katalyzator/katalyzator-rozlozeny.jpg"/>
          <p:cNvPicPr/>
          <p:nvPr/>
        </p:nvPicPr>
        <p:blipFill>
          <a:blip r:embed="rId3"/>
          <a:stretch/>
        </p:blipFill>
        <p:spPr>
          <a:xfrm>
            <a:off x="1760400" y="4792680"/>
            <a:ext cx="24591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24000" y="785880"/>
            <a:ext cx="8413560" cy="2211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325440" y="3284640"/>
            <a:ext cx="849168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3"/>
          <a:stretch/>
        </p:blipFill>
        <p:spPr>
          <a:xfrm>
            <a:off x="441360" y="5705640"/>
            <a:ext cx="8380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84920" cy="4103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http://www.catalysis-ed.org.uk/principles/images/cycle.gif"/>
          <p:cNvPicPr/>
          <p:nvPr/>
        </p:nvPicPr>
        <p:blipFill>
          <a:blip r:embed="rId2"/>
          <a:stretch/>
        </p:blipFill>
        <p:spPr>
          <a:xfrm>
            <a:off x="684360" y="4229280"/>
            <a:ext cx="31669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měna Gibbsovy energi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087560" y="907920"/>
            <a:ext cx="667692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Energetika katalyzované reak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2536920" y="1484280"/>
            <a:ext cx="4867200" cy="371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3940200" cy="351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3"/>
          <a:stretch/>
        </p:blipFill>
        <p:spPr>
          <a:xfrm>
            <a:off x="2556000" y="892080"/>
            <a:ext cx="790560" cy="36216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4"/>
          <p:cNvSpPr/>
          <p:nvPr/>
        </p:nvSpPr>
        <p:spPr>
          <a:xfrm>
            <a:off x="179280" y="871560"/>
            <a:ext cx="1944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Bez katalyzátoru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ovéPole 6"/>
          <p:cNvSpPr/>
          <p:nvPr/>
        </p:nvSpPr>
        <p:spPr>
          <a:xfrm>
            <a:off x="179280" y="1517760"/>
            <a:ext cx="1944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 katalyzátorem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ychlost určující krok při katalý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859280" y="2205000"/>
            <a:ext cx="4094280" cy="3862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4432320" cy="3774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3"/>
          <a:stretch/>
        </p:blipFill>
        <p:spPr>
          <a:xfrm>
            <a:off x="2124000" y="981000"/>
            <a:ext cx="4176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atalýza, katalyzátory - klasifik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387360" y="1082520"/>
            <a:ext cx="8513640" cy="1285920"/>
          </a:xfrm>
          <a:prstGeom prst="rect">
            <a:avLst/>
          </a:prstGeom>
          <a:ln w="0">
            <a:noFill/>
          </a:ln>
        </p:spPr>
      </p:pic>
      <p:sp>
        <p:nvSpPr>
          <p:cNvPr id="182" name="TextovéPole 2"/>
          <p:cNvSpPr/>
          <p:nvPr/>
        </p:nvSpPr>
        <p:spPr>
          <a:xfrm>
            <a:off x="1403280" y="644400"/>
            <a:ext cx="59770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ělení dle charakteru reakční směsi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2724120" y="2306520"/>
            <a:ext cx="6205680" cy="658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3"/>
          <a:stretch/>
        </p:blipFill>
        <p:spPr>
          <a:xfrm>
            <a:off x="387360" y="3068640"/>
            <a:ext cx="8353440" cy="1657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4"/>
          <a:stretch/>
        </p:blipFill>
        <p:spPr>
          <a:xfrm>
            <a:off x="387360" y="4869000"/>
            <a:ext cx="8361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0T11:10:34Z</dcterms:modified>
  <cp:revision>161</cp:revision>
  <dc:subject/>
  <dc:title>C6730 Fázové rovnováhy</dc:title>
</cp:coreProperties>
</file>