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9.jpeg" ContentType="image/jpeg"/>
  <Override PartName="/ppt/media/image23.wmf" ContentType="image/x-wmf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6.jpeg" ContentType="image/jpeg"/>
  <Override PartName="/ppt/media/image5.png" ContentType="image/png"/>
  <Override PartName="/ppt/media/image2.gif" ContentType="image/gif"/>
  <Override PartName="/ppt/media/image24.wmf" ContentType="image/x-wmf"/>
  <Override PartName="/ppt/media/image4.jpeg" ContentType="image/jpeg"/>
  <Override PartName="/ppt/media/image10.wmf" ContentType="image/x-wmf"/>
  <Override PartName="/ppt/media/image25.png" ContentType="image/png"/>
  <Override PartName="/ppt/media/image22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7.png" ContentType="image/png"/>
  <Override PartName="/ppt/media/image16.wmf" ContentType="image/x-wmf"/>
  <Override PartName="/ppt/media/image15.jpeg" ContentType="image/jpeg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B7C04-06E8-4ED3-8316-0262DEA26C0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5251D-B951-47F6-9954-589D1E2F8CC4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525D-15A5-40D0-9F5C-859BB5B0E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BF2C-14D6-49EF-B985-3F93853C9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67BA-0BEB-4BA1-BE4F-1214CF05B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532E-BD7A-4965-81E6-3555F0014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80BEB-140C-48D6-9139-3CCA83670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85E49-AB5A-458C-A120-92F5CAECF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860B1-5EA9-42E3-9E97-458535F16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31F13-3080-4367-B44F-49F362209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10021-B6FE-4DB6-AA4D-A1D4898D2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332E5-B11A-47BE-9874-78C157560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BFB29-6865-46F3-A6CF-75AB72D0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98D0-5FA9-444F-8ABE-2570C4CEF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F04DB-117F-4534-8F86-A51FDA4C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E6ABB-3638-464D-A50E-3E363FF2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942F1-5DD6-4F02-A3BE-8B215DD6A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B3643-2D9C-4C6E-A205-BED5C3930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B73AB-081C-452A-B9FB-0F6F4CAB6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F3DF-7A8D-457C-AD68-441AB5C4C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281C-35DB-4DB3-A89A-1DC435D64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6F57-EEDD-4A6F-B1DC-50C3A10A6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8743-FA79-4D6B-8572-E6F10DC76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453E-4ACF-4558-81F2-89F45CD3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FC72-60BA-4579-9F2D-4DA96803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DB4C-B6C8-4925-A49E-7AF664A9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73712-134C-405A-866D-993244A1726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FC835-44BB-498E-8C0B-C84EE1BE106D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bi.ac.uk/thornton-srv/databases/enzymes/" TargetMode="External"/><Relationship Id="rId2" Type="http://schemas.openxmlformats.org/officeDocument/2006/relationships/hyperlink" Target="D:\Vyuka\C6320_Kinetika\Texty k p&#345;edn&#225;&#353;ce C6320\L09_Enzymy a adsorpce\Nukleove_kyseliny.ppt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Enzymový katalýza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0" name="Picture 7" descr="C:\Documents and Settings\Sopoušek\Dokumenty\Obrázky\Enzymová katalýza\apoenzym+kofaktor.jpg"/>
          <p:cNvPicPr/>
          <p:nvPr/>
        </p:nvPicPr>
        <p:blipFill>
          <a:blip r:embed="rId1"/>
          <a:stretch/>
        </p:blipFill>
        <p:spPr>
          <a:xfrm>
            <a:off x="1219320" y="3733920"/>
            <a:ext cx="632448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07732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40989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"/>
          <p:cNvPicPr/>
          <p:nvPr/>
        </p:nvPicPr>
        <p:blipFill>
          <a:blip r:embed="rId2"/>
          <a:stretch/>
        </p:blipFill>
        <p:spPr>
          <a:xfrm>
            <a:off x="533520" y="685800"/>
            <a:ext cx="8312040" cy="127332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ze k rovnici: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Linearizovaný tvar Lineweaver - Burk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0" y="685800"/>
            <a:ext cx="8915400" cy="26686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"/>
          <p:cNvPicPr/>
          <p:nvPr/>
        </p:nvPicPr>
        <p:blipFill>
          <a:blip r:embed="rId2"/>
          <a:stretch/>
        </p:blipFill>
        <p:spPr>
          <a:xfrm>
            <a:off x="609480" y="3505320"/>
            <a:ext cx="525780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Linearizovaný tvar Eadie -Hofste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2" name="Picture 3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077320" cy="2039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"/>
          <p:cNvPicPr/>
          <p:nvPr/>
        </p:nvPicPr>
        <p:blipFill>
          <a:blip r:embed="rId2"/>
          <a:stretch/>
        </p:blipFill>
        <p:spPr>
          <a:xfrm>
            <a:off x="1447920" y="3533760"/>
            <a:ext cx="502920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5" name="Picture 4" descr="C:\Documents and Settings\Sopoušek\Dokumenty\Obrázky\Enzymová katalýza\biodiesel.gif"/>
          <p:cNvPicPr/>
          <p:nvPr/>
        </p:nvPicPr>
        <p:blipFill>
          <a:blip r:embed="rId1"/>
          <a:stretch/>
        </p:blipFill>
        <p:spPr>
          <a:xfrm>
            <a:off x="1447920" y="2602080"/>
            <a:ext cx="3916080" cy="35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Enzym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2" name="Text Box 1029"/>
          <p:cNvSpPr/>
          <p:nvPr/>
        </p:nvSpPr>
        <p:spPr>
          <a:xfrm>
            <a:off x="380880" y="15238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Vznik v buňce viz prezentace: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Text Box 1030"/>
          <p:cNvSpPr/>
          <p:nvPr/>
        </p:nvSpPr>
        <p:spPr>
          <a:xfrm>
            <a:off x="609480" y="3048120"/>
            <a:ext cx="2895840" cy="14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Databáze enzymů: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http://www.ebi.ac.uk/thornton-srv/databases/enzymes/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 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AutoShape 1031">
            <a:hlinkClick r:id="rId2"/>
          </p:cNvPr>
          <p:cNvSpPr/>
          <p:nvPr/>
        </p:nvSpPr>
        <p:spPr>
          <a:xfrm>
            <a:off x="2031840" y="2514600"/>
            <a:ext cx="1676520" cy="609480"/>
          </a:xfrm>
          <a:custGeom>
            <a:avLst/>
            <a:gdLst>
              <a:gd name="textAreaLeft" fmla="*/ 39240 w 1676520"/>
              <a:gd name="textAreaRight" fmla="*/ 1637280 w 16765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94" h="21600">
                <a:moveTo>
                  <a:pt x="0" y="0"/>
                </a:moveTo>
                <a:lnTo>
                  <a:pt x="59394" y="0"/>
                </a:lnTo>
                <a:lnTo>
                  <a:pt x="59394" y="21600"/>
                </a:lnTo>
                <a:lnTo>
                  <a:pt x="0" y="21600"/>
                </a:lnTo>
                <a:close/>
              </a:path>
              <a:path fill="lightenLess" w="59394" h="21600">
                <a:moveTo>
                  <a:pt x="0" y="0"/>
                </a:moveTo>
                <a:lnTo>
                  <a:pt x="59394" y="0"/>
                </a:lnTo>
                <a:lnTo>
                  <a:pt x="57994" y="1400"/>
                </a:lnTo>
                <a:lnTo>
                  <a:pt x="1400" y="1400"/>
                </a:lnTo>
                <a:close/>
              </a:path>
              <a:path fill="darken" w="59394" h="21600">
                <a:moveTo>
                  <a:pt x="59394" y="0"/>
                </a:moveTo>
                <a:lnTo>
                  <a:pt x="59394" y="21600"/>
                </a:lnTo>
                <a:lnTo>
                  <a:pt x="57994" y="20200"/>
                </a:lnTo>
                <a:lnTo>
                  <a:pt x="57994" y="1400"/>
                </a:lnTo>
                <a:close/>
              </a:path>
              <a:path fill="darkenLess" w="59394" h="21600">
                <a:moveTo>
                  <a:pt x="5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94" y="20200"/>
                </a:lnTo>
                <a:close/>
              </a:path>
              <a:path fill="lighten" w="5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59394" h="21600">
                <a:moveTo>
                  <a:pt x="24170" y="3985"/>
                </a:moveTo>
                <a:lnTo>
                  <a:pt x="31168" y="3985"/>
                </a:lnTo>
                <a:lnTo>
                  <a:pt x="35224" y="7484"/>
                </a:lnTo>
                <a:lnTo>
                  <a:pt x="35224" y="17615"/>
                </a:lnTo>
                <a:lnTo>
                  <a:pt x="24170" y="17615"/>
                </a:lnTo>
                <a:close/>
              </a:path>
              <a:path fill="darken" w="59394" h="21600">
                <a:moveTo>
                  <a:pt x="31168" y="3985"/>
                </a:moveTo>
                <a:lnTo>
                  <a:pt x="35224" y="7484"/>
                </a:lnTo>
                <a:lnTo>
                  <a:pt x="31168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5" name="Picture 1033" descr="C:\Documents and Settings\Sopoušek\Dokumenty\Obrázky\Enzymová katalýza\isomeraza.jpg"/>
          <p:cNvPicPr/>
          <p:nvPr/>
        </p:nvPicPr>
        <p:blipFill>
          <a:blip r:embed="rId3"/>
          <a:stretch/>
        </p:blipFill>
        <p:spPr>
          <a:xfrm>
            <a:off x="4191120" y="2362320"/>
            <a:ext cx="456084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Katalýza enzym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3106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C:\Documents and Settings\Sopoušek\Dokumenty\Obrázky\Enzymová katalýza\zámek a klíč.jpg"/>
          <p:cNvPicPr/>
          <p:nvPr/>
        </p:nvPicPr>
        <p:blipFill>
          <a:blip r:embed="rId2"/>
          <a:stretch/>
        </p:blipFill>
        <p:spPr>
          <a:xfrm>
            <a:off x="1066680" y="4952880"/>
            <a:ext cx="45720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915400" cy="11379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"/>
          <p:cNvPicPr/>
          <p:nvPr/>
        </p:nvPicPr>
        <p:blipFill>
          <a:blip r:embed="rId2"/>
          <a:stretch/>
        </p:blipFill>
        <p:spPr>
          <a:xfrm>
            <a:off x="228600" y="2403360"/>
            <a:ext cx="8610480" cy="11289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C:\Documents and Settings\Sopoušek\Dokumenty\Obrázky\Enzymová katalýza\how-enzymes-work- sucrose.jpg"/>
          <p:cNvPicPr/>
          <p:nvPr/>
        </p:nvPicPr>
        <p:blipFill>
          <a:blip r:embed="rId3"/>
          <a:stretch/>
        </p:blipFill>
        <p:spPr>
          <a:xfrm>
            <a:off x="304920" y="3809880"/>
            <a:ext cx="3200400" cy="30481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6"/>
          <p:cNvSpPr/>
          <p:nvPr/>
        </p:nvSpPr>
        <p:spPr>
          <a:xfrm>
            <a:off x="3657600" y="6172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sucrosa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0" y="533520"/>
            <a:ext cx="891540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229600" cy="1476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C:\Documents and Settings\Sopoušek\Dokumenty\Obrázky\Enzymová katalýza\pH optimum.jpg"/>
          <p:cNvPicPr/>
          <p:nvPr/>
        </p:nvPicPr>
        <p:blipFill>
          <a:blip r:embed="rId2"/>
          <a:stretch/>
        </p:blipFill>
        <p:spPr>
          <a:xfrm>
            <a:off x="533520" y="2590920"/>
            <a:ext cx="4114800" cy="28242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C:\Documents and Settings\Sopoušek\Dokumenty\Obrázky\Enzymová katalýza\teplotní optimum.bmp"/>
          <p:cNvPicPr/>
          <p:nvPr/>
        </p:nvPicPr>
        <p:blipFill>
          <a:blip r:embed="rId3"/>
          <a:stretch/>
        </p:blipFill>
        <p:spPr>
          <a:xfrm>
            <a:off x="4724280" y="2590920"/>
            <a:ext cx="411480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Základní kinetika enzymových reak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8763120" cy="41515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C:\Documents and Settings\Sopoušek\Dokumenty\Obrázky\Enzymová katalýza\kinetika enzym katalýzy numericky.jpg"/>
          <p:cNvPicPr/>
          <p:nvPr/>
        </p:nvPicPr>
        <p:blipFill>
          <a:blip r:embed="rId2"/>
          <a:stretch/>
        </p:blipFill>
        <p:spPr>
          <a:xfrm>
            <a:off x="4267080" y="4876920"/>
            <a:ext cx="365760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0" y="189000"/>
            <a:ext cx="90774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534520" cy="3770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C:\Documents and Settings\Sopoušek\Dokumenty\Obrázky\Enzymová katalýza\kinetika enzym katalýzy numericky.jpg"/>
          <p:cNvPicPr/>
          <p:nvPr/>
        </p:nvPicPr>
        <p:blipFill>
          <a:blip r:embed="rId2"/>
          <a:stretch/>
        </p:blipFill>
        <p:spPr>
          <a:xfrm>
            <a:off x="1828800" y="4122720"/>
            <a:ext cx="601992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6-04-27T12:31:00Z</dcterms:modified>
  <cp:revision>148</cp:revision>
  <dc:subject/>
  <dc:title>C6730 Fázové rovnováhy</dc:title>
</cp:coreProperties>
</file>