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33.wmf" ContentType="image/x-wmf"/>
  <Override PartName="/ppt/media/image34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4.wmf" ContentType="image/x-wmf"/>
  <Override PartName="/ppt/media/image32.wmf" ContentType="image/x-wmf"/>
  <Override PartName="/ppt/media/image7.wmf" ContentType="image/x-wmf"/>
  <Override PartName="/ppt/media/image46.jpeg" ContentType="image/jpeg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0.png" ContentType="image/png"/>
  <Override PartName="/ppt/media/image3.jpeg" ContentType="image/jpeg"/>
  <Override PartName="/ppt/media/image30.png" ContentType="image/png"/>
  <Override PartName="/ppt/media/image28.wmf" ContentType="image/x-wm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D770-2CE8-4EE0-9898-EC0351463E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47A-A9AE-4C87-8A81-DB020C29758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ED4-9268-4C19-999A-CAE5151F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497-E59B-4ABC-87EF-7A691080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5B2-E7ED-4D3A-BC55-F0A72BD2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EF8-2217-49A5-BD42-3953727C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8616-F45F-4CC9-BDD2-5711862B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4CF8-FF3C-42F7-9915-B54A68CC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3C17-D85A-4317-AA87-979E4FB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0F28-2FC3-43E0-8C4A-0C7E149B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2728-8067-48DD-914F-90706D04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E60B-38EC-4E38-AC1B-5233D289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E33F-2576-4DCB-A8F8-67E351E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BE3-2DA7-4D0F-913D-7733499C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AD34-7FEC-4BFC-BCDB-83C118A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19E9-4908-4B8A-8252-B118BC8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375F-9D0A-400B-800F-AD78E3A0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8A94-FB4C-41E2-8F27-24D168A5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9DEC-BD2E-4796-9CDC-49B8C5A7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BD1-A92B-4610-AA30-4DF0ECB0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403-FD2A-4948-95A8-B49B9D75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276-24A7-4C53-B65C-48B7D05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A52-074E-4B19-8A75-41E1666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24E-CD6E-43FA-B690-D76F493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135-73FC-4DDB-A877-CE064D3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70B-CAA0-4B25-A208-AE47F04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CBC7-07D8-4891-8F50-BA3A6A81A9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25E-2D69-4A3B-BE98-94A58DA7443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4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084720" y="4478400"/>
            <a:ext cx="2372040" cy="11826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3"/>
          <p:cNvSpPr/>
          <p:nvPr/>
        </p:nvSpPr>
        <p:spPr>
          <a:xfrm>
            <a:off x="6659640" y="5516640"/>
            <a:ext cx="22320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92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3:23:15Z</dcterms:modified>
  <cp:revision>151</cp:revision>
  <dc:subject/>
  <dc:title>C6730 Fázové rovnováhy</dc:title>
</cp:coreProperties>
</file>