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wmf" ContentType="image/x-wmf"/>
  <Override PartName="/ppt/media/image40.png" ContentType="image/png"/>
  <Override PartName="/ppt/media/image41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image23.jpeg" ContentType="image/jpeg"/>
  <Override PartName="/ppt/media/image5.png" ContentType="image/png"/>
  <Override PartName="/ppt/media/image28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D229-4351-474F-806D-DA045B61A66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4EBD-9269-4F85-8F4F-063E3A90DE0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A73A-BE47-4FC8-A7E0-46A7FD3CBA9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Seznam Jardovych modifikaci ??? Do grafu pridat Binding efficiency of polyA:polyU systém 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Jen triplexy × presto vyber modifikaci vhodnych pro antisense, neboť pokud netvoril ani triplexy nemohl by vytvorit duplexy s otevrenym zlabk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Testovano mnoho modifikaci a znich vybrana ta nejvhodnejsi s ještě lepsimi schopnostmi nez prirozene A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Konformace = postaveni bazi, puckering cukru, konformace fosfodiesterove spoj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1879-B853-4F4A-A41B-254BEEECE00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Seznam Jardovych modifikaci ??? Do grafu pridat Binding efficiency of polyA:polyU systém 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Jen triplexy × presto vyber modifikaci vhodnych pro antisense, neboť pokud netvoril ani triplexy nemohl by vytvorit duplexy s otevrenym zlabk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Testovano mnoho modifikaci a znich vybrana ta nejvhodnejsi s ještě lepsimi schopnostmi nez prirozene A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Konformace = postaveni bazi, puckering cukru, konformace fosfodiesterove spoj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FE42-B916-4686-917B-099F1D36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3D13-3B33-44EE-911A-B474E048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36BA-2D6C-4468-BCF0-B0BCA4E3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7661-9E0F-4634-834D-2A8D0886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D954-B821-4A6B-8EBC-40793CF4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034D-D218-4C2A-9356-53B0838A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6D1E-4543-4ACF-86D0-8B64AD36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AD3E-B294-40B2-B259-2D9C323F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59BA-F849-4F07-8858-8C33D229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1246-9743-4CF5-9776-AF9CB9A8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865A-4BEA-442E-B50F-DDD48F63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BAB8-56AE-4B65-A75F-6733D2D7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F108-0940-42F2-925A-111113BD92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84320" y="1389240"/>
            <a:ext cx="8719920" cy="47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Význam genetické informace, její replik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a exprese pro živý organism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DNA – struktura, vlastnosti a funkce v organis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RNA – d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Virus ( = parazitující soubor ge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Možné využití syntetických oligonukleotid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Technické použití nukleových kyselin: aptamerové senzory, DNA nanomateriá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watson-crick"/>
          <p:cNvPicPr/>
          <p:nvPr/>
        </p:nvPicPr>
        <p:blipFill>
          <a:blip r:embed="rId1"/>
          <a:stretch/>
        </p:blipFill>
        <p:spPr>
          <a:xfrm>
            <a:off x="6991200" y="787320"/>
            <a:ext cx="1882800" cy="2151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50600" y="-360"/>
            <a:ext cx="5840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ukleov</a:t>
            </a: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é kyseli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yšší stupně uspořádán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515880" y="685800"/>
            <a:ext cx="81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ukleosomy jsou vázány na další vláknový histon a tvoř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30 nm vlákno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“. To je dále zprohýbáno a organizová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E:\PREDNASK\BunBiolBioch\podklady\nukleinky\Chromatin_packing.gif"/>
          <p:cNvPicPr/>
          <p:nvPr/>
        </p:nvPicPr>
        <p:blipFill>
          <a:blip r:embed="rId1"/>
          <a:srcRect l="0" t="0" r="0" b="8864"/>
          <a:stretch/>
        </p:blipFill>
        <p:spPr>
          <a:xfrm>
            <a:off x="606600" y="1508040"/>
            <a:ext cx="3965400" cy="53499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4764240" y="1822320"/>
            <a:ext cx="4190760" cy="4667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íky uspořádání je délka chromosomu 10.000x menší než délka rozvinuté D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i ostatních životních fázích buňky dochází k rozvolnění. Málo rozvolněný chromat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heterochromatin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je nedostupný pro expresi genetické inform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 v nejvíce rozvolněném chromatinu zůstává struktura nukleosomů. Základní pochody na DNA, tj. replikace, transkripce nebo opravy mohou probíhat přes nukleosom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193680" y="3789360"/>
            <a:ext cx="4570560" cy="3068640"/>
            <a:chOff x="193680" y="3789360"/>
            <a:chExt cx="4570560" cy="3068640"/>
          </a:xfrm>
        </p:grpSpPr>
        <p:sp>
          <p:nvSpPr>
            <p:cNvPr id="95" name="Rectangle 7"/>
            <p:cNvSpPr/>
            <p:nvPr/>
          </p:nvSpPr>
          <p:spPr>
            <a:xfrm>
              <a:off x="193680" y="3789360"/>
              <a:ext cx="4570560" cy="306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Picture 6" descr="E:\PREDNASK\BunBiolBioch\podklady\nukleinky\Nukleosomy_z_elektr_mikr.jpg"/>
            <p:cNvPicPr/>
            <p:nvPr/>
          </p:nvPicPr>
          <p:blipFill>
            <a:blip r:embed="rId2"/>
            <a:srcRect l="0" t="-16667" r="0" b="-16667"/>
            <a:stretch/>
          </p:blipFill>
          <p:spPr>
            <a:xfrm>
              <a:off x="193680" y="3789360"/>
              <a:ext cx="4570560" cy="3068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spořádání v jádř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954000" y="941400"/>
            <a:ext cx="72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V jádře se chromosomy (= molekula DNA + histony) uspořádávají do více a méně rozvinutých oblastí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Jadro_a_okoli"/>
          <p:cNvPicPr/>
          <p:nvPr/>
        </p:nvPicPr>
        <p:blipFill>
          <a:blip r:embed="rId1"/>
          <a:stretch/>
        </p:blipFill>
        <p:spPr>
          <a:xfrm>
            <a:off x="1890720" y="2552760"/>
            <a:ext cx="536112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6480" y="244080"/>
            <a:ext cx="73310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ředávání a rekombinace genetické inform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708120" y="1660680"/>
            <a:ext cx="60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</a:rPr>
              <a:t>Genetick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á informace při diferenciaci buněk nemiz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Somaticke_bunky_maji_veskerou_genetickou_informaci"/>
          <p:cNvPicPr/>
          <p:nvPr/>
        </p:nvPicPr>
        <p:blipFill>
          <a:blip r:embed="rId1"/>
          <a:srcRect l="0" t="0" r="0" b="36320"/>
          <a:stretch/>
        </p:blipFill>
        <p:spPr>
          <a:xfrm>
            <a:off x="744480" y="2392200"/>
            <a:ext cx="76532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4312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eplikace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Smycka_opozdujiciho_vlakna"/>
          <p:cNvPicPr/>
          <p:nvPr/>
        </p:nvPicPr>
        <p:blipFill>
          <a:blip r:embed="rId1"/>
          <a:stretch/>
        </p:blipFill>
        <p:spPr>
          <a:xfrm>
            <a:off x="1339920" y="890640"/>
            <a:ext cx="6464160" cy="3438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355680" y="4427640"/>
            <a:ext cx="8431200" cy="2253600"/>
          </a:xfrm>
          <a:prstGeom prst="rect">
            <a:avLst/>
          </a:prstGeom>
          <a:solidFill>
            <a:srgbClr val="1c1c70"/>
          </a:solidFill>
          <a:ln w="1584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Přesnost replik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prostá syntéza DNA vlákna:      pravděpodobnost chyby 1:1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bezprostřední kontrola a oprava:                  pravd. chyby  1: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další kontrola a oprava na novém vláknu:    pravd. chyby  1: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Celková pravděpodobnost chyby při replikaci:      </a:t>
            </a:r>
            <a:r>
              <a:rPr b="1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1 : 1 milia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6480" y="244080"/>
            <a:ext cx="73310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ůležitost předávání genetické inform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906480" y="1214280"/>
            <a:ext cx="768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Je to především pojistka proti současnému poškození životně důležitých genů u celého společenství jednotliv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058760" y="2270160"/>
            <a:ext cx="7178760" cy="116748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U bakterií je možné předání malého množství DNA přímo mezi jedinci, nebo i z okolí buňk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Dobře se uplatňují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plasmidy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, malé kruhové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058760" y="4013280"/>
            <a:ext cx="7178760" cy="208224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U eukaryot se děje předávání genetické informace při pohlavním rozmnožov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Somatické buňky jsou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diploidn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– mají vždy 2 páry chromosomů, jeden od otce a jeden od matky, které se spojily při oplození, kdy se do jednoho jádra dostaly chromosomy z samční i samičí podhlavní buňk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590400" y="5046840"/>
            <a:ext cx="796140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enos genetické informace podle principu KOMPLEMENT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pouze bázové páry 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A:T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G: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Zápis genetické inform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43000" y="1050840"/>
            <a:ext cx="8697960" cy="2342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 všech organismů se zápis genetické informace realizu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 molekule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DNA = deoxyribonukleová kysel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 to pořadím čtyř báz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denin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ytosin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uanin, </a:t>
            </a:r>
            <a:r>
              <a:rPr b="1" lang="cs-CZ" sz="2800" spc="-1" strike="noStrike">
                <a:solidFill>
                  <a:srgbClr val="ff6600"/>
                </a:solidFill>
                <a:latin typeface="Arial"/>
              </a:rPr>
              <a:t>T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hy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NAdvojsroubovice"/>
          <p:cNvPicPr/>
          <p:nvPr/>
        </p:nvPicPr>
        <p:blipFill>
          <a:blip r:embed="rId1"/>
          <a:srcRect l="0" t="0" r="45953" b="73977"/>
          <a:stretch/>
        </p:blipFill>
        <p:spPr>
          <a:xfrm>
            <a:off x="2381400" y="3763800"/>
            <a:ext cx="4381200" cy="12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5880" y="241200"/>
            <a:ext cx="862164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o je příčinou principu komplementarit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F:\Pepa\Profesura\WCparyDNA.jpg"/>
          <p:cNvPicPr/>
          <p:nvPr/>
        </p:nvPicPr>
        <p:blipFill>
          <a:blip r:embed="rId1"/>
          <a:stretch/>
        </p:blipFill>
        <p:spPr>
          <a:xfrm>
            <a:off x="2443320" y="1076400"/>
            <a:ext cx="3789360" cy="56293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4"/>
          <p:cNvGrpSpPr/>
          <p:nvPr/>
        </p:nvGrpSpPr>
        <p:grpSpPr>
          <a:xfrm>
            <a:off x="0" y="2523600"/>
            <a:ext cx="9144000" cy="4335480"/>
            <a:chOff x="0" y="2523600"/>
            <a:chExt cx="9144000" cy="4335480"/>
          </a:xfrm>
        </p:grpSpPr>
        <p:sp>
          <p:nvSpPr>
            <p:cNvPr id="117" name="Line 5"/>
            <p:cNvSpPr/>
            <p:nvPr/>
          </p:nvSpPr>
          <p:spPr>
            <a:xfrm>
              <a:off x="2847960" y="3124080"/>
              <a:ext cx="3148200" cy="28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6"/>
            <p:cNvSpPr/>
            <p:nvPr/>
          </p:nvSpPr>
          <p:spPr>
            <a:xfrm flipH="1" flipV="1">
              <a:off x="5603400" y="2523960"/>
              <a:ext cx="579960" cy="804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2790720" y="5467320"/>
              <a:ext cx="3167280" cy="38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 flipV="1">
              <a:off x="2523960" y="4885920"/>
              <a:ext cx="605160" cy="785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 flipV="1">
              <a:off x="2590920" y="2523600"/>
              <a:ext cx="604800" cy="785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 flipH="1" flipV="1">
              <a:off x="5565240" y="4857840"/>
              <a:ext cx="579960" cy="804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11"/>
            <p:cNvSpPr/>
            <p:nvPr/>
          </p:nvSpPr>
          <p:spPr>
            <a:xfrm>
              <a:off x="0" y="6216480"/>
              <a:ext cx="9144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Pouze při zachování principu komplementarity lze při libovolném řazení čtyř bází na jednom řetězci vytvořit pravidelnou strukturu dvojšroubo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abilita dvojšroubovice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93840" y="990720"/>
            <a:ext cx="835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Relativně velká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citlivost na vnější podmínky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: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plota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, tlak, pH, koncentrace kationtů, koncentrace jednotlivých vícemocných iont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22280" y="3606840"/>
            <a:ext cx="83566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vláštní struktury D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dmíněné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speciálním bázovým složením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alternující G a C ………………………….levotočivá šroubo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uze A a G v jednom vlákně … ……….trojšroubo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uze G …………………………. ……….kvadru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úsek pouze s A a T s alternacemi ………ohy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393840" y="1765440"/>
            <a:ext cx="835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Závislost stability na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stavbě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délce řetěz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 bázovém složení: stabilita roste s podílem G:C pár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NA - chemické slož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2000" y="5232240"/>
            <a:ext cx="70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ef2a8"/>
                </a:solidFill>
                <a:uFillTx/>
                <a:latin typeface="Arial"/>
              </a:rPr>
              <a:t>Chemické složení RNA se od DNA liší pouze ve dvou detail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Místo báze Thymin je Uracil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Uracil nemá methylovou skupin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Místo deoxyribózy je ribóza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(má OH skupinu v pozici </a:t>
            </a:r>
            <a:r>
              <a:rPr b="0" lang="en-US" sz="1800" spc="-1" strike="noStrike">
                <a:solidFill>
                  <a:srgbClr val="fef2a8"/>
                </a:solidFill>
                <a:latin typeface="Arial"/>
              </a:rPr>
              <a:t>2’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527040" y="749160"/>
            <a:ext cx="3632040" cy="4280040"/>
            <a:chOff x="527040" y="749160"/>
            <a:chExt cx="3632040" cy="4280040"/>
          </a:xfrm>
        </p:grpSpPr>
        <p:pic>
          <p:nvPicPr>
            <p:cNvPr id="131" name="Picture 5" descr="Slozeni_retezce_DNA"/>
            <p:cNvPicPr/>
            <p:nvPr/>
          </p:nvPicPr>
          <p:blipFill>
            <a:blip r:embed="rId1"/>
            <a:stretch/>
          </p:blipFill>
          <p:spPr>
            <a:xfrm>
              <a:off x="527040" y="749160"/>
              <a:ext cx="3632040" cy="428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6"/>
            <p:cNvSpPr/>
            <p:nvPr/>
          </p:nvSpPr>
          <p:spPr>
            <a:xfrm>
              <a:off x="2589120" y="1033200"/>
              <a:ext cx="110664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7"/>
          <p:cNvGrpSpPr/>
          <p:nvPr/>
        </p:nvGrpSpPr>
        <p:grpSpPr>
          <a:xfrm>
            <a:off x="4932360" y="736560"/>
            <a:ext cx="3527280" cy="4230720"/>
            <a:chOff x="4932360" y="736560"/>
            <a:chExt cx="3527280" cy="4230720"/>
          </a:xfrm>
        </p:grpSpPr>
        <p:pic>
          <p:nvPicPr>
            <p:cNvPr id="134" name="Picture 8" descr="RNAchemstrukt"/>
            <p:cNvPicPr/>
            <p:nvPr/>
          </p:nvPicPr>
          <p:blipFill>
            <a:blip r:embed="rId2"/>
            <a:srcRect l="0" t="5965" r="0" b="8947"/>
            <a:stretch/>
          </p:blipFill>
          <p:spPr>
            <a:xfrm>
              <a:off x="4932360" y="736560"/>
              <a:ext cx="3527280" cy="423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9"/>
            <p:cNvSpPr/>
            <p:nvPr/>
          </p:nvSpPr>
          <p:spPr>
            <a:xfrm>
              <a:off x="7068960" y="1020600"/>
              <a:ext cx="110664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10"/>
          <p:cNvGrpSpPr/>
          <p:nvPr/>
        </p:nvGrpSpPr>
        <p:grpSpPr>
          <a:xfrm>
            <a:off x="6130800" y="1619280"/>
            <a:ext cx="1970280" cy="3306240"/>
            <a:chOff x="6130800" y="1619280"/>
            <a:chExt cx="1970280" cy="3306240"/>
          </a:xfrm>
        </p:grpSpPr>
        <p:sp>
          <p:nvSpPr>
            <p:cNvPr id="137" name="Oval 11"/>
            <p:cNvSpPr/>
            <p:nvPr/>
          </p:nvSpPr>
          <p:spPr>
            <a:xfrm>
              <a:off x="6130800" y="1660320"/>
              <a:ext cx="322560" cy="3074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12"/>
            <p:cNvSpPr/>
            <p:nvPr/>
          </p:nvSpPr>
          <p:spPr>
            <a:xfrm>
              <a:off x="7262640" y="3422520"/>
              <a:ext cx="322560" cy="3074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13"/>
            <p:cNvSpPr/>
            <p:nvPr/>
          </p:nvSpPr>
          <p:spPr>
            <a:xfrm>
              <a:off x="7778880" y="4605120"/>
              <a:ext cx="322200" cy="320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Oval 14"/>
            <p:cNvSpPr/>
            <p:nvPr/>
          </p:nvSpPr>
          <p:spPr>
            <a:xfrm>
              <a:off x="6643800" y="2533320"/>
              <a:ext cx="322200" cy="307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15"/>
            <p:cNvSpPr/>
            <p:nvPr/>
          </p:nvSpPr>
          <p:spPr>
            <a:xfrm>
              <a:off x="7107120" y="1619280"/>
              <a:ext cx="322560" cy="307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ole 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47600" y="4940280"/>
            <a:ext cx="8996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RNA molekuly se účastní v procesu exprese genetické informace ve 4 rol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m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informační) – nese informaci o pořadí aminokyse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r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ribosomální) - stavební jednotky ribosomu (kromě protei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t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transferová) – přenašeč aminokyselin při syntéze proteinů na ribosom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krátké 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– účast při post-transkripčních úpravá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hrube_schema_exprese"/>
          <p:cNvPicPr/>
          <p:nvPr/>
        </p:nvPicPr>
        <p:blipFill>
          <a:blip r:embed="rId1"/>
          <a:stretch/>
        </p:blipFill>
        <p:spPr>
          <a:xfrm>
            <a:off x="4983120" y="1297080"/>
            <a:ext cx="2949480" cy="33462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147600" y="1812960"/>
            <a:ext cx="4835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Centrální dogma molekulární biologi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Přenos genetické informace v živých organismech vž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DNA </a:t>
            </a:r>
            <a:r>
              <a:rPr b="0" lang="en-US" sz="20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RNA </a:t>
            </a:r>
            <a:r>
              <a:rPr b="0" lang="en-US" sz="20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rotei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naky živého organis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488960" y="893880"/>
            <a:ext cx="6166080" cy="2868120"/>
          </a:xfrm>
          <a:prstGeom prst="rect">
            <a:avLst/>
          </a:prstGeom>
          <a:noFill/>
          <a:ln w="2232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získávání energie z živin pro své životní potře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  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možnost růstu, diferenciace a reprodu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aktivní udržování vnitřní uspořáda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  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aktivní reakce na změny vnějších podmín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Zabi_vajicko"/>
          <p:cNvPicPr/>
          <p:nvPr/>
        </p:nvPicPr>
        <p:blipFill>
          <a:blip r:embed="rId1"/>
          <a:srcRect l="1620" t="1532" r="1620" b="1532"/>
          <a:stretch/>
        </p:blipFill>
        <p:spPr>
          <a:xfrm>
            <a:off x="258840" y="466560"/>
            <a:ext cx="1117440" cy="118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4" name="Picture 6" descr="kvasinka"/>
          <p:cNvPicPr/>
          <p:nvPr/>
        </p:nvPicPr>
        <p:blipFill>
          <a:blip r:embed="rId2"/>
          <a:srcRect l="5257" t="60098" r="53448" b="2763"/>
          <a:stretch/>
        </p:blipFill>
        <p:spPr>
          <a:xfrm>
            <a:off x="7294680" y="4506840"/>
            <a:ext cx="1697040" cy="1936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5" name="Picture 7" descr=""/>
          <p:cNvPicPr/>
          <p:nvPr/>
        </p:nvPicPr>
        <p:blipFill>
          <a:blip r:embed="rId3"/>
          <a:stretch/>
        </p:blipFill>
        <p:spPr>
          <a:xfrm>
            <a:off x="7886880" y="250920"/>
            <a:ext cx="981000" cy="1352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6" name="Picture 8" descr="tvary_bakterii"/>
          <p:cNvPicPr/>
          <p:nvPr/>
        </p:nvPicPr>
        <p:blipFill>
          <a:blip r:embed="rId4"/>
          <a:srcRect l="65053" t="0" r="0" b="22904"/>
          <a:stretch/>
        </p:blipFill>
        <p:spPr>
          <a:xfrm>
            <a:off x="812880" y="4141800"/>
            <a:ext cx="1859040" cy="1225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7" name="Picture 9" descr=""/>
          <p:cNvPicPr/>
          <p:nvPr/>
        </p:nvPicPr>
        <p:blipFill>
          <a:blip r:embed="rId5"/>
          <a:stretch/>
        </p:blipFill>
        <p:spPr>
          <a:xfrm>
            <a:off x="7770960" y="2313000"/>
            <a:ext cx="1215720" cy="1103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8" name="Picture 10" descr=""/>
          <p:cNvPicPr/>
          <p:nvPr/>
        </p:nvPicPr>
        <p:blipFill>
          <a:blip r:embed="rId6"/>
          <a:srcRect l="3036" t="3150" r="3036" b="3150"/>
          <a:stretch/>
        </p:blipFill>
        <p:spPr>
          <a:xfrm>
            <a:off x="192240" y="2421000"/>
            <a:ext cx="1035000" cy="995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" name="Text Box 4"/>
          <p:cNvSpPr/>
          <p:nvPr/>
        </p:nvSpPr>
        <p:spPr>
          <a:xfrm>
            <a:off x="1955880" y="4902120"/>
            <a:ext cx="52322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tyto životní projevy se realizují primárně na úrovni buně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4"/>
          <p:cNvGrpSpPr/>
          <p:nvPr/>
        </p:nvGrpSpPr>
        <p:grpSpPr>
          <a:xfrm>
            <a:off x="855720" y="779400"/>
            <a:ext cx="6850080" cy="3695760"/>
            <a:chOff x="855720" y="779400"/>
            <a:chExt cx="6850080" cy="3695760"/>
          </a:xfrm>
        </p:grpSpPr>
        <p:pic>
          <p:nvPicPr>
            <p:cNvPr id="147" name="Picture 5" descr="genova_exprese_eu_pro"/>
            <p:cNvPicPr/>
            <p:nvPr/>
          </p:nvPicPr>
          <p:blipFill>
            <a:blip r:embed="rId1"/>
            <a:stretch/>
          </p:blipFill>
          <p:spPr>
            <a:xfrm>
              <a:off x="855720" y="779400"/>
              <a:ext cx="6850080" cy="36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6"/>
            <p:cNvSpPr/>
            <p:nvPr/>
          </p:nvSpPr>
          <p:spPr>
            <a:xfrm>
              <a:off x="892080" y="814680"/>
              <a:ext cx="12052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Eukary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7"/>
            <p:cNvSpPr/>
            <p:nvPr/>
          </p:nvSpPr>
          <p:spPr>
            <a:xfrm>
              <a:off x="4804560" y="791280"/>
              <a:ext cx="14619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Prokary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ostup exprese genetické inform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2"/>
          <a:stretch/>
        </p:blipFill>
        <p:spPr>
          <a:xfrm>
            <a:off x="6453360" y="2692440"/>
            <a:ext cx="734760" cy="209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"/>
          <p:cNvPicPr/>
          <p:nvPr/>
        </p:nvPicPr>
        <p:blipFill>
          <a:blip r:embed="rId3"/>
          <a:srcRect l="0" t="7270" r="0" b="8482"/>
          <a:stretch/>
        </p:blipFill>
        <p:spPr>
          <a:xfrm>
            <a:off x="4995720" y="3114720"/>
            <a:ext cx="1838520" cy="1333440"/>
          </a:xfrm>
          <a:prstGeom prst="rect">
            <a:avLst/>
          </a:prstGeom>
          <a:ln w="0">
            <a:noFill/>
          </a:ln>
        </p:spPr>
      </p:pic>
      <p:sp>
        <p:nvSpPr>
          <p:cNvPr id="153" name="Line 10"/>
          <p:cNvSpPr/>
          <p:nvPr/>
        </p:nvSpPr>
        <p:spPr>
          <a:xfrm flipH="1" flipV="1">
            <a:off x="4705200" y="3602160"/>
            <a:ext cx="471600" cy="1476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1"/>
          <p:cNvSpPr/>
          <p:nvPr/>
        </p:nvSpPr>
        <p:spPr>
          <a:xfrm flipH="1" flipV="1">
            <a:off x="6662520" y="2298600"/>
            <a:ext cx="27000" cy="3636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0" y="49402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RNA molekuly se účastní v procesu exprese genetické informace ve 4 rol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m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informační) – nese informaci o pořadí aminokyse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r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ribosomální) - stavební jednotky ribosomu (kromě protei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t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transferová) – přenašeč aminokyselin při syntéze proteinů na ribosom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krátké 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– účast při post-transkripčních úpravá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trukturní rysy 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247680" y="738360"/>
            <a:ext cx="8545320" cy="119124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RNA se zásadně vyskytuje jako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jednovláknová,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může ale vytvářet lokální interní dvojšroubovice a stabilizovat se ve složité prostorové struktuř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Základními strukturními motivy jsou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lásenk</a:t>
            </a:r>
            <a:r>
              <a:rPr b="1" lang="en-US" sz="1800" spc="-1" strike="noStrike">
                <a:solidFill>
                  <a:srgbClr val="fef2a8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hairpin</a:t>
            </a:r>
            <a:r>
              <a:rPr b="0" lang="en-US" sz="1800" spc="-1" strike="noStrike">
                <a:solidFill>
                  <a:srgbClr val="fef2a8"/>
                </a:solidFill>
                <a:latin typeface="Arial"/>
              </a:rPr>
              <a:t>, hairpin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loop) - obsahuje vlastní smyčku a stonek (stem)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ýduť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bulge)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nitřní smyčka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křížení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junction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6" descr="RNA_local_structure"/>
          <p:cNvPicPr/>
          <p:nvPr/>
        </p:nvPicPr>
        <p:blipFill>
          <a:blip r:embed="rId1"/>
          <a:srcRect l="0" t="0" r="62216" b="0"/>
          <a:stretch/>
        </p:blipFill>
        <p:spPr>
          <a:xfrm>
            <a:off x="468360" y="2411280"/>
            <a:ext cx="2798640" cy="3635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RNA strukturni motivy"/>
          <p:cNvPicPr/>
          <p:nvPr/>
        </p:nvPicPr>
        <p:blipFill>
          <a:blip r:embed="rId2"/>
          <a:stretch/>
        </p:blipFill>
        <p:spPr>
          <a:xfrm>
            <a:off x="3990960" y="2421000"/>
            <a:ext cx="441792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ktura 5´konce viru HIV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0" y="121932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buClr>
                <a:srgbClr val="ffff00"/>
              </a:buClr>
              <a:buFont typeface="Times New Roman"/>
              <a:buChar char="•"/>
              <a:tabLst>
                <a:tab algn="l" pos="3808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R – vlásenka, na kterou se vá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 proteiny virový Tat a bun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č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ý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clin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ffff00"/>
              </a:buClr>
              <a:buFont typeface="Times New Roman"/>
              <a:buChar char="•"/>
              <a:tabLst>
                <a:tab algn="l" pos="3808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 (SL1) – vlásenka, která je zodpov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ná za dr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í obou homologních vláken viru při sob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D:\clanky\disertace\obrazky\HIV\HIV 5konec - oriznuty.gif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49200" y="809640"/>
            <a:ext cx="8445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amostatně existující skupiny genů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. M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ohou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replikovat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ouz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okud infikují vhodnou hostitelskou buňku. </a:t>
            </a:r>
            <a:r>
              <a:rPr b="1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N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ebuněčné částic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, nepovažují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za živý organismus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M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imo hostitelskou buňku nevykazují životní projevy: nemají látkový ani energetický metabolismus, nerostou, nejsou dráždivé, nemají aktivní pohyb, nerozmnožují se. Žádný z virů neobsahuje geny klíčové pro jeho replikaci, především pro stavbu ribosomu nebo syntézu AT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V procesu své reprodukce představují vnitrobuněčné parazity, kt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ř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jsou zpravidla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patogenn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ro hostitelskou buňk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O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bsahují 3 až stovky genů a jejich velikosti se pohybují od 15 do cca 400 nm.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9" descr="E:\PREDNASK\BunBiolBioch\podklady\viry\obrazky-pom\vir.jpg"/>
          <p:cNvPicPr/>
          <p:nvPr/>
        </p:nvPicPr>
        <p:blipFill>
          <a:blip r:embed="rId1"/>
          <a:stretch/>
        </p:blipFill>
        <p:spPr>
          <a:xfrm>
            <a:off x="1727280" y="4973760"/>
            <a:ext cx="1116000" cy="1884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E:\PREDNASK\BunBiolBioch\podklady\viry\obrazky-pom\vir2.jpg"/>
          <p:cNvPicPr/>
          <p:nvPr/>
        </p:nvPicPr>
        <p:blipFill>
          <a:blip r:embed="rId2"/>
          <a:stretch/>
        </p:blipFill>
        <p:spPr>
          <a:xfrm>
            <a:off x="3700440" y="5037120"/>
            <a:ext cx="2005200" cy="1776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E:\PREDNASK\BunBiolBioch\podklady\viry\obrazky-pom\vir3.jpg"/>
          <p:cNvPicPr/>
          <p:nvPr/>
        </p:nvPicPr>
        <p:blipFill>
          <a:blip r:embed="rId3"/>
          <a:stretch/>
        </p:blipFill>
        <p:spPr>
          <a:xfrm>
            <a:off x="6608880" y="5008680"/>
            <a:ext cx="111420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votní cyklu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N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ir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258840" y="1082520"/>
            <a:ext cx="5072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Lytický cyklus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– s využitím buněčného aparátu (permisivita buňky)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replikuje nukleová kyselina i virové proteiny. Kapsidové proteiny se v procesu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t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zv. maturace samovolně skládají a vytvářejí kapsid, sestavují se nové viriony. Konkrétní mechanismus závisí především na tom, jak je realizován zápis virových genů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  <a:ea typeface="Times New Roman"/>
              </a:rPr>
              <a:t>DNA viry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- přímá transkripce a translace virové D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5" descr="E:\PREDNASK\BunBiolBioch\podklady\viry\obrazky-pom\cyklus_DNA_viru.gif"/>
          <p:cNvPicPr/>
          <p:nvPr/>
        </p:nvPicPr>
        <p:blipFill>
          <a:blip r:embed="rId1"/>
          <a:stretch/>
        </p:blipFill>
        <p:spPr>
          <a:xfrm>
            <a:off x="5616720" y="835200"/>
            <a:ext cx="304956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votní cyklus retrovir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284040" y="746280"/>
            <a:ext cx="857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RNA je virovou reverzní transkriptázou přepsána do DNA a ta je virovou integrázou včleněna do buněčné DNA v jádř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6" descr="E:\PREDNASK\BunBiolBioch\podklady\viry\obrazky-pom\zivotni_cyklus_retroviru.gif"/>
          <p:cNvPicPr/>
          <p:nvPr/>
        </p:nvPicPr>
        <p:blipFill>
          <a:blip r:embed="rId1"/>
          <a:stretch/>
        </p:blipFill>
        <p:spPr>
          <a:xfrm>
            <a:off x="754200" y="1500120"/>
            <a:ext cx="7941960" cy="4172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E:\PREDNASK\BunBiolBioch\podklady\viry\obrazky-pom\reverzni_transkriptaza.jpg"/>
          <p:cNvPicPr/>
          <p:nvPr/>
        </p:nvPicPr>
        <p:blipFill>
          <a:blip r:embed="rId2"/>
          <a:stretch/>
        </p:blipFill>
        <p:spPr>
          <a:xfrm>
            <a:off x="1782720" y="5383080"/>
            <a:ext cx="2978280" cy="147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144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u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tí oligonukleotidu k „uspání“ ge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808280" y="1028880"/>
            <a:ext cx="57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oligonukleotid = krátký úsek nukleové kyseli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084320" y="1608120"/>
            <a:ext cx="6959520" cy="468000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otiv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Chemoterap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elektivní likvidace nežádoucích organism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tlačení reprodukce virů, především retrovir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tlačení růstu vlastních buněk s patogenním chování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Molekulární biolog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Efektivní zkoumání funkcí řízených jednotlivými ge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946080" y="0"/>
            <a:ext cx="7251840" cy="1143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ožné mechanis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501480" y="1193760"/>
            <a:ext cx="8153640" cy="43866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ntigen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se váže na dvojšroubovici DNA a vytváří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triplex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blokuje transkripci (vznik m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ntisens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se váže na mRNA a vytváří duplex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blokuje translaci (syntézu proteinů) nebo dokonce vede ke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štěpení mRNA pomocí RNasy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ptamer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zabra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ňuje funkci proteinu zajišťujícímu     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nezbytný krok v realizaci genetické informace (reverzní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transkriptáza, integráza, apod.)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 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siRNA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– krátká dvojšroubovice RNA obsahující nežádoucí sekven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 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Ribozymy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– speciální RNA sekvence katalyzující štěpení m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966960" y="0"/>
            <a:ext cx="7251480" cy="1143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Chemicky modifikovaná analoga nukleových kyse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523800" y="1143000"/>
            <a:ext cx="8153640" cy="7038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Krátké úseky přírozených nukleových kyselin nejsou v buněčném prostředí stabilní – působení štěpících enzymů (nukleáz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490680" y="2195640"/>
            <a:ext cx="820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První generace antisense léků:</a:t>
            </a: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aložené na fosforothioát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ktivují RNázu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esítky přípravků ve stadiu klinický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estů, jeden lék povolen pro lékařské použit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blémem je nespecifická vazba na nukleové kyseliny a prote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5367240" y="2289240"/>
            <a:ext cx="1090800" cy="10015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455760" y="4297320"/>
            <a:ext cx="8204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Druhá a třetí generace antisense léků:</a:t>
            </a: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aložené na ochranných O-methyl nebo O-methoxy-ethyl skupinách, někdy v kombinaci s fosforothioáty (2.generace) nebo jiné typy modifikací (3.gener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aktivují RNázu H, řeší se to tvorbou „chimerických“ oligonukleotidů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íce než desítka ve stadiu klinických test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946080" y="368280"/>
            <a:ext cx="7251840" cy="8380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Výběr z přehledu testovaných přípravk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57240" y="1479600"/>
            <a:ext cx="90295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Jednotná molekulární strategie buně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55680" y="1028880"/>
            <a:ext cx="84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99"/>
                </a:solidFill>
                <a:uFillTx/>
                <a:latin typeface="Arial"/>
              </a:rPr>
              <a:t>Polysacharidy a lipidy</a:t>
            </a:r>
            <a:r>
              <a:rPr b="0" lang="cs-CZ" sz="2400" spc="-1" strike="noStrike">
                <a:solidFill>
                  <a:srgbClr val="ffff99"/>
                </a:solidFill>
                <a:latin typeface="Arial"/>
              </a:rPr>
              <a:t> … stavební a zásob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330120" y="1798560"/>
            <a:ext cx="848376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bc75f"/>
                </a:solidFill>
                <a:uFillTx/>
                <a:latin typeface="Arial"/>
              </a:rPr>
              <a:t>Bílkoviny (proteiny</a:t>
            </a:r>
            <a:r>
              <a:rPr b="1" lang="cs-CZ" sz="2400" spc="-1" strike="noStrike">
                <a:solidFill>
                  <a:srgbClr val="fbc75f"/>
                </a:solidFill>
                <a:latin typeface="Arial"/>
              </a:rPr>
              <a:t>)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… univerzální, mohou mít funk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stavební, zásobní, biochemickou (enzymy),  transportní, pohybovou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       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kontrolní, signální,..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bc75f"/>
                </a:solidFill>
                <a:latin typeface="Arial"/>
              </a:rPr>
              <a:t>Specifický vztah mezi strukturou a funkcí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          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posloupnost aminokyselin   </a:t>
            </a:r>
            <a:r>
              <a:rPr b="1" lang="en-US" sz="3200" spc="-1" strike="noStrike">
                <a:solidFill>
                  <a:srgbClr val="fbc75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  struktur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bc75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bc75f"/>
                </a:solidFill>
                <a:latin typeface="Arial"/>
              </a:rPr>
              <a:t>Kritická podmínka pro zachování životních pochodů buňk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mít možnost podle potřeby vytvořit protein pro zabezpečení dané 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30120" y="5316480"/>
            <a:ext cx="8483760" cy="825480"/>
          </a:xfrm>
          <a:prstGeom prst="rect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6600"/>
                </a:solidFill>
                <a:latin typeface="Arial"/>
              </a:rPr>
              <a:t>To zajišťují </a:t>
            </a:r>
            <a:r>
              <a:rPr b="1" lang="cs-CZ" sz="2400" spc="-1" strike="noStrike" u="sng">
                <a:solidFill>
                  <a:srgbClr val="ff6600"/>
                </a:solidFill>
                <a:uFillTx/>
                <a:latin typeface="Arial"/>
              </a:rPr>
              <a:t>Nukleové kyseliny</a:t>
            </a:r>
            <a:r>
              <a:rPr b="1" lang="cs-CZ" sz="24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0" lang="cs-CZ" sz="2400" spc="-1" strike="noStrike">
                <a:solidFill>
                  <a:srgbClr val="ff6600"/>
                </a:solidFill>
                <a:latin typeface="Arial"/>
              </a:rPr>
              <a:t>v DNA je informace uložená, RNA je prostředníkem její realizace (expre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380880" y="205596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To je motivace pro hledání nových, vhodnějších modifikací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730080" y="3987720"/>
            <a:ext cx="7683840" cy="2441880"/>
          </a:xfrm>
          <a:prstGeom prst="rect">
            <a:avLst/>
          </a:prstGeom>
          <a:solidFill>
            <a:srgbClr val="24248e"/>
          </a:solidFill>
          <a:ln w="1908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61"/>
              </a:spcBef>
              <a:buClr>
                <a:srgbClr val="00cc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cc99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ostatečná stabilita vůči enzymům v buňce štěpícím nukleové kysel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pecific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á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afini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 cílovému úseku přirozené nukleové kysel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 komplementární bázovou sekvenc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pro antisense aplikaci schopnost aktivovat enzym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N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áz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 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úspěšné pronikání do buně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 správná distribu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e vnitrobuněčném prostřed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-   netoxičnost a to ani metabolických produkt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9960" y="573120"/>
            <a:ext cx="8344080" cy="838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ádná z dosud používaných modifikací nemá bohužel optimální vlastnosti, aby se mohl plně využít potenciál antisensní strate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641520" y="2997360"/>
            <a:ext cx="7860960" cy="838080"/>
          </a:xfrm>
          <a:prstGeom prst="rect">
            <a:avLst/>
          </a:prstGeom>
          <a:noFill/>
          <a:ln w="1908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ffd1"/>
                </a:solidFill>
                <a:latin typeface="Arial"/>
              </a:rPr>
              <a:t>Po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f7ffd1"/>
                </a:solidFill>
                <a:latin typeface="Arial"/>
              </a:rPr>
              <a:t>adavky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</a:rPr>
              <a:t> na syntetická analoga nukleových kyselin pro terapeutické použit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649440" y="263520"/>
            <a:ext cx="7843680" cy="1251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tudium struktury, dynamiky a mezimolekulárních interakcí strukturních motivů přirozených i modifikovaných nukleových kyse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220680" y="2098800"/>
            <a:ext cx="8672400" cy="338040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</a:rPr>
              <a:t>Studované problé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tvorba a rozpad duplexů, triplexů a kvadruplex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liv vnějších podmínek : pH, jednotlivé kationty, speciální moleku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abilita a dynamika duplexů s neúplnou komplementarit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ruktura, dynamika a interakce s enzymy regulačních úseků 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interakce s enzymy (HIV integráza, RNasa H) významné pro terap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interakce vazebných strukturních motivů s aptamery (TAR smyčk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ronikání oligonukleotidů do buněk a jejich vnitrobuněčný os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49440" y="263520"/>
            <a:ext cx="7843680" cy="1251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tudium struktury, dynamiky a mezimolekulárních interakcí strukturních motivů přirozených i modifikovaných nukleových kyse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220680" y="2098800"/>
            <a:ext cx="8672400" cy="421488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</a:rPr>
              <a:t>Používané met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UV absorp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Ramanova spektroskop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enzory na bázi rezonance povrchových plasmon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ikrokalorimet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rukturní a dynamická NMR měřen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ikulární dichroismus (v UV absorpc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gelová elektroforé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ikrofluorescenční techni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7ffd1"/>
                </a:solidFill>
                <a:latin typeface="Arial"/>
                <a:ea typeface="Times New Roman"/>
              </a:rPr>
              <a:t>	</a:t>
            </a:r>
            <a:r>
              <a:rPr b="1" i="1" lang="cs-CZ" sz="1800" spc="-1" strike="noStrike">
                <a:solidFill>
                  <a:srgbClr val="fee7ac"/>
                </a:solidFill>
                <a:latin typeface="Arial"/>
              </a:rPr>
              <a:t>počítačové modelová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3560" y="-3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estování syntetických oligonukleotid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Object 3"/>
          <p:cNvGraphicFramePr/>
          <p:nvPr/>
        </p:nvGraphicFramePr>
        <p:xfrm>
          <a:off x="-285840" y="1096920"/>
          <a:ext cx="9429840" cy="545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85840" y="1096920"/>
                    <a:ext cx="942984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ovéPole 4"/>
          <p:cNvSpPr/>
          <p:nvPr/>
        </p:nvSpPr>
        <p:spPr>
          <a:xfrm>
            <a:off x="1397160" y="1017720"/>
            <a:ext cx="69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  <a:ea typeface="Arial"/>
              </a:rPr>
              <a:t>Testování vazby na přirozený řetězec – SPR biosenz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9" descr="DNA_complements (small)"/>
          <p:cNvPicPr/>
          <p:nvPr/>
        </p:nvPicPr>
        <p:blipFill>
          <a:blip r:embed="rId1"/>
          <a:stretch/>
        </p:blipFill>
        <p:spPr>
          <a:xfrm>
            <a:off x="0" y="558720"/>
            <a:ext cx="5762520" cy="3276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UV_histogram"/>
          <p:cNvPicPr/>
          <p:nvPr/>
        </p:nvPicPr>
        <p:blipFill>
          <a:blip r:embed="rId2"/>
          <a:stretch/>
        </p:blipFill>
        <p:spPr>
          <a:xfrm>
            <a:off x="3381480" y="3416400"/>
            <a:ext cx="5762520" cy="327636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201" name="Rectangle 4"/>
          <p:cNvSpPr/>
          <p:nvPr/>
        </p:nvSpPr>
        <p:spPr>
          <a:xfrm>
            <a:off x="169056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6172200" y="5105520"/>
            <a:ext cx="914400" cy="1015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7861320" y="4775040"/>
            <a:ext cx="1028520" cy="14734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16905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6905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ovéPole 9"/>
          <p:cNvSpPr/>
          <p:nvPr/>
        </p:nvSpPr>
        <p:spPr>
          <a:xfrm>
            <a:off x="6100920" y="1150920"/>
            <a:ext cx="28857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  <a:ea typeface="Arial"/>
              </a:rPr>
              <a:t>Specificita vaz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  <a:ea typeface="Arial"/>
              </a:rPr>
              <a:t>(výsledky UV absorp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pA-oT 2"/>
          <p:cNvPicPr/>
          <p:nvPr/>
        </p:nvPicPr>
        <p:blipFill>
          <a:blip r:embed="rId1"/>
          <a:stretch/>
        </p:blipFill>
        <p:spPr>
          <a:xfrm>
            <a:off x="380880" y="2692440"/>
            <a:ext cx="7696440" cy="4006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08" name="Line 5"/>
          <p:cNvSpPr/>
          <p:nvPr/>
        </p:nvSpPr>
        <p:spPr>
          <a:xfrm>
            <a:off x="403200" y="4592520"/>
            <a:ext cx="2438280" cy="0"/>
          </a:xfrm>
          <a:prstGeom prst="line">
            <a:avLst/>
          </a:prstGeom>
          <a:ln w="2232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6"/>
          <p:cNvSpPr/>
          <p:nvPr/>
        </p:nvSpPr>
        <p:spPr>
          <a:xfrm flipV="1">
            <a:off x="2865600" y="2676240"/>
            <a:ext cx="1440" cy="1904760"/>
          </a:xfrm>
          <a:prstGeom prst="line">
            <a:avLst/>
          </a:prstGeom>
          <a:ln w="2232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8"/>
          <p:cNvGrpSpPr/>
          <p:nvPr/>
        </p:nvGrpSpPr>
        <p:grpSpPr>
          <a:xfrm>
            <a:off x="1219320" y="2110320"/>
            <a:ext cx="7237080" cy="4425120"/>
            <a:chOff x="1219320" y="2110320"/>
            <a:chExt cx="7237080" cy="4425120"/>
          </a:xfrm>
        </p:grpSpPr>
        <p:grpSp>
          <p:nvGrpSpPr>
            <p:cNvPr id="211" name="Group 9"/>
            <p:cNvGrpSpPr/>
            <p:nvPr/>
          </p:nvGrpSpPr>
          <p:grpSpPr>
            <a:xfrm>
              <a:off x="1219320" y="4935240"/>
              <a:ext cx="2438280" cy="1371600"/>
              <a:chOff x="1219320" y="4935240"/>
              <a:chExt cx="2438280" cy="1371600"/>
            </a:xfrm>
          </p:grpSpPr>
          <p:sp>
            <p:nvSpPr>
              <p:cNvPr id="212" name="Line 10"/>
              <p:cNvSpPr/>
              <p:nvPr/>
            </p:nvSpPr>
            <p:spPr>
              <a:xfrm>
                <a:off x="1219320" y="4935240"/>
                <a:ext cx="2438280" cy="121896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Line 11"/>
              <p:cNvSpPr/>
              <p:nvPr/>
            </p:nvSpPr>
            <p:spPr>
              <a:xfrm flipV="1">
                <a:off x="1295640" y="4935240"/>
                <a:ext cx="2209680" cy="137160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Group 12"/>
            <p:cNvGrpSpPr/>
            <p:nvPr/>
          </p:nvGrpSpPr>
          <p:grpSpPr>
            <a:xfrm>
              <a:off x="3962520" y="4285440"/>
              <a:ext cx="457200" cy="305280"/>
              <a:chOff x="3962520" y="4285440"/>
              <a:chExt cx="457200" cy="305280"/>
            </a:xfrm>
          </p:grpSpPr>
          <p:sp>
            <p:nvSpPr>
              <p:cNvPr id="215" name="Line 13"/>
              <p:cNvSpPr/>
              <p:nvPr/>
            </p:nvSpPr>
            <p:spPr>
              <a:xfrm>
                <a:off x="3962520" y="4438080"/>
                <a:ext cx="152640" cy="15264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14"/>
              <p:cNvSpPr/>
              <p:nvPr/>
            </p:nvSpPr>
            <p:spPr>
              <a:xfrm flipV="1">
                <a:off x="4115160" y="4285440"/>
                <a:ext cx="304560" cy="30492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15"/>
            <p:cNvGrpSpPr/>
            <p:nvPr/>
          </p:nvGrpSpPr>
          <p:grpSpPr>
            <a:xfrm>
              <a:off x="4952880" y="6230160"/>
              <a:ext cx="457200" cy="305280"/>
              <a:chOff x="4952880" y="6230160"/>
              <a:chExt cx="457200" cy="305280"/>
            </a:xfrm>
          </p:grpSpPr>
          <p:sp>
            <p:nvSpPr>
              <p:cNvPr id="218" name="Line 16"/>
              <p:cNvSpPr/>
              <p:nvPr/>
            </p:nvSpPr>
            <p:spPr>
              <a:xfrm>
                <a:off x="4952880" y="6382800"/>
                <a:ext cx="152640" cy="15264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17"/>
              <p:cNvSpPr/>
              <p:nvPr/>
            </p:nvSpPr>
            <p:spPr>
              <a:xfrm flipV="1">
                <a:off x="5105520" y="6230160"/>
                <a:ext cx="304560" cy="30492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Oval 18"/>
            <p:cNvSpPr/>
            <p:nvPr/>
          </p:nvSpPr>
          <p:spPr>
            <a:xfrm rot="2400000">
              <a:off x="5122800" y="2954160"/>
              <a:ext cx="3200400" cy="1579320"/>
            </a:xfrm>
            <a:prstGeom prst="ellipse">
              <a:avLst/>
            </a:prstGeom>
            <a:noFill/>
            <a:ln w="25560">
              <a:solidFill>
                <a:srgbClr val="ec3d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19"/>
          <p:cNvGrpSpPr/>
          <p:nvPr/>
        </p:nvGrpSpPr>
        <p:grpSpPr>
          <a:xfrm>
            <a:off x="1714680" y="3983040"/>
            <a:ext cx="5715000" cy="2168640"/>
            <a:chOff x="1714680" y="3983040"/>
            <a:chExt cx="5715000" cy="2168640"/>
          </a:xfrm>
        </p:grpSpPr>
        <p:sp>
          <p:nvSpPr>
            <p:cNvPr id="222" name="Oval 20"/>
            <p:cNvSpPr/>
            <p:nvPr/>
          </p:nvSpPr>
          <p:spPr>
            <a:xfrm>
              <a:off x="4305240" y="39830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21"/>
            <p:cNvSpPr/>
            <p:nvPr/>
          </p:nvSpPr>
          <p:spPr>
            <a:xfrm>
              <a:off x="7048440" y="42116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Oval 22"/>
            <p:cNvSpPr/>
            <p:nvPr/>
          </p:nvSpPr>
          <p:spPr>
            <a:xfrm>
              <a:off x="5246640" y="53546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Oval 23"/>
            <p:cNvSpPr/>
            <p:nvPr/>
          </p:nvSpPr>
          <p:spPr>
            <a:xfrm>
              <a:off x="6438960" y="592308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Oval 24"/>
            <p:cNvSpPr/>
            <p:nvPr/>
          </p:nvSpPr>
          <p:spPr>
            <a:xfrm>
              <a:off x="2629080" y="581184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25"/>
            <p:cNvSpPr/>
            <p:nvPr/>
          </p:nvSpPr>
          <p:spPr>
            <a:xfrm>
              <a:off x="1714680" y="527868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Text Box 27"/>
          <p:cNvSpPr/>
          <p:nvPr/>
        </p:nvSpPr>
        <p:spPr>
          <a:xfrm>
            <a:off x="209520" y="787320"/>
            <a:ext cx="872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stabilita komplexu s přirozeným vláknem, strukturní podobno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(UV absorpce, počítačové simulace, Ramanův rozpty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8"/>
          <p:cNvSpPr/>
          <p:nvPr/>
        </p:nvSpPr>
        <p:spPr>
          <a:xfrm>
            <a:off x="1593720" y="154944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Arial"/>
              </a:rPr>
              <a:t>biochemický test:                 aktivace RN</a:t>
            </a:r>
            <a:r>
              <a:rPr b="0" lang="en-US" sz="2000" spc="-1" strike="noStrike">
                <a:solidFill>
                  <a:srgbClr val="99ff66"/>
                </a:solidFill>
                <a:latin typeface="Arial"/>
              </a:rPr>
              <a:t>asy</a:t>
            </a:r>
            <a:r>
              <a:rPr b="0" lang="cs-CZ" sz="2000" spc="-1" strike="noStrike">
                <a:solidFill>
                  <a:srgbClr val="99ff66"/>
                </a:solidFill>
                <a:latin typeface="Arial"/>
              </a:rPr>
              <a:t>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4572000" y="1523880"/>
            <a:ext cx="2603520" cy="470160"/>
          </a:xfrm>
          <a:prstGeom prst="wedgeRoundRectCallout">
            <a:avLst>
              <a:gd name="adj1" fmla="val 18231"/>
              <a:gd name="adj2" fmla="val 121282"/>
              <a:gd name="adj3" fmla="val 16667"/>
            </a:avLst>
          </a:prstGeom>
          <a:noFill/>
          <a:ln w="255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entrální dogma molekulární biolo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hrube_schema_exprese"/>
          <p:cNvPicPr/>
          <p:nvPr/>
        </p:nvPicPr>
        <p:blipFill>
          <a:blip r:embed="rId1"/>
          <a:stretch/>
        </p:blipFill>
        <p:spPr>
          <a:xfrm>
            <a:off x="2773440" y="2136600"/>
            <a:ext cx="3597120" cy="40816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446040" y="1228680"/>
            <a:ext cx="825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Přenos genetické informace  v živých organismech vž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DNA </a:t>
            </a:r>
            <a:r>
              <a:rPr b="0" lang="en-US" sz="24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 RNA </a:t>
            </a:r>
            <a:r>
              <a:rPr b="0" lang="en-US" sz="24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 protei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Chemické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 složení D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95120" y="4746600"/>
            <a:ext cx="43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Asymetrický řetězec s jasně rozlišeným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ef2a8"/>
                </a:solidFill>
                <a:latin typeface="Arial"/>
              </a:rPr>
              <a:t>’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a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ef2a8"/>
                </a:solidFill>
                <a:latin typeface="Arial"/>
              </a:rPr>
              <a:t>’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konc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Polymer"/>
          <p:cNvPicPr/>
          <p:nvPr/>
        </p:nvPicPr>
        <p:blipFill>
          <a:blip r:embed="rId1"/>
          <a:stretch/>
        </p:blipFill>
        <p:spPr>
          <a:xfrm>
            <a:off x="4834080" y="1127160"/>
            <a:ext cx="4309920" cy="5268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Slozeni_retezce_DNA"/>
          <p:cNvPicPr/>
          <p:nvPr/>
        </p:nvPicPr>
        <p:blipFill>
          <a:blip r:embed="rId2"/>
          <a:stretch/>
        </p:blipFill>
        <p:spPr>
          <a:xfrm>
            <a:off x="4572000" y="1008000"/>
            <a:ext cx="4572000" cy="53881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244440" y="1415880"/>
            <a:ext cx="3654360" cy="265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NA je polymerní řetězec, vzniklý polymerac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nukleotidů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Nukleotid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=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ccff"/>
                </a:solidFill>
                <a:latin typeface="Arial"/>
              </a:rPr>
              <a:t>báze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+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eoxyribóza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+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9999"/>
                </a:solidFill>
                <a:latin typeface="Arial"/>
              </a:rPr>
              <a:t>fosfátová skup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38320" y="0"/>
            <a:ext cx="50673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spořádání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HelixChar"/>
          <p:cNvPicPr/>
          <p:nvPr/>
        </p:nvPicPr>
        <p:blipFill>
          <a:blip r:embed="rId1"/>
          <a:stretch/>
        </p:blipFill>
        <p:spPr>
          <a:xfrm>
            <a:off x="366840" y="1879560"/>
            <a:ext cx="8410320" cy="49784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147600" y="785880"/>
            <a:ext cx="884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NA je v buňkách ve formě dimeru tvořeného antiparalelně uspořádanými řetězci s komplementárním bázovým složení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5"/>
          <p:cNvGrpSpPr/>
          <p:nvPr/>
        </p:nvGrpSpPr>
        <p:grpSpPr>
          <a:xfrm>
            <a:off x="1392120" y="4334040"/>
            <a:ext cx="4886280" cy="1952640"/>
            <a:chOff x="1392120" y="4334040"/>
            <a:chExt cx="4886280" cy="1952640"/>
          </a:xfrm>
        </p:grpSpPr>
        <p:graphicFrame>
          <p:nvGraphicFramePr>
            <p:cNvPr id="76" name="Object 6"/>
            <p:cNvGraphicFramePr/>
            <p:nvPr/>
          </p:nvGraphicFramePr>
          <p:xfrm>
            <a:off x="3559320" y="4334040"/>
            <a:ext cx="2719080" cy="195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7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559320" y="4334040"/>
                      <a:ext cx="2719080" cy="1952640"/>
                    </a:xfrm>
                    <a:prstGeom prst="rect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78" name="Rectangle 7"/>
            <p:cNvSpPr/>
            <p:nvPr/>
          </p:nvSpPr>
          <p:spPr>
            <a:xfrm>
              <a:off x="1392120" y="4600440"/>
              <a:ext cx="1292400" cy="449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8"/>
            <p:cNvSpPr/>
            <p:nvPr/>
          </p:nvSpPr>
          <p:spPr>
            <a:xfrm flipV="1">
              <a:off x="1392120" y="4334040"/>
              <a:ext cx="2167200" cy="2664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9"/>
            <p:cNvSpPr/>
            <p:nvPr/>
          </p:nvSpPr>
          <p:spPr>
            <a:xfrm>
              <a:off x="1392120" y="5049720"/>
              <a:ext cx="2167200" cy="12369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sah buněčné genetické inform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47600" y="1047600"/>
            <a:ext cx="884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Kompletní genetická informace organismu =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gen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Prokaryota: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Genom obsahuje typicky jednotky tisíc genů. Existují však i primitivní bakterie s méně než 100 ge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Eukaryota: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Desetitisíce až statisíce genů v genomu. Primitivní eukaryota nemají o mnoho více genů než nejlépe geneticky vybavená prokaryo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(kvasinka </a:t>
            </a:r>
            <a:r>
              <a:rPr b="0" i="1" lang="cs-CZ" sz="2400" spc="-1" strike="noStrike">
                <a:solidFill>
                  <a:srgbClr val="fef2a8"/>
                </a:solidFill>
                <a:latin typeface="Arial"/>
              </a:rPr>
              <a:t>Saccharomy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ef2a8"/>
                </a:solidFill>
                <a:latin typeface="Arial"/>
              </a:rPr>
              <a:t>cerevisiae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má 6 tisíc genů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1595520" y="2738520"/>
            <a:ext cx="2409840" cy="690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rcRect l="0" t="7270" r="0" b="8482"/>
          <a:stretch/>
        </p:blipFill>
        <p:spPr>
          <a:xfrm>
            <a:off x="4572000" y="4498920"/>
            <a:ext cx="32418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98480" y="333000"/>
            <a:ext cx="327672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 g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sekvence_genu_lidskeho_betaglobinu"/>
          <p:cNvPicPr/>
          <p:nvPr/>
        </p:nvPicPr>
        <p:blipFill>
          <a:blip r:embed="rId1"/>
          <a:stretch/>
        </p:blipFill>
        <p:spPr>
          <a:xfrm>
            <a:off x="5148360" y="0"/>
            <a:ext cx="242892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gene_structure"/>
          <p:cNvPicPr/>
          <p:nvPr/>
        </p:nvPicPr>
        <p:blipFill>
          <a:blip r:embed="rId2"/>
          <a:stretch/>
        </p:blipFill>
        <p:spPr>
          <a:xfrm>
            <a:off x="0" y="3429000"/>
            <a:ext cx="48988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ložení DNA v buň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47600" y="901800"/>
            <a:ext cx="8848800" cy="558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Genom </a:t>
            </a: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prokaryot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je uložen v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jediné molekule DNA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, která je cyklick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V případě </a:t>
            </a:r>
            <a:r>
              <a:rPr b="0" lang="en-US" sz="2400" spc="-1" strike="noStrike" u="sng">
                <a:solidFill>
                  <a:srgbClr val="fef2a8"/>
                </a:solidFill>
                <a:uFillTx/>
                <a:latin typeface="Arial"/>
              </a:rPr>
              <a:t>eu</a:t>
            </a: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karyot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je genom představován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adou molekul DNA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, které jsou základem jednotlivých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hromosomů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apříklad somatické (nepohlavní) lidské buňky obsahují dvě sady po 23 chromosomech. V každém chromosomu je DNA o délce kolem 10 c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élka a počet DNA molekul v jádře vylučuje jejich volné uložení. Proto dochází k několikastupňové organizaci. Ta je maximální při přípravě pro buněčné dělení, kdy jsou zformovány chromosomy. Při ostatních životních fázích buňky dochází k částečnému rozvolněn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struktura DNA + podpůrné proteiny =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hroma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4T15:19:59Z</dcterms:created>
  <dc:creator>OFB</dc:creator>
  <dc:description/>
  <dc:language>en-US</dc:language>
  <cp:lastModifiedBy>ucitel</cp:lastModifiedBy>
  <dcterms:modified xsi:type="dcterms:W3CDTF">2011-04-29T06:01:04Z</dcterms:modified>
  <cp:revision>64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