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6.jpeg" ContentType="image/jpeg"/>
  <Override PartName="/ppt/media/image5.png" ContentType="image/png"/>
  <Override PartName="/ppt/media/image2.gif" ContentType="image/gif"/>
  <Override PartName="/ppt/media/image24.wmf" ContentType="image/x-wmf"/>
  <Override PartName="/ppt/media/image4.jpeg" ContentType="image/jpeg"/>
  <Override PartName="/ppt/media/image10.wmf" ContentType="image/x-wmf"/>
  <Override PartName="/ppt/media/image25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6464-53C1-4CFC-AC58-A6A5A55F9E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4DBC-11A2-4DC3-A721-161EBBE7035D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FCC-97F0-4354-827B-5CE52637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6F1-5090-44A2-B631-1E80793F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71C-A049-4FA5-8CBB-B599F00E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8D9-9705-45B7-AF43-9CFAF65D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CD09-5D7D-415D-A85B-5EC3E834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058F-6697-4469-870A-2643088F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4FCF-0728-4118-BF3E-555BD578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1C77-A8BB-4940-9799-5ECFF450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5C24-9DF2-46CE-8844-4DB3ED51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9EC0-5730-4AE6-AE9E-776B9F9E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4A54-4E29-4628-90F6-DD17366E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0E2-D9AA-4735-B100-E640751B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BD10-2484-4D82-B3B6-2E34320D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D597-8208-4D9A-9692-68475EA4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99CE-2BD7-4BBE-A16C-BBDC7AA6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4B38-939A-4389-B157-47014C6A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2DF3-9A8E-47E3-890A-DBAC8F51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DC1-2B9D-42BD-AE1A-D9AB8FD1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D8A-26CB-4606-AF30-2F90E9A1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5AF-171B-403F-A7C5-57F5320C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D58-30A1-420F-8320-D5147C23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3A0-0EF5-46D0-901E-A01EF818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F55-2954-43AE-AAF5-28D9873F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FD1-F964-42F4-B3EF-A640EE68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5423-5055-4FAE-B45D-3D0738BED57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CDE3-3B68-422A-A824-B1E7DE54F05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bi.ac.uk/thornton-srv/databases/enzymes/" TargetMode="External"/><Relationship Id="rId2" Type="http://schemas.openxmlformats.org/officeDocument/2006/relationships/hyperlink" Target="D:\Vyuka\C6320_Kinetika\Texty k p&#345;edn&#225;&#353;ce C6320\L09_Enzymy a adsorpce\Nukleove_kyseliny.pp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1219320" y="3733920"/>
            <a:ext cx="6324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1447920" y="2602080"/>
            <a:ext cx="3916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2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3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2:31:00Z</dcterms:modified>
  <cp:revision>148</cp:revision>
  <dc:subject/>
  <dc:title>C6730 Fázové rovnováhy</dc:title>
</cp:coreProperties>
</file>