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0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75B-BD47-42D0-A2E7-0950EDFA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0E2-0E8F-4E31-8597-00AD2FE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B84-55E8-48C2-9C53-EA34C453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12A4-97DD-4285-BA4D-B446D939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463-B857-4B8F-9E2C-A1CE6140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A5D-ACC4-4A8D-8AAA-9FDF7360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020-AC09-4B80-83CF-3A711CEF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3A6-16B2-47A4-9AC3-83B411F2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D23-A055-40F3-A85B-3C7795E9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BCD-CEDE-477D-924D-38C2DB31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495-BAF8-4F52-B89D-7F37DFC4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2D0-E6A3-41A1-B20E-C47873FF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388A-E35B-4CFD-8A7F-9BDFE7CF32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0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31258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extovéPole 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  <p:sp>
        <p:nvSpPr>
          <p:cNvPr id="47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979560" y="6093000"/>
            <a:ext cx="53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konverze v jednotce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3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1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2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3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4642200" y="1700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3212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3"/>
          <p:cNvSpPr/>
          <p:nvPr/>
        </p:nvSpPr>
        <p:spPr>
          <a:xfrm>
            <a:off x="179280" y="6004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xtovéPole 1" descr=""/>
          <p:cNvPicPr/>
          <p:nvPr/>
        </p:nvPicPr>
        <p:blipFill>
          <a:blip r:embed="rId4"/>
          <a:stretch/>
        </p:blipFill>
        <p:spPr>
          <a:xfrm>
            <a:off x="4395960" y="3438360"/>
            <a:ext cx="49356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1.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914400" y="152388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67652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863640" y="328464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306864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\ r = k[A]"/>
          <p:cNvPicPr/>
          <p:nvPr/>
        </p:nvPicPr>
        <p:blipFill>
          <a:blip r:embed="rId4"/>
          <a:stretch/>
        </p:blipFill>
        <p:spPr>
          <a:xfrm>
            <a:off x="7524720" y="187812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55584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2"/>
          <p:cNvSpPr/>
          <p:nvPr/>
        </p:nvSpPr>
        <p:spPr>
          <a:xfrm>
            <a:off x="4643280" y="1916280"/>
            <a:ext cx="3961080" cy="228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ze zvolené výchozí hodnoty A na hodnotu ½ 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7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6"/>
          <p:cNvSpPr/>
          <p:nvPr/>
        </p:nvSpPr>
        <p:spPr>
          <a:xfrm>
            <a:off x="4740120" y="22766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16T12:58:26Z</dcterms:modified>
  <cp:revision>124</cp:revision>
  <dc:subject/>
  <dc:title>Soustava</dc:title>
</cp:coreProperties>
</file>