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CA26-0C11-44FF-8EC6-14E410A65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EF42-AD33-4175-AF59-990DE0934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7E22-F8F0-4338-BAE7-312A1E257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2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0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4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2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0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29B6-D9DF-47DA-A50C-9A46A6542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68881-1E2C-4D74-A535-64E3EE9CC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BEF85-D81D-4D2D-8F59-99B5B39A7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CABE0-15A2-46B6-8199-A60BBF803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A52E4-131D-4FF2-8C8E-7B3928B25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7A07B-5879-4E73-B7E6-CBF86F76E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4000" y="609120"/>
            <a:ext cx="8078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E8CB3-4DFD-4914-9513-732801FAC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19E86-0AB9-4EE7-9AB5-8D4D17D4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4315-E1CA-4352-843D-7B43913E5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6EB87-E9DA-47A0-A737-C033CCC34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34FB3-E93F-4946-9C0A-7929C7A96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D3922-73D0-42A5-A54B-8B6748F2C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CD99C-F9C2-44AC-A6DB-3A568F723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2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0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4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2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0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491A0-9B80-4C26-916C-7620F32BF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AA59-6857-4CC3-A4CF-74F5F06E4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6C63-536B-48EE-890F-AF1F686E0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2FF6-B016-41AC-8486-1BDA0585C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4000" y="609120"/>
            <a:ext cx="8078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6A60-4461-48E1-A18E-00F59A0CA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7433-4D08-4E1B-BD77-6079C899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B92F-8E5D-4582-962E-CD131A87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794B-2CC8-4836-8DE6-CBD096E7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2f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4000" y="6365880"/>
            <a:ext cx="4267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D75B0-AF23-4103-B3D0-CC39375458D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2f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3ABD0-9646-4D74-B6D0-0FC66AB4A5F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jergym.hiedu.cz/~canovm/mechanic/pravidl2/haber/haber.html" TargetMode="External"/><Relationship Id="rId2" Type="http://schemas.openxmlformats.org/officeDocument/2006/relationships/hyperlink" Target="http://www.jergym.hiedu.cz/~canovm/mechanic/pravidl2/haber/haber.html" TargetMode="External"/><Relationship Id="rId3" Type="http://schemas.openxmlformats.org/officeDocument/2006/relationships/hyperlink" Target="http://www.jergym.hiedu.cz/~canovm/mechanic/pravidl2/haber/haber.html" TargetMode="External"/><Relationship Id="rId4" Type="http://schemas.openxmlformats.org/officeDocument/2006/relationships/hyperlink" Target="http://www.jergym.hiedu.cz/~canovm/mechanic/pravidl2/haber/haber.html" TargetMode="External"/><Relationship Id="rId5" Type="http://schemas.openxmlformats.org/officeDocument/2006/relationships/hyperlink" Target="http://www.jergym.hiedu.cz/~canovm/mechanic/pravidl2/haber/haber.html" TargetMode="External"/><Relationship Id="rId6" Type="http://schemas.openxmlformats.org/officeDocument/2006/relationships/hyperlink" Target="http://www.jergym.hiedu.cz/~canovm/mechanic/pravidl2/haber/haber.html" TargetMode="External"/><Relationship Id="rId7" Type="http://schemas.openxmlformats.org/officeDocument/2006/relationships/hyperlink" Target="http://www.jergym.hiedu.cz/~canovm/mechanic/pravidl2/haber/haber.html" TargetMode="External"/><Relationship Id="rId8" Type="http://schemas.openxmlformats.org/officeDocument/2006/relationships/hyperlink" Target="http://www.jergym.hiedu.cz/~canovm/mechanic/pravidl2/haber/haber.html" TargetMode="External"/><Relationship Id="rId9" Type="http://schemas.openxmlformats.org/officeDocument/2006/relationships/hyperlink" Target="http://www.jergym.hiedu.cz/~canovm/mechanic/pravidl2/haber/haber.html" TargetMode="External"/><Relationship Id="rId10" Type="http://schemas.openxmlformats.org/officeDocument/2006/relationships/hyperlink" Target="http://www.jergym.hiedu.cz/~canovm/mechanic/pravidl2/haber/haber.html" TargetMode="External"/><Relationship Id="rId11" Type="http://schemas.openxmlformats.org/officeDocument/2006/relationships/hyperlink" Target="http://www.jergym.hiedu.cz/~canovm/mechanic/pravidl2/haber/haber.html" TargetMode="External"/><Relationship Id="rId12" Type="http://schemas.openxmlformats.org/officeDocument/2006/relationships/hyperlink" Target="http://www.jergym.hiedu.cz/~canovm/mechanic/pravidl2/haber/haber.html" TargetMode="External"/><Relationship Id="rId13" Type="http://schemas.openxmlformats.org/officeDocument/2006/relationships/hyperlink" Target="http://www.jergym.hiedu.cz/~canovm/mechanic/pravidl2/haber/haber.html" TargetMode="External"/><Relationship Id="rId14" Type="http://schemas.openxmlformats.org/officeDocument/2006/relationships/hyperlink" Target="http://www.jergym.hiedu.cz/~canovm/mechanic/pravidl2/haber/haber.html" TargetMode="External"/><Relationship Id="rId15" Type="http://schemas.openxmlformats.org/officeDocument/2006/relationships/hyperlink" Target="http://www.jergym.hiedu.cz/~canovm/mechanic/pravidl2/haber/haber.html" TargetMode="External"/><Relationship Id="rId16" Type="http://schemas.openxmlformats.org/officeDocument/2006/relationships/hyperlink" Target="http://www.jergym.hiedu.cz/~canovm/mechanic/pravidl2/haber/haber.html" TargetMode="External"/><Relationship Id="rId17" Type="http://schemas.openxmlformats.org/officeDocument/2006/relationships/hyperlink" Target="http://dl.cuni.cz/cuni/mod/resource/view.php?id=9459" TargetMode="External"/><Relationship Id="rId18" Type="http://schemas.openxmlformats.org/officeDocument/2006/relationships/hyperlink" Target="http://dl.cuni.cz/cuni/mod/resource/view.php?id=9459" TargetMode="External"/><Relationship Id="rId19" Type="http://schemas.openxmlformats.org/officeDocument/2006/relationships/hyperlink" Target="http://dl.cuni.cz/cuni/mod/resource/view.php?id=9459" TargetMode="External"/><Relationship Id="rId20" Type="http://schemas.openxmlformats.org/officeDocument/2006/relationships/hyperlink" Target="http://dl.cuni.cz/cuni/mod/resource/view.php?id=9459" TargetMode="External"/><Relationship Id="rId21" Type="http://schemas.openxmlformats.org/officeDocument/2006/relationships/hyperlink" Target="http://dl.cuni.cz/cuni/mod/resource/view.php?id=9459" TargetMode="External"/><Relationship Id="rId22" Type="http://schemas.openxmlformats.org/officeDocument/2006/relationships/hyperlink" Target="http://dl.cuni.cz/cuni/mod/resource/view.php?id=9459" TargetMode="External"/><Relationship Id="rId23" Type="http://schemas.openxmlformats.org/officeDocument/2006/relationships/hyperlink" Target="http://dl.cuni.cz/cuni/mod/resource/view.php?id=9459" TargetMode="External"/><Relationship Id="rId24" Type="http://schemas.openxmlformats.org/officeDocument/2006/relationships/hyperlink" Target="http://dl.cuni.cz/cuni/mod/resource/view.php?id=9459" TargetMode="External"/><Relationship Id="rId25" Type="http://schemas.openxmlformats.org/officeDocument/2006/relationships/hyperlink" Target="http://dl.cuni.cz/cuni/mod/resource/view.php?id=9459" TargetMode="External"/><Relationship Id="rId26" Type="http://schemas.openxmlformats.org/officeDocument/2006/relationships/hyperlink" Target="http://dl.cuni.cz/cuni/mod/resource/view.php?id=9459" TargetMode="External"/><Relationship Id="rId27" Type="http://schemas.openxmlformats.org/officeDocument/2006/relationships/hyperlink" Target="http://dl.cuni.cz/cuni/mod/resource/view.php?id=9459" TargetMode="External"/><Relationship Id="rId28" Type="http://schemas.openxmlformats.org/officeDocument/2006/relationships/hyperlink" Target="http://dl.cuni.cz/cuni/mod/resource/view.php?id=9459" TargetMode="External"/><Relationship Id="rId29" Type="http://schemas.openxmlformats.org/officeDocument/2006/relationships/hyperlink" Target="http://dl.cuni.cz/cuni/mod/resource/view.php?id=9459" TargetMode="External"/><Relationship Id="rId30" Type="http://schemas.openxmlformats.org/officeDocument/2006/relationships/hyperlink" Target="http://dl.cuni.cz/cuni/mod/resource/view.php?id=9459" TargetMode="External"/><Relationship Id="rId31" Type="http://schemas.openxmlformats.org/officeDocument/2006/relationships/hyperlink" Target="http://dl.cuni.cz/cuni/mod/resource/view.php?id=9459" TargetMode="External"/><Relationship Id="rId32" Type="http://schemas.openxmlformats.org/officeDocument/2006/relationships/hyperlink" Target="http://dl.cuni.cz/cuni/mod/resource/view.php?id=9459" TargetMode="External"/><Relationship Id="rId33" Type="http://schemas.openxmlformats.org/officeDocument/2006/relationships/hyperlink" Target="http://dl.cuni.cz/cuni/mod/resource/view.php?id=9459" TargetMode="External"/><Relationship Id="rId34" Type="http://schemas.openxmlformats.org/officeDocument/2006/relationships/hyperlink" Target="http://www.jergym.hiedu.cz/~canovm/mechanic/pravidl2.html" TargetMode="External"/><Relationship Id="rId35" Type="http://schemas.openxmlformats.org/officeDocument/2006/relationships/hyperlink" Target="http://www.jergym.hiedu.cz/~canovm/mechanic/pravidl2.html" TargetMode="External"/><Relationship Id="rId36" Type="http://schemas.openxmlformats.org/officeDocument/2006/relationships/hyperlink" Target="http://www.jergym.hiedu.cz/~canovm/mechanic/pravidl2.html" TargetMode="External"/><Relationship Id="rId37" Type="http://schemas.openxmlformats.org/officeDocument/2006/relationships/hyperlink" Target="http://www.jergym.hiedu.cz/~canovm/mechanic/pravidl2.html" TargetMode="External"/><Relationship Id="rId38" Type="http://schemas.openxmlformats.org/officeDocument/2006/relationships/hyperlink" Target="http://www.jergym.hiedu.cz/~canovm/mechanic/pravidl2.html" TargetMode="External"/><Relationship Id="rId39" Type="http://schemas.openxmlformats.org/officeDocument/2006/relationships/hyperlink" Target="http://www.jergym.hiedu.cz/~canovm/mechanic/pravidl2.html" TargetMode="External"/><Relationship Id="rId40" Type="http://schemas.openxmlformats.org/officeDocument/2006/relationships/hyperlink" Target="http://www.jergym.hiedu.cz/~canovm/mechanic/pravidl2.html" TargetMode="External"/><Relationship Id="rId41" Type="http://schemas.openxmlformats.org/officeDocument/2006/relationships/hyperlink" Target="http://www.jergym.hiedu.cz/~canovm/mechanic/pravidl2.html" TargetMode="External"/><Relationship Id="rId42" Type="http://schemas.openxmlformats.org/officeDocument/2006/relationships/hyperlink" Target="http://www.jergym.hiedu.cz/~canovm/mechanic/pravidl2.html" TargetMode="External"/><Relationship Id="rId43" Type="http://schemas.openxmlformats.org/officeDocument/2006/relationships/hyperlink" Target="http://www.jergym.hiedu.cz/~canovm/mechanic/pravidl2.html" TargetMode="External"/><Relationship Id="rId44" Type="http://schemas.openxmlformats.org/officeDocument/2006/relationships/hyperlink" Target="http://www.jergym.hiedu.cz/~canovm/mechanic/pravidl2.html" TargetMode="External"/><Relationship Id="rId45" Type="http://schemas.openxmlformats.org/officeDocument/2006/relationships/hyperlink" Target="http://www.jergym.hiedu.cz/~canovm/mechanic/pravidl2.html" TargetMode="External"/><Relationship Id="rId4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Haber-Boshova syntéza amoniaku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(aneb počátek blahobytu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opousek, L01_02 Chemická kineti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24FA8-F436-4C95-8D63-4FCA1DAC148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dkazy na 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obelova cena (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"/>
              </a:rPr>
              <a:t>http://www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"/>
              </a:rPr>
              <a:t>jergy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"/>
              </a:rPr>
              <a:t>hiedu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5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6"/>
              </a:rPr>
              <a:t>cz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7"/>
              </a:rPr>
              <a:t>/~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8"/>
              </a:rPr>
              <a:t>canov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9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0"/>
              </a:rPr>
              <a:t>mechanic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1"/>
              </a:rPr>
              <a:t>/pravidl2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2"/>
              </a:rPr>
              <a:t>haber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3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4"/>
              </a:rPr>
              <a:t>haber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5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6"/>
              </a:rPr>
              <a:t>htm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imace výroby NH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ovnice: 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7"/>
              </a:rPr>
              <a:t>http:/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8"/>
              </a:rPr>
              <a:t>dl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9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0"/>
              </a:rPr>
              <a:t>cuni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1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2"/>
              </a:rPr>
              <a:t>cz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3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4"/>
              </a:rPr>
              <a:t>cuni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5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6"/>
              </a:rPr>
              <a:t>mod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7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8"/>
              </a:rPr>
              <a:t>resource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9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0"/>
              </a:rPr>
              <a:t>view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1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2"/>
              </a:rPr>
              <a:t>php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3"/>
              </a:rPr>
              <a:t>?id=9459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alší odkazy na významné reakce organických chemik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4"/>
              </a:rPr>
              <a:t>http://www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5"/>
              </a:rPr>
              <a:t>jergy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6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7"/>
              </a:rPr>
              <a:t>hiedu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8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9"/>
              </a:rPr>
              <a:t>cz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0"/>
              </a:rPr>
              <a:t>/~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1"/>
              </a:rPr>
              <a:t>canov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2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3"/>
              </a:rPr>
              <a:t>mechanic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4"/>
              </a:rPr>
              <a:t>/pravidl2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5"/>
              </a:rPr>
              <a:t>htm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354E-128F-44A8-8019-2138851973B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moni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6000"/>
          </a:bodyPr>
          <a:p>
            <a:pPr marL="329040" indent="-32904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lastní syntéza amoniaku ze syntézní směsi N2 a H2 probíhá katalytickou reakcí při vysokém tlaku a teplotě (20-100 kPa, 500) podle rovnice: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2 + 3H2 --------&gt; 2 NH3 + 46,05 kJ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robený amoniak může být používán k přímému hnojení, nebo je výchozí surovinou pro výrobu kyseliny dusičné, ledků, močoviny, N roztoků, vícesložkových hnojiv.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roba dusíkatých hnojiv je energeticky náročná. Na výrobu 1 kg čistého N v hnojivu je zapotřebí podle druhu použité technologie 1,5 i více litrů nafty.</a:t>
            </a:r>
            <a:br>
              <a:rPr sz="2000"/>
            </a:br>
            <a:br>
              <a:rPr sz="2000"/>
            </a:b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5791-6EAD-4780-879E-19616A8DD08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opoušek Jiří</cp:lastModifiedBy>
  <dcterms:modified xsi:type="dcterms:W3CDTF">2010-02-22T13:28:48Z</dcterms:modified>
  <cp:revision>22</cp:revision>
  <dc:subject/>
  <dc:title>Prezentace aplikace PowerPoint</dc:title>
</cp:coreProperties>
</file>