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12.png" ContentType="image/png"/>
  <Override PartName="/ppt/media/image9.wmf" ContentType="image/x-wmf"/>
  <Override PartName="/ppt/media/image34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32.png" ContentType="image/png"/>
  <Override PartName="/ppt/media/image15.wmf" ContentType="image/x-wmf"/>
  <Override PartName="/ppt/media/image5.png" ContentType="image/png"/>
  <Override PartName="/ppt/media/image35.png" ContentType="image/png"/>
  <Override PartName="/ppt/media/image20.png" ContentType="image/png"/>
  <Override PartName="/ppt/media/image18.wmf" ContentType="image/x-wmf"/>
  <Override PartName="/ppt/media/image36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6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A58A-73E2-499F-BE73-C9DBB9A3E72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97A0-525C-44AE-B8EC-4D8D936A1987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7976-13C0-4AA9-A5C5-1DFD968E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5FFE-8B1B-4906-9E65-1133E634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E11C-9026-4056-96EF-A3D68D6B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4CAC-D683-441E-9FE4-98699989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DDAE-56EB-44A5-92DB-2F44C2B9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89DB-7AA2-42BE-97DC-6EC2E849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7ADF-7952-4521-9B5D-B59982B3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77A1-1860-4B1B-983F-C64FA3E4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0717-94AB-48BB-96FE-224138AA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311E-65F4-44DA-92EA-946958FB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0907-52F0-4911-B43B-0C3A97E3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3121-B2D3-4D3A-89D5-0D5DB174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BF8E-25AD-44D8-AB14-BE490A62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3F7C-A106-4D40-9124-370A3A48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60D7-EAAC-4760-B25E-72F2FB8B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E703-A764-421C-AE2A-9E7E485F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44FD-085C-4D3D-9C08-4510584F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5787-4DE0-40D7-96A0-C6E380B5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323B-705F-4F90-9CAF-8EEEC37D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0C6A-B691-4B1B-9044-6406CB09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4B70-0717-4DFA-A5F1-1EEA304C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B775-3B29-4886-87AD-513381C8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82A8-ABC8-4F59-A075-BA2058A5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B5F6-2715-4782-A495-0E7225A2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BA9E-EBBF-4A0C-A586-4B1B2C60764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9981-3BF4-4F6B-8DE3-6647B5C2E6B0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ermodynamics of chemical reactions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49" name="Picture 4" descr="C:\Documents and Settings\Sopoušek\Dokumenty\Obrázky\Chemické reakce\reakce barevná.bmp"/>
          <p:cNvPicPr/>
          <p:nvPr/>
        </p:nvPicPr>
        <p:blipFill>
          <a:blip r:embed="rId1"/>
          <a:stretch/>
        </p:blipFill>
        <p:spPr>
          <a:xfrm>
            <a:off x="4114800" y="2286000"/>
            <a:ext cx="41148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304920" y="1268280"/>
            <a:ext cx="8839080" cy="5589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"/>
          <p:cNvSpPr/>
          <p:nvPr/>
        </p:nvSpPr>
        <p:spPr>
          <a:xfrm>
            <a:off x="609480" y="228600"/>
            <a:ext cx="7772400" cy="896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Reaction c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lassification (one of the view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TextovéPole 1"/>
          <p:cNvSpPr/>
          <p:nvPr/>
        </p:nvSpPr>
        <p:spPr>
          <a:xfrm>
            <a:off x="2843280" y="1484280"/>
            <a:ext cx="2881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Chemical reac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TextovéPole 6"/>
          <p:cNvSpPr/>
          <p:nvPr/>
        </p:nvSpPr>
        <p:spPr>
          <a:xfrm>
            <a:off x="900000" y="2098800"/>
            <a:ext cx="1584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Element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(one ste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TextovéPole 7"/>
          <p:cNvSpPr/>
          <p:nvPr/>
        </p:nvSpPr>
        <p:spPr>
          <a:xfrm>
            <a:off x="4572000" y="2205000"/>
            <a:ext cx="38098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Complex – Non -Element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(seqyunce of elementary reaction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TextovéPole 8"/>
          <p:cNvSpPr/>
          <p:nvPr/>
        </p:nvSpPr>
        <p:spPr>
          <a:xfrm>
            <a:off x="682560" y="285912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Monomolecu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ovéPole 10"/>
          <p:cNvSpPr/>
          <p:nvPr/>
        </p:nvSpPr>
        <p:spPr>
          <a:xfrm>
            <a:off x="682560" y="342900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bimolecu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ovéPole 11"/>
          <p:cNvSpPr/>
          <p:nvPr/>
        </p:nvSpPr>
        <p:spPr>
          <a:xfrm>
            <a:off x="682560" y="404352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trimolecu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ovéPole 12"/>
          <p:cNvSpPr/>
          <p:nvPr/>
        </p:nvSpPr>
        <p:spPr>
          <a:xfrm>
            <a:off x="2843280" y="3032280"/>
            <a:ext cx="2520720" cy="368280"/>
          </a:xfrm>
          <a:prstGeom prst="rect">
            <a:avLst/>
          </a:prstGeom>
          <a:solidFill>
            <a:srgbClr val="ecdb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Open sequenc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ovéPole 13"/>
          <p:cNvSpPr/>
          <p:nvPr/>
        </p:nvSpPr>
        <p:spPr>
          <a:xfrm>
            <a:off x="6012000" y="3063960"/>
            <a:ext cx="2520720" cy="368280"/>
          </a:xfrm>
          <a:prstGeom prst="rect">
            <a:avLst/>
          </a:prstGeom>
          <a:solidFill>
            <a:srgbClr val="ecdb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Cyclic sequenc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ovéPole 14"/>
          <p:cNvSpPr/>
          <p:nvPr/>
        </p:nvSpPr>
        <p:spPr>
          <a:xfrm>
            <a:off x="2843280" y="3443400"/>
            <a:ext cx="18000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onsequ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ovéPole 16"/>
          <p:cNvSpPr/>
          <p:nvPr/>
        </p:nvSpPr>
        <p:spPr>
          <a:xfrm>
            <a:off x="2846520" y="406404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ompetitiv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ovéPole 17"/>
          <p:cNvSpPr/>
          <p:nvPr/>
        </p:nvSpPr>
        <p:spPr>
          <a:xfrm>
            <a:off x="2803680" y="5157720"/>
            <a:ext cx="18810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Equilibriu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ovéPole 18"/>
          <p:cNvSpPr/>
          <p:nvPr/>
        </p:nvSpPr>
        <p:spPr>
          <a:xfrm>
            <a:off x="5165640" y="4508640"/>
            <a:ext cx="1692360" cy="824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hain rea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(Compsumtion of active center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TextovéPole 19"/>
          <p:cNvSpPr/>
          <p:nvPr/>
        </p:nvSpPr>
        <p:spPr>
          <a:xfrm>
            <a:off x="6948360" y="4581360"/>
            <a:ext cx="2195640" cy="824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atalyt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(Stational concentration of  active center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TextovéPole 21"/>
          <p:cNvSpPr/>
          <p:nvPr/>
        </p:nvSpPr>
        <p:spPr>
          <a:xfrm>
            <a:off x="5219640" y="5511960"/>
            <a:ext cx="3313080" cy="337320"/>
          </a:xfrm>
          <a:prstGeom prst="rect">
            <a:avLst/>
          </a:prstGeom>
          <a:solidFill>
            <a:srgbClr val="ab7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Linear (one cycl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TextovéPole 22"/>
          <p:cNvSpPr/>
          <p:nvPr/>
        </p:nvSpPr>
        <p:spPr>
          <a:xfrm>
            <a:off x="5240160" y="6002280"/>
            <a:ext cx="3313440" cy="337320"/>
          </a:xfrm>
          <a:prstGeom prst="rect">
            <a:avLst/>
          </a:prstGeom>
          <a:solidFill>
            <a:srgbClr val="ab7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Branched (several cyc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scussion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5" name="Picture 4" descr="C:\Documents and Settings\Sopoušek\Dokumenty\Obrázky\Chemické reakce\reakce ch4+H2o.gif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454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C:\Documents and Settings\Sopoušek\Dokumenty\Obrázky\Chemické reakce\H2_O2.gif"/>
          <p:cNvPicPr/>
          <p:nvPr/>
        </p:nvPicPr>
        <p:blipFill>
          <a:blip r:embed="rId2"/>
          <a:stretch/>
        </p:blipFill>
        <p:spPr>
          <a:xfrm>
            <a:off x="5638680" y="43434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6"/>
          <p:cNvSpPr/>
          <p:nvPr/>
        </p:nvSpPr>
        <p:spPr>
          <a:xfrm>
            <a:off x="6324480" y="1295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ind mistake!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212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Termodynamic reasons of  reactions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ontaneous processes are accompanied by the growth of entropy (see explanation lit.: Olmsted)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tropy of pure substances and compounds can be calculated from 3.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sentence of thermodynamic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 a closed system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onstant P and T is the Gibbs energy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(Free entalpy) th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riterion of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stability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 a closed system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onstant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T is the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Helmholz (Free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energy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th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riterion of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stability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4"/>
          <a:stretch/>
        </p:blipFill>
        <p:spPr>
          <a:xfrm>
            <a:off x="1403280" y="5229360"/>
            <a:ext cx="2454480" cy="461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4859280" y="5229360"/>
            <a:ext cx="2590920" cy="4597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F=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U-T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87480"/>
            <a:ext cx="693432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How is the Gibbs energy of a chemical reaction?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33224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80880" y="10666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or examp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2133720" cy="1039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7791480" cy="558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3"/>
          <a:stretch/>
        </p:blipFill>
        <p:spPr>
          <a:xfrm>
            <a:off x="990720" y="4952880"/>
            <a:ext cx="2361960" cy="1009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4"/>
          <a:stretch/>
        </p:blipFill>
        <p:spPr>
          <a:xfrm>
            <a:off x="2438280" y="6095880"/>
            <a:ext cx="1184400" cy="532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>
            <a:off x="38088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In equilibrium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33548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2"/>
              <p:cNvSpPr txBox="1"/>
              <p:nvPr/>
            </p:nvSpPr>
            <p:spPr>
              <a:xfrm>
                <a:off x="2895480" y="990720"/>
                <a:ext cx="18288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4" name="Picture 15" descr=""/>
          <p:cNvPicPr/>
          <p:nvPr/>
        </p:nvPicPr>
        <p:blipFill>
          <a:blip r:embed="rId5"/>
          <a:stretch/>
        </p:blipFill>
        <p:spPr>
          <a:xfrm>
            <a:off x="5486400" y="838080"/>
            <a:ext cx="3429000" cy="3408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6"/>
          <p:cNvSpPr/>
          <p:nvPr/>
        </p:nvSpPr>
        <p:spPr>
          <a:xfrm>
            <a:off x="228600" y="19810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Extent of reac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6" name="Picture 17" descr=""/>
          <p:cNvPicPr/>
          <p:nvPr/>
        </p:nvPicPr>
        <p:blipFill>
          <a:blip r:embed="rId6"/>
          <a:stretch/>
        </p:blipFill>
        <p:spPr>
          <a:xfrm>
            <a:off x="457200" y="3352680"/>
            <a:ext cx="1371600" cy="420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"/>
          <p:cNvPicPr/>
          <p:nvPr/>
        </p:nvPicPr>
        <p:blipFill>
          <a:blip r:embed="rId7"/>
          <a:stretch/>
        </p:blipFill>
        <p:spPr>
          <a:xfrm>
            <a:off x="457200" y="2819520"/>
            <a:ext cx="1295280" cy="4521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9"/>
          <p:cNvSpPr/>
          <p:nvPr/>
        </p:nvSpPr>
        <p:spPr>
          <a:xfrm>
            <a:off x="4114800" y="525780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chemical reaction causes effort to reduce G system (integr. condition), which react so long as there is a leveling of the chemical potential (differential cond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3505320" y="1295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0" name="Picture 21" descr=""/>
          <p:cNvPicPr/>
          <p:nvPr/>
        </p:nvPicPr>
        <p:blipFill>
          <a:blip r:embed="rId8"/>
          <a:stretch/>
        </p:blipFill>
        <p:spPr>
          <a:xfrm>
            <a:off x="2514600" y="1752480"/>
            <a:ext cx="25909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013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Gibbs energy of reaction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324840" cy="8906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3173760" y="1066680"/>
            <a:ext cx="22006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+3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2 N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581280" y="2590920"/>
            <a:ext cx="1371600" cy="6904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0" y="266688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The general mathematical notation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3809880" cy="843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4"/>
          <a:stretch/>
        </p:blipFill>
        <p:spPr>
          <a:xfrm>
            <a:off x="6019920" y="3429000"/>
            <a:ext cx="2286000" cy="873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0"/>
          <p:cNvSpPr/>
          <p:nvPr/>
        </p:nvSpPr>
        <p:spPr>
          <a:xfrm>
            <a:off x="4724280" y="3657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Else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5"/>
          <a:stretch/>
        </p:blipFill>
        <p:spPr>
          <a:xfrm>
            <a:off x="609480" y="5013360"/>
            <a:ext cx="2971800" cy="7444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2"/>
          <p:cNvSpPr/>
          <p:nvPr/>
        </p:nvSpPr>
        <p:spPr>
          <a:xfrm>
            <a:off x="3886200" y="51055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where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Picture 13" descr=""/>
          <p:cNvPicPr/>
          <p:nvPr/>
        </p:nvPicPr>
        <p:blipFill>
          <a:blip r:embed="rId6"/>
          <a:stretch/>
        </p:blipFill>
        <p:spPr>
          <a:xfrm>
            <a:off x="4800600" y="4952880"/>
            <a:ext cx="914400" cy="641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4"/>
          <p:cNvSpPr/>
          <p:nvPr/>
        </p:nvSpPr>
        <p:spPr>
          <a:xfrm>
            <a:off x="6629400" y="5105520"/>
            <a:ext cx="19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For exampl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41259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37450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8"/>
              <p:cNvSpPr txBox="1"/>
              <p:nvPr/>
            </p:nvSpPr>
            <p:spPr>
              <a:xfrm>
                <a:off x="5943600" y="5562720"/>
                <a:ext cx="25797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≃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Text Box 20"/>
          <p:cNvSpPr/>
          <p:nvPr/>
        </p:nvSpPr>
        <p:spPr>
          <a:xfrm>
            <a:off x="533520" y="5943600"/>
            <a:ext cx="4876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reaction runs until Q reaches its equilibrium value (K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43080" y="3860640"/>
            <a:ext cx="8800920" cy="29973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280" y="210600"/>
            <a:ext cx="878544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The changes of thermodynamic functions and spontaneity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6689880" y="2666880"/>
            <a:ext cx="2454120" cy="4622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304920" y="242424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Low temperature prevails enthalpy contribution </a:t>
            </a:r>
            <a:br>
              <a:rPr sz="2400"/>
            </a:b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High temperature prevails entropic contribu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1360" y="186840"/>
            <a:ext cx="807876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tability of gypsum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25040" cy="2252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7925040" cy="743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3"/>
          <a:stretch/>
        </p:blipFill>
        <p:spPr>
          <a:xfrm>
            <a:off x="2971800" y="1143000"/>
            <a:ext cx="289548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725976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Calculations of thermodynamic functions</a:t>
            </a: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 of </a:t>
            </a: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eaction</a:t>
            </a: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571680" y="1981080"/>
            <a:ext cx="8001000" cy="7588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684360" y="1295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rom formatio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Gibbs energy of the reactants 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04920" y="29718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nalogously to the enthalpy and entropy: .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960" y="186840"/>
            <a:ext cx="762156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ell effectivit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746280" y="2362320"/>
            <a:ext cx="7650000" cy="6951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304920" y="1981080"/>
            <a:ext cx="46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2) Simple oxidation of glucose 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04920" y="914400"/>
            <a:ext cx="462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1) Total reaction inside cellreakce v buňc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2"/>
          <a:stretch/>
        </p:blipFill>
        <p:spPr>
          <a:xfrm>
            <a:off x="419040" y="1371600"/>
            <a:ext cx="8305920" cy="6746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04920" y="2971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3) Conversion 36 ADP to 36 ATP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3"/>
          <a:stretch/>
        </p:blipFill>
        <p:spPr>
          <a:xfrm>
            <a:off x="495360" y="3429000"/>
            <a:ext cx="8153280" cy="538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"/>
          <p:cNvPicPr/>
          <p:nvPr/>
        </p:nvPicPr>
        <p:blipFill>
          <a:blip r:embed="rId4"/>
          <a:stretch/>
        </p:blipFill>
        <p:spPr>
          <a:xfrm>
            <a:off x="1752480" y="4572000"/>
            <a:ext cx="4343400" cy="485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304920" y="4114800"/>
            <a:ext cx="837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overall effect of the combination of reactions in the cell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2) a (3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09480" y="52578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sult: Although 1100kJ is stored in ATP, the rest (ie 1770kJ) is not used and is converted into the thermal motion.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j. cell efficiency is 38%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77880" y="692280"/>
            <a:ext cx="74073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Basic relations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1268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4057560" cy="1930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3"/>
          <a:stretch/>
        </p:blipFill>
        <p:spPr>
          <a:xfrm>
            <a:off x="3048120" y="5105520"/>
            <a:ext cx="3047760" cy="600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"/>
          <p:cNvPicPr/>
          <p:nvPr/>
        </p:nvPicPr>
        <p:blipFill>
          <a:blip r:embed="rId4"/>
          <a:stretch/>
        </p:blipFill>
        <p:spPr>
          <a:xfrm>
            <a:off x="2514600" y="6019920"/>
            <a:ext cx="2895480" cy="495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5"/>
          <a:stretch/>
        </p:blipFill>
        <p:spPr>
          <a:xfrm>
            <a:off x="5638680" y="5943600"/>
            <a:ext cx="2286000" cy="6224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8"/>
          <p:cNvSpPr/>
          <p:nvPr/>
        </p:nvSpPr>
        <p:spPr>
          <a:xfrm>
            <a:off x="762120" y="51055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Possible effect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28600" y="6019920"/>
            <a:ext cx="21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In equilibriu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4-02-19T17:09:19Z</dcterms:modified>
  <cp:revision>56</cp:revision>
  <dc:subject/>
  <dc:title>C6730 Fázové rovnováhy</dc:title>
</cp:coreProperties>
</file>