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30.png" ContentType="image/png"/>
  <Override PartName="/ppt/media/image37.jpeg" ContentType="image/jpeg"/>
  <Override PartName="/ppt/media/image33.wmf" ContentType="image/x-wmf"/>
  <Override PartName="/ppt/media/image13.png" ContentType="image/png"/>
  <Override PartName="/ppt/media/image32.png" ContentType="image/png"/>
  <Override PartName="/ppt/media/image34.wmf" ContentType="image/x-wmf"/>
  <Override PartName="/ppt/media/image35.wmf" ContentType="image/x-wmf"/>
  <Override PartName="/ppt/media/image40.wmf" ContentType="image/x-wmf"/>
  <Override PartName="/ppt/media/image41.png" ContentType="image/png"/>
  <Override PartName="/ppt/media/image42.wmf" ContentType="image/x-wmf"/>
  <Override PartName="/ppt/media/image43.png" ContentType="image/png"/>
  <Override PartName="/ppt/media/image44.wmf" ContentType="image/x-wmf"/>
  <Override PartName="/ppt/media/image23.wmf" ContentType="image/x-wmf"/>
  <Override PartName="/ppt/media/image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871-52B8-4D12-9673-7693DDA23E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EB0A-01A6-4D6B-BC30-C4FFF47719C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B98-C309-4CA2-A6E3-A7EA9BA8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1F9-E37A-4B70-B293-43B618B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BC2-3541-41E3-AF54-785BEFEC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DBA-64CB-4476-A80E-42C05B89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F454-4873-42F1-A340-DB66F431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BD44-BF40-4818-B08B-AB4D8CF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ABCB-2F34-43A0-865E-EE81842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DE0B-1C9E-4D04-9C6D-F951ACB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CAE-E122-4B86-A1E3-5157004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686-3105-4C7F-BED7-730EACC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914-F2CD-42A5-A0A1-AEF00C9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5F6-0B4C-4F99-9DAB-9C3D2B66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D9A-1147-4563-BE71-A2DB94E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544A-9AD3-4E56-BADD-FB5B646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2915-546C-4B64-B8EE-308F1B0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1D9-3457-415A-9951-46367632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D19-7D1F-46B5-AF1D-F88CD0AF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9EB-DE37-47AA-83BD-3ADAC25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A8A-F09C-48A9-B36F-E83F4A7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8B9-8010-441A-9B2A-79368D3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E55-ED3E-41F8-BF26-2904A1E9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666-5BC0-4914-B76A-985275C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293-5965-4687-9D36-213D994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FD0-391F-4204-9671-1FE3ED8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1B5-382B-4D07-B520-012D649B5C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B45-EDD0-4980-A008-5D624770009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94240" cy="6629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římá spojnice 2"/>
          <p:cNvSpPr/>
          <p:nvPr/>
        </p:nvSpPr>
        <p:spPr>
          <a:xfrm>
            <a:off x="468360" y="40464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8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99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8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9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3"/>
          <p:cNvSpPr/>
          <p:nvPr/>
        </p:nvSpPr>
        <p:spPr>
          <a:xfrm>
            <a:off x="5367960" y="438948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22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56588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1"/>
          <p:cNvSpPr/>
          <p:nvPr/>
        </p:nvSpPr>
        <p:spPr>
          <a:xfrm>
            <a:off x="2996280" y="63975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ej vod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34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lvatace iont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6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54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57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60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64" name="TextovéPole 1"/>
          <p:cNvSpPr/>
          <p:nvPr/>
        </p:nvSpPr>
        <p:spPr>
          <a:xfrm>
            <a:off x="1476360" y="23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ůzí řízené reakce s ohledem na náboje reagujících látek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8" descr="http://schools.birdville.k12.tx.us/cms/lib2/TX01000797/Centricity/Domain/912/ChemLessons/Lessons/Classification%20of%20Matter/image008.jpg"/>
          <p:cNvPicPr/>
          <p:nvPr/>
        </p:nvPicPr>
        <p:blipFill>
          <a:blip r:embed="rId1"/>
          <a:stretch/>
        </p:blipFill>
        <p:spPr>
          <a:xfrm>
            <a:off x="539640" y="2863800"/>
            <a:ext cx="7417080" cy="399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fc09.deviantart.net/fs71/i/2010/248/6/d/diffusion_by_sunshine1994-d2y45vk.jpg"/>
          <p:cNvPicPr/>
          <p:nvPr/>
        </p:nvPicPr>
        <p:blipFill>
          <a:blip r:embed="rId2"/>
          <a:stretch/>
        </p:blipFill>
        <p:spPr>
          <a:xfrm>
            <a:off x="3059280" y="189000"/>
            <a:ext cx="1800000" cy="2401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technet.pnnl.gov/sensors/nuclear/projects/images/nuclear14.gif"/>
          <p:cNvPicPr/>
          <p:nvPr/>
        </p:nvPicPr>
        <p:blipFill>
          <a:blip r:embed="rId3"/>
          <a:stretch/>
        </p:blipFill>
        <p:spPr>
          <a:xfrm>
            <a:off x="4913280" y="189000"/>
            <a:ext cx="1428840" cy="197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mmu.ic.polyu.edu.hk/mu_proj/2010/I2/images/ht_method_img/ht_method_clip_image006.jpg"/>
          <p:cNvPicPr/>
          <p:nvPr/>
        </p:nvPicPr>
        <p:blipFill>
          <a:blip r:embed="rId4"/>
          <a:stretch/>
        </p:blipFill>
        <p:spPr>
          <a:xfrm>
            <a:off x="6516720" y="189000"/>
            <a:ext cx="2517840" cy="2009520"/>
          </a:xfrm>
          <a:prstGeom prst="rect">
            <a:avLst/>
          </a:prstGeom>
          <a:ln w="0">
            <a:noFill/>
          </a:ln>
        </p:spPr>
      </p:pic>
      <p:cxnSp>
        <p:nvCxnSpPr>
          <p:cNvPr id="172" name="Přímá spojnice se šipkou 4"/>
          <p:cNvCxnSpPr/>
          <p:nvPr/>
        </p:nvCxnSpPr>
        <p:spPr>
          <a:xfrm flipH="1">
            <a:off x="7308000" y="3860640"/>
            <a:ext cx="864360" cy="1440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85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1:55:04Z</dcterms:modified>
  <cp:revision>179</cp:revision>
  <dc:subject/>
  <dc:title>C6730 Fázové rovnováhy</dc:title>
</cp:coreProperties>
</file>