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3.wmf" ContentType="image/x-wmf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1E97-E3A2-4B18-A834-03FC511E14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1464-D732-4B28-BB5F-8F04F151419B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B95-5674-4BC4-B78E-6C0ED082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3C2-BC73-418F-B187-CE14D7BF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466-C4B1-44F8-98AF-D2E833C6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FD9-F94F-41AE-BE21-FEAA0AAC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D909-8540-4591-A3B9-D79804A9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92C3-F0C1-432A-A7F3-111FB6E3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07B9-38BD-453E-9C51-4EBC2D9D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EE63-E421-46C5-A909-CBE8D159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0D1C-9A4B-471F-9489-0CB815A4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0CE5-3E99-4432-8E2C-7343821E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2DEB-0994-4051-8273-3CC9345A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E0E-96E9-45E5-AEF7-59635C71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A420-8BCE-47CB-9E0F-48F81B6F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4162-9165-45D6-9574-FA65E2A0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1BDC-746F-4953-A780-599A1D77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2DC7-3D60-408F-B398-6BF57E78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608C-07FA-40F3-959A-43528001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EA6-3CC8-4788-8656-71EC2F11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CE1-A5D9-42EC-B069-61001DF5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6F7-55BE-42DF-83F1-88AA54E8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9BA-2CB4-4AF7-9961-F95233D1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8B3-541B-451A-B5D1-B602B7E5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290C-B29D-49E5-BF2D-21FE2E57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91C-475E-4C5A-8C3B-F98DE090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782F-1223-4E20-A70F-138C1D93971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AE65-A6FF-48D6-81CC-516C5F824A3C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lementární reakce v roztocích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lementární reakce v roztocích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1029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4582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934320" cy="22924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lecový efek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647640" y="2468520"/>
            <a:ext cx="792504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rozpouštědl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838080" y="966960"/>
            <a:ext cx="7467840" cy="5891040"/>
          </a:xfrm>
          <a:prstGeom prst="rect">
            <a:avLst/>
          </a:prstGeom>
          <a:ln w="0">
            <a:noFill/>
          </a:ln>
        </p:spPr>
      </p:pic>
      <p:sp>
        <p:nvSpPr>
          <p:cNvPr id="157" name="Přímá spojnice 2"/>
          <p:cNvSpPr/>
          <p:nvPr/>
        </p:nvSpPr>
        <p:spPr>
          <a:xfrm>
            <a:off x="3276720" y="1700280"/>
            <a:ext cx="502920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římá spojnice 6"/>
          <p:cNvSpPr/>
          <p:nvPr/>
        </p:nvSpPr>
        <p:spPr>
          <a:xfrm>
            <a:off x="838080" y="1916280"/>
            <a:ext cx="7467840" cy="72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římá spojnice 8"/>
          <p:cNvSpPr/>
          <p:nvPr/>
        </p:nvSpPr>
        <p:spPr>
          <a:xfrm>
            <a:off x="971640" y="2133720"/>
            <a:ext cx="733428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římá spojnice 10"/>
          <p:cNvSpPr/>
          <p:nvPr/>
        </p:nvSpPr>
        <p:spPr>
          <a:xfrm>
            <a:off x="971640" y="2349360"/>
            <a:ext cx="316872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římá spojnice 12"/>
          <p:cNvSpPr/>
          <p:nvPr/>
        </p:nvSpPr>
        <p:spPr>
          <a:xfrm>
            <a:off x="5940360" y="4508640"/>
            <a:ext cx="2664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římá spojnice 14"/>
          <p:cNvSpPr/>
          <p:nvPr/>
        </p:nvSpPr>
        <p:spPr>
          <a:xfrm>
            <a:off x="838080" y="4724280"/>
            <a:ext cx="452592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ovéPole 15"/>
          <p:cNvSpPr/>
          <p:nvPr/>
        </p:nvSpPr>
        <p:spPr>
          <a:xfrm>
            <a:off x="1476360" y="4797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zniku= zánik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8077320" cy="1584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Limitní rozbor řešen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382240" cy="4572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2057400" y="3276720"/>
            <a:ext cx="1905120" cy="272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800600" y="5562720"/>
            <a:ext cx="3124080" cy="34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Diskuse</a:t>
            </a:r>
            <a:br>
              <a:rPr sz="2000"/>
            </a:b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transport látky a tepla konvekce a difúz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Picture 5" descr="C:\Documents and Settings\Sopoušek\Dokumenty\Obrázky\Difúze\mereni_difuzniho_koeficientu_1.jpg"/>
          <p:cNvPicPr/>
          <p:nvPr/>
        </p:nvPicPr>
        <p:blipFill>
          <a:blip r:embed="rId1"/>
          <a:stretch/>
        </p:blipFill>
        <p:spPr>
          <a:xfrm>
            <a:off x="838080" y="1193760"/>
            <a:ext cx="6705720" cy="52848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720" y="39625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ncentra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094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ok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Picture 3" descr="C:\Documents and Settings\Sopoušek\Dokumenty\Obrázky\Difúze\heat transport.jpg"/>
          <p:cNvPicPr/>
          <p:nvPr/>
        </p:nvPicPr>
        <p:blipFill>
          <a:blip r:embed="rId1"/>
          <a:stretch/>
        </p:blipFill>
        <p:spPr>
          <a:xfrm>
            <a:off x="5638680" y="2895480"/>
            <a:ext cx="2743200" cy="1692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Sopoušek\Dokumenty\Obrázky\Difúze\konvection a diffusion.jpg"/>
          <p:cNvPicPr/>
          <p:nvPr/>
        </p:nvPicPr>
        <p:blipFill>
          <a:blip r:embed="rId2"/>
          <a:stretch/>
        </p:blipFill>
        <p:spPr>
          <a:xfrm>
            <a:off x="457200" y="2438280"/>
            <a:ext cx="312408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676520" y="6248520"/>
            <a:ext cx="501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zurichmedtech.com/products/cls/r-d-projects/convection-diffusion-reaction/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Picture 4" descr="C:\Documents and Settings\Sopoušek\Dokumenty\Obrázky\Difúze\koncekce a difúze v těle.png"/>
          <p:cNvPicPr/>
          <p:nvPr/>
        </p:nvPicPr>
        <p:blipFill>
          <a:blip r:embed="rId1"/>
          <a:stretch/>
        </p:blipFill>
        <p:spPr>
          <a:xfrm>
            <a:off x="228600" y="533520"/>
            <a:ext cx="6553080" cy="5019480"/>
          </a:xfrm>
          <a:prstGeom prst="rect">
            <a:avLst/>
          </a:prstGeom>
          <a:ln w="0">
            <a:noFill/>
          </a:ln>
        </p:spPr>
      </p:pic>
      <p:sp>
        <p:nvSpPr>
          <p:cNvPr id="179" name="TextovéPole 1"/>
          <p:cNvSpPr/>
          <p:nvPr/>
        </p:nvSpPr>
        <p:spPr>
          <a:xfrm>
            <a:off x="6913440" y="1844640"/>
            <a:ext cx="21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binace transportního mechanismu a difúzního mechanismu zásobováním kyslíkem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13T10:33:51Z</dcterms:modified>
  <cp:revision>141</cp:revision>
  <dc:subject/>
  <dc:title>C6730 Fázové rovnováhy</dc:title>
</cp:coreProperties>
</file>