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2.gif" ContentType="image/gif"/>
  <Override PartName="/ppt/media/image9.jpeg" ContentType="image/jpeg"/>
  <Override PartName="/ppt/media/image12.wmf" ContentType="image/x-wmf"/>
  <Override PartName="/ppt/media/image8.png" ContentType="image/png"/>
  <Override PartName="/ppt/media/image7.png" ContentType="image/png"/>
  <Override PartName="/ppt/media/image15.wmf" ContentType="image/x-wmf"/>
  <Override PartName="/ppt/media/image20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CE97-C4D0-403D-9BCB-B3A328D0134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6391-17D9-4B43-A120-4ED034261815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CB7A-2211-4C14-BC33-659DBAF29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9C5C-D12D-4C56-A224-2A4CF1F1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6FBB-96A7-4CF5-A11A-A1AD080F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F632-412E-4630-A336-A33203F3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3587-338D-422D-BE10-92393836C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BA71-CB2E-4CC3-93A7-72573E4C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FE6E-B9F4-4854-B057-4D3512DD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6DBB-E29B-44E7-8D52-4B3BC8A8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F4C0-9378-415A-B075-3BB55F98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CD8D-5D54-432D-9B65-473893B0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8276-3A04-45CB-9A34-EC290D58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3290-210A-4ED9-AF46-F52179DF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4814-E247-4D30-8A6C-978B004E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4FC3-ADDE-42A3-9488-092F7357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6575-7BF1-4176-9CDB-E739CA01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62B0-E103-488B-969E-0080946F2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0806-E67E-4623-B90F-70FE0AF2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E562-DB8D-49F4-99B2-CAE1BD76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F948-9CD9-40BF-B011-D263D8F0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8658-FCF5-4959-9BEA-9BAC78B2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B9F0-4AEB-4C43-910B-D9F7CEBC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08CF-002A-41FF-A092-067899F2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976F-58D9-4DFD-A34B-52D13862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382A-9353-4D3A-B7BF-2A355FFC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D5E2-AF8C-42B5-AEF7-0F266122B31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5389-E197-478A-B1E3-E68CCEB8E152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google.cz/url?sa=i&amp;rct=j&amp;q=&amp;esrc=s&amp;source=images&amp;cd=&amp;cad=rja&amp;uact=8&amp;ved=0CAcQjRw&amp;url=http%3A%2F%2Fchemwiki.ucdavis.edu%2FOrganic_Chemistry%2FOrganic_Chemistry_With_a_Biological_Emphasis%2FChapter_12%253A_Acyl_substitution_reactions%2FSection_12.4%253A_Esters&amp;ei=QXVIVdflAczTUbKbgdgE&amp;psig=AFQjCNHb1UVhVn9A-1ZXs4bBnHxW1uq4UQ&amp;ust=1430897986179228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Acidobazická katalýz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380880" y="204840"/>
            <a:ext cx="8382240" cy="66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inetika bazicky katalyzovan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104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838080" y="368280"/>
            <a:ext cx="7543800" cy="6489720"/>
          </a:xfrm>
          <a:prstGeom prst="rect">
            <a:avLst/>
          </a:prstGeom>
          <a:ln w="0">
            <a:noFill/>
          </a:ln>
        </p:spPr>
      </p:pic>
      <p:sp>
        <p:nvSpPr>
          <p:cNvPr id="180" name="Obdélník 3"/>
          <p:cNvSpPr/>
          <p:nvPr/>
        </p:nvSpPr>
        <p:spPr>
          <a:xfrm>
            <a:off x="838080" y="5950080"/>
            <a:ext cx="7543800" cy="9079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7240" y="1155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Picture 4" descr="http://www2.chemistry.msu.edu/faculty/reusch/VirtTxtJml/Images3/estrhyd.gif"/>
          <p:cNvPicPr/>
          <p:nvPr/>
        </p:nvPicPr>
        <p:blipFill>
          <a:blip r:embed="rId1"/>
          <a:stretch/>
        </p:blipFill>
        <p:spPr>
          <a:xfrm>
            <a:off x="2195640" y="1198440"/>
            <a:ext cx="6480000" cy="3641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http://chemwiki.ucdavis.edu/@api/deki/files/2818/image099.png?revision=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14560" y="5318280"/>
            <a:ext cx="4535640" cy="1352520"/>
          </a:xfrm>
          <a:prstGeom prst="rect">
            <a:avLst/>
          </a:prstGeom>
          <a:ln w="0">
            <a:noFill/>
          </a:ln>
        </p:spPr>
      </p:pic>
      <p:sp>
        <p:nvSpPr>
          <p:cNvPr id="184" name="TextovéPole 1"/>
          <p:cNvSpPr/>
          <p:nvPr/>
        </p:nvSpPr>
        <p:spPr>
          <a:xfrm>
            <a:off x="139680" y="2419200"/>
            <a:ext cx="17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yselá (protonizací substrátu)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TextovéPole 2"/>
          <p:cNvSpPr/>
          <p:nvPr/>
        </p:nvSpPr>
        <p:spPr>
          <a:xfrm>
            <a:off x="409320" y="5303880"/>
            <a:ext cx="123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Basická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(NaOH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Obdélník 3"/>
          <p:cNvSpPr/>
          <p:nvPr/>
        </p:nvSpPr>
        <p:spPr>
          <a:xfrm>
            <a:off x="0" y="1413000"/>
            <a:ext cx="205092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Zmýdelnění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Acidobazická katalýza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1" name="Picture 1029" descr=""/>
          <p:cNvPicPr/>
          <p:nvPr/>
        </p:nvPicPr>
        <p:blipFill>
          <a:blip r:embed="rId1"/>
          <a:stretch/>
        </p:blipFill>
        <p:spPr>
          <a:xfrm>
            <a:off x="533520" y="880920"/>
            <a:ext cx="83055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106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762120" y="236520"/>
            <a:ext cx="7619760" cy="6621480"/>
          </a:xfrm>
          <a:prstGeom prst="rect">
            <a:avLst/>
          </a:prstGeom>
          <a:ln w="0">
            <a:noFill/>
          </a:ln>
        </p:spPr>
      </p:pic>
      <p:sp>
        <p:nvSpPr>
          <p:cNvPr id="154" name="TextovéPole 1"/>
          <p:cNvSpPr/>
          <p:nvPr/>
        </p:nvSpPr>
        <p:spPr>
          <a:xfrm>
            <a:off x="1920960" y="332100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protonizace substrát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1042920" y="2178000"/>
            <a:ext cx="7416720" cy="4680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2"/>
          <a:stretch/>
        </p:blipFill>
        <p:spPr>
          <a:xfrm>
            <a:off x="50760" y="0"/>
            <a:ext cx="8228160" cy="2060640"/>
          </a:xfrm>
          <a:prstGeom prst="rect">
            <a:avLst/>
          </a:prstGeom>
          <a:ln w="0">
            <a:noFill/>
          </a:ln>
        </p:spPr>
      </p:pic>
      <p:sp>
        <p:nvSpPr>
          <p:cNvPr id="158" name="TextovéPole 4"/>
          <p:cNvSpPr/>
          <p:nvPr/>
        </p:nvSpPr>
        <p:spPr>
          <a:xfrm>
            <a:off x="1042920" y="2178000"/>
            <a:ext cx="7129440" cy="45972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protonizace činidla (nadbytek fenolu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78920" cy="4973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204840" y="184320"/>
            <a:ext cx="6902280" cy="1485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Documents and Settings\Sopoušek\Dokumenty\Obrázky\Katalýza\bakelite1.jpg"/>
          <p:cNvPicPr/>
          <p:nvPr/>
        </p:nvPicPr>
        <p:blipFill>
          <a:blip r:embed="rId3"/>
          <a:stretch/>
        </p:blipFill>
        <p:spPr>
          <a:xfrm>
            <a:off x="7034040" y="141120"/>
            <a:ext cx="2109960" cy="1582920"/>
          </a:xfrm>
          <a:prstGeom prst="rect">
            <a:avLst/>
          </a:prstGeom>
          <a:ln w="0">
            <a:noFill/>
          </a:ln>
        </p:spPr>
      </p:pic>
      <p:sp>
        <p:nvSpPr>
          <p:cNvPr id="162" name="TextovéPole 4"/>
          <p:cNvSpPr/>
          <p:nvPr/>
        </p:nvSpPr>
        <p:spPr>
          <a:xfrm>
            <a:off x="900000" y="1670040"/>
            <a:ext cx="7920000" cy="45972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deprotonizace substrátu (nadbytek aldehydu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0" y="485640"/>
            <a:ext cx="9144000" cy="1244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8001000" cy="3679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3"/>
          <a:stretch/>
        </p:blipFill>
        <p:spPr>
          <a:xfrm>
            <a:off x="304920" y="5581800"/>
            <a:ext cx="8839080" cy="1276200"/>
          </a:xfrm>
          <a:prstGeom prst="rect">
            <a:avLst/>
          </a:prstGeom>
          <a:ln w="0">
            <a:noFill/>
          </a:ln>
        </p:spPr>
      </p:pic>
      <p:sp>
        <p:nvSpPr>
          <p:cNvPr id="166" name="TextovéPole 4"/>
          <p:cNvSpPr/>
          <p:nvPr/>
        </p:nvSpPr>
        <p:spPr>
          <a:xfrm>
            <a:off x="893880" y="23760"/>
            <a:ext cx="7127640" cy="45972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deprotonizace činidla (transesterifikace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19836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inetika kysele katalyzovan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380880" y="654120"/>
            <a:ext cx="845820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381880" cy="5131080"/>
          </a:xfrm>
          <a:prstGeom prst="rect">
            <a:avLst/>
          </a:prstGeom>
          <a:ln w="0">
            <a:noFill/>
          </a:ln>
        </p:spPr>
      </p:pic>
      <p:sp>
        <p:nvSpPr>
          <p:cNvPr id="170" name="TextovéPole 1"/>
          <p:cNvSpPr/>
          <p:nvPr/>
        </p:nvSpPr>
        <p:spPr>
          <a:xfrm>
            <a:off x="4941360" y="2133720"/>
            <a:ext cx="29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Nezáleží na typu kyseliny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TextovéPole 3"/>
          <p:cNvSpPr/>
          <p:nvPr/>
        </p:nvSpPr>
        <p:spPr>
          <a:xfrm>
            <a:off x="5564160" y="3357720"/>
            <a:ext cx="3292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Záleží na typu kyseliny (k</a:t>
            </a:r>
            <a:r>
              <a:rPr b="1" lang="cs-CZ" sz="2000" spc="-1" strike="noStrike" baseline="-25000">
                <a:solidFill>
                  <a:srgbClr val="000066"/>
                </a:solidFill>
                <a:latin typeface="Times New Roman"/>
              </a:rPr>
              <a:t>exp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72" name="Přímá spojnice se šipkou 4"/>
          <p:cNvCxnSpPr>
            <a:stCxn id="171" idx="2"/>
          </p:cNvCxnSpPr>
          <p:nvPr/>
        </p:nvCxnSpPr>
        <p:spPr>
          <a:xfrm flipH="1">
            <a:off x="6732000" y="3757320"/>
            <a:ext cx="478440" cy="16167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533520" y="0"/>
            <a:ext cx="7543800" cy="6688080"/>
          </a:xfrm>
          <a:prstGeom prst="rect">
            <a:avLst/>
          </a:prstGeom>
          <a:ln w="0">
            <a:noFill/>
          </a:ln>
        </p:spPr>
      </p:pic>
      <p:sp>
        <p:nvSpPr>
          <p:cNvPr id="174" name="Přímá spojnice 2"/>
          <p:cNvSpPr/>
          <p:nvPr/>
        </p:nvSpPr>
        <p:spPr>
          <a:xfrm>
            <a:off x="1332000" y="1484280"/>
            <a:ext cx="38163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Obdélník 3"/>
          <p:cNvSpPr/>
          <p:nvPr/>
        </p:nvSpPr>
        <p:spPr>
          <a:xfrm>
            <a:off x="533520" y="5950080"/>
            <a:ext cx="7543800" cy="7380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4-20T12:03:50Z</dcterms:modified>
  <cp:revision>146</cp:revision>
  <dc:subject/>
  <dc:title>C6730 Fázové rovnováhy</dc:title>
</cp:coreProperties>
</file>