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.gif" ContentType="image/gif"/>
  <Override PartName="/ppt/media/image9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E542-106D-4EBF-907A-BA1B7546820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7024-675B-474C-AE9D-9638845D013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AEC-189E-460B-BEC7-DB4A0028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3E6-1525-4A11-BF58-ED09E70C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9AF-3E65-4DBF-91FB-D78C39EC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3A7-238F-4D59-AF82-4108F1A5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B61A-EF0F-4A2E-8230-2E1C0B64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2C75-56D1-4960-B1B1-21402C8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3B1-711D-4031-8FDF-CC11B397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4801-AE9D-44DC-BD91-6E362C79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1280-EAFC-4421-A690-636FFAF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A1C1-9503-4754-878D-B198D58F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D33-7FA0-4698-8B4A-66DB455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723-5AB5-403B-90E1-D67FB473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8DD2-164B-41FE-BF1D-C2B88C9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4E81-02DB-44E8-9718-77042B0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E89-5D6E-4260-933B-A2DC3136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CA27-26B1-4672-9463-F58118AC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D673-E443-4D7F-B554-C0075FE4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DDC-CBFC-4DAC-868A-D3117A2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D6A-C437-4C2C-8B34-10ADAEA0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838-1EFF-4B51-A292-FC85FACC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FD4-A587-428D-AB56-5574060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083-7EAD-4B8A-81C3-4188AD4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36A-CF89-44C1-999E-51BC1A77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001-5FA2-4D7B-A294-35179EFE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FCD-DD28-4E56-9337-9872322970D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92E-819D-4137-9E3A-140F180CB35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6" descr="http://plantphys.info/plant_physiology/images/enzactiveinhibit.gif"/>
          <p:cNvPicPr/>
          <p:nvPr/>
        </p:nvPicPr>
        <p:blipFill>
          <a:blip r:embed="rId1"/>
          <a:stretch/>
        </p:blipFill>
        <p:spPr>
          <a:xfrm>
            <a:off x="5384880" y="2984400"/>
            <a:ext cx="3556080" cy="26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chemistry.ewu.edu/jcorkill/biochem/com_nono_unIH.jpg"/>
          <p:cNvPicPr/>
          <p:nvPr/>
        </p:nvPicPr>
        <p:blipFill>
          <a:blip r:embed="rId2"/>
          <a:stretch/>
        </p:blipFill>
        <p:spPr>
          <a:xfrm>
            <a:off x="324000" y="2989440"/>
            <a:ext cx="5040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84978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1160" y="781200"/>
            <a:ext cx="89694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9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205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římá spojnice 2"/>
          <p:cNvSpPr/>
          <p:nvPr/>
        </p:nvSpPr>
        <p:spPr>
          <a:xfrm flipV="1">
            <a:off x="468360" y="6021000"/>
            <a:ext cx="82072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4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římá spojnice 6"/>
          <p:cNvSpPr/>
          <p:nvPr/>
        </p:nvSpPr>
        <p:spPr>
          <a:xfrm flipV="1">
            <a:off x="380880" y="6524280"/>
            <a:ext cx="5919840" cy="112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3348000" y="40053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I se váže  až na K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58840" y="148428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 (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359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br>
              <a:rPr sz="4400"/>
            </a:b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(nonecompetitive inhibition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179280" y="1628640"/>
            <a:ext cx="5788080" cy="439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Obdélník 1"/>
          <p:cNvSpPr/>
          <p:nvPr/>
        </p:nvSpPr>
        <p:spPr>
          <a:xfrm>
            <a:off x="5959440" y="1773360"/>
            <a:ext cx="259236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8324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br>
              <a:rPr sz="44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uncompetitive inhibition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Obdélník 2"/>
          <p:cNvSpPr/>
          <p:nvPr/>
        </p:nvSpPr>
        <p:spPr>
          <a:xfrm>
            <a:off x="7020000" y="1557360"/>
            <a:ext cx="1944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3) anti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hibitor se váže pouze na komplex enzym-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Picture 6" descr="http://chemistry.ewu.edu/jcorkill/biochem/com_nono_unIH.jpg"/>
          <p:cNvPicPr/>
          <p:nvPr/>
        </p:nvPicPr>
        <p:blipFill>
          <a:blip r:embed="rId1"/>
          <a:stretch/>
        </p:blipFill>
        <p:spPr>
          <a:xfrm>
            <a:off x="250920" y="1844640"/>
            <a:ext cx="653580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Obdélník 1"/>
          <p:cNvSpPr/>
          <p:nvPr/>
        </p:nvSpPr>
        <p:spPr>
          <a:xfrm>
            <a:off x="4773600" y="6334200"/>
            <a:ext cx="20131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nt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bdélník 6"/>
          <p:cNvSpPr/>
          <p:nvPr/>
        </p:nvSpPr>
        <p:spPr>
          <a:xfrm>
            <a:off x="2257560" y="6300720"/>
            <a:ext cx="20127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>
            <a:off x="39600" y="6294600"/>
            <a:ext cx="20113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71280" y="3112920"/>
            <a:ext cx="8172720" cy="359100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1"/>
          <p:cNvSpPr/>
          <p:nvPr/>
        </p:nvSpPr>
        <p:spPr>
          <a:xfrm>
            <a:off x="2050920" y="263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38:26Z</dcterms:modified>
  <cp:revision>151</cp:revision>
  <dc:subject/>
  <dc:title>C6730 Fázové rovnováhy</dc:title>
</cp:coreProperties>
</file>