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CC9-553B-4622-9334-349D444DD6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FEE-FFEA-41C1-8BAE-0AD871E2E2C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271-F60F-4E99-BD2A-D1151ACB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9EC-F261-4BD0-A6B3-A1D39481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5A3-3870-461D-BBE6-503228C0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34A-AD95-4A0E-9648-1923AA16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DDE-4C9E-4789-88FD-E661D623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0554-9AFF-4824-90CF-7560A519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182B-015A-4BE8-9CED-FC865392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0626-338B-4087-B03B-174E20C2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7B9-812B-4E54-9DC3-0605E2F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E5A0-542E-46E5-A3F3-1B2DA1B3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9F9-05CF-4AEC-8B69-697E8A04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E1E-A0B9-4F31-A393-732CA450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F284-FBE7-4B05-9713-6EE2ACD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5BF0-3AF6-4450-8E69-319ECE6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58C9-0B6B-4586-A9A0-6DBA5395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89E-EF43-4DA6-B01F-D21ED8D6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4DF-6EB7-4E16-8501-A7A62E7B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7A3-AEAF-47CD-8A7D-B0578FC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F5F-020B-4516-BCFC-957CD0B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D9B-E5A5-4981-A4BD-AF796776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401-4DE2-43BB-9069-F7E380C6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F9E-B979-4EE3-B5AA-1EFD76F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C40-06E3-44B0-A2F3-06596DB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ECF-BCC0-48C2-8955-5AF732D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1E1D-0F72-4991-85A4-9C650D54FB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C15-A4A4-43D2-B96D-7B98032AE58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2:03:50Z</dcterms:modified>
  <cp:revision>146</cp:revision>
  <dc:subject/>
  <dc:title>C6730 Fázové rovnováhy</dc:title>
</cp:coreProperties>
</file>