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2.gif" ContentType="image/gif"/>
  <Override PartName="/ppt/media/image9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1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3A98-BF81-45C2-B03F-A4EABD403C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B487-6AEE-4625-95D3-39A8D09EAD4F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F95-30E1-4444-89D3-0F896C64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8C1-7ADB-47B3-80F9-4B044775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A58-4D51-4951-A4F4-FF8D6EA0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AE9-C918-4CB2-8A5E-4DBCABD5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F80A-51D0-4071-B9CD-9E9AC400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3443-32A0-4137-B505-D998F1F9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A4DE-AB80-4412-9C5B-C6E6DD84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16FA-86BE-4BA2-A1A9-16CCEABB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AB2E-1567-461D-BD7C-77C4D44E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C397-F02D-4AFA-8B96-76D9623D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CAB5-13D9-4337-8977-173B1767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15A-4A2F-4B0B-829F-47067E6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5ECB-FB91-43CA-AD1E-3094C732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1A60-4077-4AD3-A0B7-345F5BCE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503D-0D66-41D0-8C72-1FF995F8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BA69-A8F6-4D69-8211-3CC5489E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C731-829A-4EF7-A0A3-735D5192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0E5-0705-478B-BB76-A0EEF7D3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181-30AC-4770-87DD-7DB2446E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A27-2C46-4F77-B284-710424F2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39E-1214-4C19-968C-851B3D8D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4BB-BFF6-4BE2-A69B-6B9CFE25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09A-992E-4E5D-A977-0F0A7F58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861-44F4-43A8-AA7B-B533F3DC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F21A-78D6-4208-8B54-9F377ECA0E6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B615-2228-4D2E-951C-082FBBEFB45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source=images&amp;cd=&amp;cad=rja&amp;uact=8&amp;ved=0CAcQjRw&amp;url=http%3A%2F%2Fwww.ub.edu%2Fbetaoxi%2Fresearch2.html&amp;ei=RGtIVc_NKczcaof4gLgJ&amp;bvm=bv.92291466,d.ZGU&amp;psig=AFQjCNGQoouCeOtsolAmuCiKakdcEhrgLg&amp;ust=1430895809439577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6" descr="http://plantphys.info/plant_physiology/images/enzactiveinhibit.gif"/>
          <p:cNvPicPr/>
          <p:nvPr/>
        </p:nvPicPr>
        <p:blipFill>
          <a:blip r:embed="rId1"/>
          <a:stretch/>
        </p:blipFill>
        <p:spPr>
          <a:xfrm>
            <a:off x="5384880" y="2984400"/>
            <a:ext cx="3556080" cy="26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chemistry.ewu.edu/jcorkill/biochem/com_nono_unIH.jpg"/>
          <p:cNvPicPr/>
          <p:nvPr/>
        </p:nvPicPr>
        <p:blipFill>
          <a:blip r:embed="rId2"/>
          <a:stretch/>
        </p:blipFill>
        <p:spPr>
          <a:xfrm>
            <a:off x="324000" y="2989440"/>
            <a:ext cx="504000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04760"/>
            <a:ext cx="84978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1160" y="781200"/>
            <a:ext cx="896940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3" descr="C:\Documents and Settings\Sopoušek\Dokumenty\Obrázky\Katalýza\párky.bmp"/>
          <p:cNvPicPr/>
          <p:nvPr/>
        </p:nvPicPr>
        <p:blipFill>
          <a:blip r:embed="rId1"/>
          <a:stretch/>
        </p:blipFill>
        <p:spPr>
          <a:xfrm>
            <a:off x="2241720" y="765000"/>
            <a:ext cx="3867120" cy="2571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512440" y="396252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ecka.xf.cz/etab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5" descr="C:\Documents and Settings\Sopoušek\Dokumenty\Obrázky\Katalýza\enzymová inhibice.gif"/>
          <p:cNvPicPr/>
          <p:nvPr/>
        </p:nvPicPr>
        <p:blipFill>
          <a:blip r:embed="rId1"/>
          <a:stretch/>
        </p:blipFill>
        <p:spPr>
          <a:xfrm>
            <a:off x="4494240" y="304920"/>
            <a:ext cx="4041720" cy="5427720"/>
          </a:xfrm>
          <a:prstGeom prst="rect">
            <a:avLst/>
          </a:prstGeom>
          <a:ln w="0">
            <a:noFill/>
          </a:ln>
        </p:spPr>
      </p:pic>
      <p:sp>
        <p:nvSpPr>
          <p:cNvPr id="199" name="Obdélník 1"/>
          <p:cNvSpPr/>
          <p:nvPr/>
        </p:nvSpPr>
        <p:spPr>
          <a:xfrm>
            <a:off x="182880" y="255744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nhibition oxidation food ecka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ovéPole 2"/>
          <p:cNvSpPr/>
          <p:nvPr/>
        </p:nvSpPr>
        <p:spPr>
          <a:xfrm>
            <a:off x="403560" y="14605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eywords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bdélník 3"/>
          <p:cNvSpPr/>
          <p:nvPr/>
        </p:nvSpPr>
        <p:spPr>
          <a:xfrm>
            <a:off x="163440" y="5013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slideshare.net/sanjayrumde/food-preservation-15945067?next_slideshow=1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ovéPole 5"/>
          <p:cNvSpPr/>
          <p:nvPr/>
        </p:nvSpPr>
        <p:spPr>
          <a:xfrm>
            <a:off x="14760" y="443700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nzervování potravi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tloustnutí </a:t>
            </a:r>
            <a:r>
              <a:rPr b="0" lang="cs-CZ" sz="4400" spc="-1" strike="noStrike">
                <a:solidFill>
                  <a:srgbClr val="4d4d4d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5" descr="http://www.ub.edu/betaoxi/home/figuras/2010-6-9-FigurasBO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00280"/>
            <a:ext cx="6613560" cy="4614840"/>
          </a:xfrm>
          <a:prstGeom prst="rect">
            <a:avLst/>
          </a:prstGeom>
          <a:ln w="0">
            <a:noFill/>
          </a:ln>
        </p:spPr>
      </p:pic>
      <p:sp>
        <p:nvSpPr>
          <p:cNvPr id="205" name="Obdélník 3"/>
          <p:cNvSpPr/>
          <p:nvPr/>
        </p:nvSpPr>
        <p:spPr>
          <a:xfrm>
            <a:off x="684360" y="64422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ub.edu/betaoxi/research2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incipy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1029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89400"/>
          </a:xfrm>
          <a:prstGeom prst="rect">
            <a:avLst/>
          </a:prstGeom>
          <a:ln w="0">
            <a:noFill/>
          </a:ln>
        </p:spPr>
      </p:pic>
      <p:sp>
        <p:nvSpPr>
          <p:cNvPr id="154" name="Obdélník 1"/>
          <p:cNvSpPr/>
          <p:nvPr/>
        </p:nvSpPr>
        <p:spPr>
          <a:xfrm>
            <a:off x="380880" y="3429000"/>
            <a:ext cx="8367840" cy="1079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římá spojnice 2"/>
          <p:cNvSpPr/>
          <p:nvPr/>
        </p:nvSpPr>
        <p:spPr>
          <a:xfrm flipV="1">
            <a:off x="468360" y="6021000"/>
            <a:ext cx="82072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římá spojnice 4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římá spojnice 6"/>
          <p:cNvSpPr/>
          <p:nvPr/>
        </p:nvSpPr>
        <p:spPr>
          <a:xfrm flipV="1">
            <a:off x="380880" y="6524280"/>
            <a:ext cx="5919840" cy="112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unkce inhibitor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842240" cy="451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Katalýza\inhib_1.gif"/>
          <p:cNvPicPr/>
          <p:nvPr/>
        </p:nvPicPr>
        <p:blipFill>
          <a:blip r:embed="rId2"/>
          <a:stretch/>
        </p:blipFill>
        <p:spPr>
          <a:xfrm>
            <a:off x="6227640" y="974880"/>
            <a:ext cx="2828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tory - klasifika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04920" y="73188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3348000" y="400536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Arial"/>
              </a:rPr>
              <a:t>I se váže  až na KS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50920" y="176040"/>
            <a:ext cx="8305560" cy="1065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5136480" y="2133720"/>
            <a:ext cx="28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lucifer.bloguje.cz/917394-aids-mor-pro-21-stoleti-ii.php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Picture 6" descr="C:\Documents and Settings\Sopoušek\Dokumenty\Obrázky\Katalýza\proteaza-hiv-s-inhibitorem.jpg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262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258840" y="148428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 (competitive inhibition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8" descr="C:\Documents and Settings\Sopoušek\Dokumenty\Obrázky\Katalýza\350px-Comp_inhib_svg.png"/>
          <p:cNvPicPr/>
          <p:nvPr/>
        </p:nvPicPr>
        <p:blipFill>
          <a:blip r:embed="rId3"/>
          <a:stretch/>
        </p:blipFill>
        <p:spPr>
          <a:xfrm>
            <a:off x="419040" y="1941480"/>
            <a:ext cx="4457880" cy="308124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258840" y="5229360"/>
            <a:ext cx="83055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1) </a:t>
            </a:r>
            <a:r>
              <a:rPr b="1" lang="cs-CZ" sz="1400" spc="-1" strike="noStrike" u="sng">
                <a:solidFill>
                  <a:srgbClr val="000066"/>
                </a:solidFill>
                <a:uFillTx/>
                <a:latin typeface="Times New Roman"/>
              </a:rPr>
              <a:t>kompetitivní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itor je podobný substrátu, soutěží se substrátem o vazebné místo enzymu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váže se do aktivního centra, ale není přeměňová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zvyšuje K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(je nutno dodat více substrátu k dosažení původní aktivity enzymu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cs-CZ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výšení koncentrace substrátu vede k „odstranění“ inhib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uje enzym reverzibilně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3596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br>
              <a:rPr sz="4400"/>
            </a:b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(nonecompetitive inhibition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C:\Documents and Settings\Sopoušek\Dokumenty\Obrázky\Katalýza\350px-Ne Comp_inhib_svg.png"/>
          <p:cNvPicPr/>
          <p:nvPr/>
        </p:nvPicPr>
        <p:blipFill>
          <a:blip r:embed="rId1"/>
          <a:stretch/>
        </p:blipFill>
        <p:spPr>
          <a:xfrm>
            <a:off x="179280" y="1628640"/>
            <a:ext cx="5788080" cy="439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6293880" y="126828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ibguides.com/biology/notes/enzymes-h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Obdélník 1"/>
          <p:cNvSpPr/>
          <p:nvPr/>
        </p:nvSpPr>
        <p:spPr>
          <a:xfrm>
            <a:off x="5959440" y="1773360"/>
            <a:ext cx="259236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2) </a:t>
            </a: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ne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inhibitor se váže na jiné místo enzymu než 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znemožní vazbu substrátu (změna konformace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snižuje V</a:t>
            </a:r>
            <a:r>
              <a:rPr b="1" lang="cs-CZ" sz="18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(což odpovídá snížení koncentrace aktivního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reverzibilní pouze pokud se inhibitor neváže kovalentně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8324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ntikompetitivní inhibice</a:t>
            </a:r>
            <a:br>
              <a:rPr sz="44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uncompetitive inhibition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Obdélník 2"/>
          <p:cNvSpPr/>
          <p:nvPr/>
        </p:nvSpPr>
        <p:spPr>
          <a:xfrm>
            <a:off x="7020000" y="1557360"/>
            <a:ext cx="194472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3) anti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inhibitor se váže pouze na komplex enzym-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Picture 6" descr="http://chemistry.ewu.edu/jcorkill/biochem/com_nono_unIH.jpg"/>
          <p:cNvPicPr/>
          <p:nvPr/>
        </p:nvPicPr>
        <p:blipFill>
          <a:blip r:embed="rId1"/>
          <a:stretch/>
        </p:blipFill>
        <p:spPr>
          <a:xfrm>
            <a:off x="250920" y="1844640"/>
            <a:ext cx="6535800" cy="4897440"/>
          </a:xfrm>
          <a:prstGeom prst="rect">
            <a:avLst/>
          </a:prstGeom>
          <a:ln w="0">
            <a:noFill/>
          </a:ln>
        </p:spPr>
      </p:pic>
      <p:sp>
        <p:nvSpPr>
          <p:cNvPr id="178" name="Obdélník 1"/>
          <p:cNvSpPr/>
          <p:nvPr/>
        </p:nvSpPr>
        <p:spPr>
          <a:xfrm>
            <a:off x="4773600" y="6334200"/>
            <a:ext cx="20131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nti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bdélník 6"/>
          <p:cNvSpPr/>
          <p:nvPr/>
        </p:nvSpPr>
        <p:spPr>
          <a:xfrm>
            <a:off x="2257560" y="6300720"/>
            <a:ext cx="201276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>
            <a:off x="39600" y="6294600"/>
            <a:ext cx="201132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ikompetitivní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229600" cy="418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2209680" y="4678200"/>
            <a:ext cx="52578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etoda ATRP a RAFT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1639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http://patentimages.storage.googleapis.com/WO2009111725A1/imgf000029_0001.png"/>
          <p:cNvPicPr/>
          <p:nvPr/>
        </p:nvPicPr>
        <p:blipFill>
          <a:blip r:embed="rId2"/>
          <a:stretch/>
        </p:blipFill>
        <p:spPr>
          <a:xfrm>
            <a:off x="71280" y="3112920"/>
            <a:ext cx="8172720" cy="359100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1"/>
          <p:cNvSpPr/>
          <p:nvPr/>
        </p:nvSpPr>
        <p:spPr>
          <a:xfrm>
            <a:off x="2050920" y="2637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http://www.google.com/patents/WO2009111725A1?cl=e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1:38:26Z</dcterms:modified>
  <cp:revision>151</cp:revision>
  <dc:subject/>
  <dc:title>C6730 Fázové rovnováhy</dc:title>
</cp:coreProperties>
</file>