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jpeg" ContentType="image/jpeg"/>
  <Override PartName="/ppt/media/image12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795A-3F04-4A6D-8781-4AC1FEADAEA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A251-BC24-49AE-9C66-D46C5C80C7B3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250A-E8F8-4E99-AF9E-6984310A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F98-BE36-4837-B5DA-9AD22783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1A9-0222-41A8-AFCD-62481297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BFA-119A-4445-B481-BB68ADEC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FF25-29E7-4C5E-8BD1-BD4B9266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2168-5BB5-4DD1-873D-9A9CE344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8A57-D712-4ADF-BAF2-D352B901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2D2E-0857-45E1-B04C-B8315182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9335-1110-466B-A772-17AF7ADA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E0F2-9DC1-4382-B170-1D6E67BA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3C09-C878-4521-BD1F-226CA760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1CB-B4A7-495C-AE1C-F288421E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4C57-CCB6-4492-B3C1-9113A780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5670-E066-4686-9339-34B914D3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C2A6-4567-46D3-BA91-7FDDA6E6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6E13-2B0C-48EA-910F-ECC36451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1FEA-3BBA-47AE-95F9-CF0F5861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2ADD-6F7C-4F72-B2DF-F3CE7F53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506-5BF4-4EC6-9B3B-3EA33E3C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8C0E-AE5A-4726-BB00-16CBD663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7C2-B71C-425C-8AF1-E64B1E73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AF4-F69F-4530-B18C-19B26757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C40-F028-4A83-9E3A-3A5674B6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919-145C-4290-9E99-ACD9C1DC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40B2-42C2-4BF0-B1B5-BFF7A651AD0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463B-788F-457C-88F5-B1FA67BDD67F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google.cz/url?sa=i&amp;rct=j&amp;q=&amp;esrc=s&amp;source=images&amp;cd=&amp;cad=rja&amp;uact=8&amp;ved=0CAcQjRw&amp;url=http%3A%2F%2Fchemwiki.ucdavis.edu%2FOrganic_Chemistry%2FOrganic_Chemistry_With_a_Biological_Emphasis%2FChapter_12%253A_Acyl_substitution_reactions%2FSection_12.4%253A_Esters&amp;ei=QXVIVdflAczTUbKbgdgE&amp;psig=AFQjCNHb1UVhVn9A-1ZXs4bBnHxW1uq4UQ&amp;ust=1430897986179228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80880" y="204840"/>
            <a:ext cx="838224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bazicky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368280"/>
            <a:ext cx="7543800" cy="64897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3"/>
          <p:cNvSpPr/>
          <p:nvPr/>
        </p:nvSpPr>
        <p:spPr>
          <a:xfrm>
            <a:off x="838080" y="5950080"/>
            <a:ext cx="7543800" cy="907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4" descr="http://www2.chemistry.msu.edu/faculty/reusch/VirtTxtJml/Images3/estrhyd.gif"/>
          <p:cNvPicPr/>
          <p:nvPr/>
        </p:nvPicPr>
        <p:blipFill>
          <a:blip r:embed="rId1"/>
          <a:stretch/>
        </p:blipFill>
        <p:spPr>
          <a:xfrm>
            <a:off x="2195640" y="1198440"/>
            <a:ext cx="6480000" cy="364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chemwiki.ucdavis.edu/@api/deki/files/2818/image099.png?revision=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4560" y="5318280"/>
            <a:ext cx="4535640" cy="135252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139680" y="241920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yselá (protonizací substrátu)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409320" y="5303880"/>
            <a:ext cx="12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as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NaOH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Obdélník 3"/>
          <p:cNvSpPr/>
          <p:nvPr/>
        </p:nvSpPr>
        <p:spPr>
          <a:xfrm>
            <a:off x="0" y="1413000"/>
            <a:ext cx="2050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mýdelnění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1" name="Picture 1029" descr=""/>
          <p:cNvPicPr/>
          <p:nvPr/>
        </p:nvPicPr>
        <p:blipFill>
          <a:blip r:embed="rId1"/>
          <a:stretch/>
        </p:blipFill>
        <p:spPr>
          <a:xfrm>
            <a:off x="533520" y="880920"/>
            <a:ext cx="8305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62120" y="236520"/>
            <a:ext cx="7619760" cy="662148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1"/>
          <p:cNvSpPr/>
          <p:nvPr/>
        </p:nvSpPr>
        <p:spPr>
          <a:xfrm>
            <a:off x="1920960" y="3321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substr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042920" y="2178000"/>
            <a:ext cx="7416720" cy="468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50760" y="0"/>
            <a:ext cx="8228160" cy="2060640"/>
          </a:xfrm>
          <a:prstGeom prst="rect">
            <a:avLst/>
          </a:prstGeom>
          <a:ln w="0">
            <a:noFill/>
          </a:ln>
        </p:spPr>
      </p:pic>
      <p:sp>
        <p:nvSpPr>
          <p:cNvPr id="158" name="TextovéPole 4"/>
          <p:cNvSpPr/>
          <p:nvPr/>
        </p:nvSpPr>
        <p:spPr>
          <a:xfrm>
            <a:off x="1042920" y="2178000"/>
            <a:ext cx="71294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činidla (nadbytek fenol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78920" cy="497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04840" y="184320"/>
            <a:ext cx="6902280" cy="1485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Sopoušek\Dokumenty\Obrázky\Katalýza\bakelite1.jpg"/>
          <p:cNvPicPr/>
          <p:nvPr/>
        </p:nvPicPr>
        <p:blipFill>
          <a:blip r:embed="rId3"/>
          <a:stretch/>
        </p:blipFill>
        <p:spPr>
          <a:xfrm>
            <a:off x="7034040" y="141120"/>
            <a:ext cx="2109960" cy="158292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4"/>
          <p:cNvSpPr/>
          <p:nvPr/>
        </p:nvSpPr>
        <p:spPr>
          <a:xfrm>
            <a:off x="900000" y="1670040"/>
            <a:ext cx="792000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substrátu (nadbytek aldehyd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485640"/>
            <a:ext cx="9144000" cy="124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001000" cy="367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304920" y="5581800"/>
            <a:ext cx="8839080" cy="1276200"/>
          </a:xfrm>
          <a:prstGeom prst="rect">
            <a:avLst/>
          </a:prstGeom>
          <a:ln w="0">
            <a:noFill/>
          </a:ln>
        </p:spPr>
      </p:pic>
      <p:sp>
        <p:nvSpPr>
          <p:cNvPr id="166" name="TextovéPole 4"/>
          <p:cNvSpPr/>
          <p:nvPr/>
        </p:nvSpPr>
        <p:spPr>
          <a:xfrm>
            <a:off x="893880" y="23760"/>
            <a:ext cx="71276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činidla (transesterifikace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kysele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80880" y="654120"/>
            <a:ext cx="84582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381880" cy="5131080"/>
          </a:xfrm>
          <a:prstGeom prst="rect">
            <a:avLst/>
          </a:prstGeom>
          <a:ln w="0">
            <a:noFill/>
          </a:ln>
        </p:spPr>
      </p:pic>
      <p:sp>
        <p:nvSpPr>
          <p:cNvPr id="170" name="TextovéPole 1"/>
          <p:cNvSpPr/>
          <p:nvPr/>
        </p:nvSpPr>
        <p:spPr>
          <a:xfrm>
            <a:off x="4941360" y="21337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Nezáleží na typu kyselin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ovéPole 3"/>
          <p:cNvSpPr/>
          <p:nvPr/>
        </p:nvSpPr>
        <p:spPr>
          <a:xfrm>
            <a:off x="5564160" y="3357720"/>
            <a:ext cx="329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áleží na typu kyseliny (k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exp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2" name="Přímá spojnice se šipkou 4"/>
          <p:cNvCxnSpPr>
            <a:stCxn id="171" idx="2"/>
          </p:cNvCxnSpPr>
          <p:nvPr/>
        </p:nvCxnSpPr>
        <p:spPr>
          <a:xfrm flipH="1">
            <a:off x="6732000" y="3757320"/>
            <a:ext cx="478440" cy="16167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6688080"/>
          </a:xfrm>
          <a:prstGeom prst="rect">
            <a:avLst/>
          </a:prstGeom>
          <a:ln w="0">
            <a:noFill/>
          </a:ln>
        </p:spPr>
      </p:pic>
      <p:sp>
        <p:nvSpPr>
          <p:cNvPr id="174" name="Přímá spojnice 2"/>
          <p:cNvSpPr/>
          <p:nvPr/>
        </p:nvSpPr>
        <p:spPr>
          <a:xfrm>
            <a:off x="1332000" y="1484280"/>
            <a:ext cx="3816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Obdélník 3"/>
          <p:cNvSpPr/>
          <p:nvPr/>
        </p:nvSpPr>
        <p:spPr>
          <a:xfrm>
            <a:off x="533520" y="5950080"/>
            <a:ext cx="7543800" cy="738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0T12:03:50Z</dcterms:modified>
  <cp:revision>146</cp:revision>
  <dc:subject/>
  <dc:title>C6730 Fázové rovnováhy</dc:title>
</cp:coreProperties>
</file>