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2.gif" ContentType="image/gif"/>
  <Override PartName="/ppt/media/image9.jpeg" ContentType="image/jpeg"/>
  <Override PartName="/ppt/media/image12.wmf" ContentType="image/x-wmf"/>
  <Override PartName="/ppt/media/image8.png" ContentType="image/png"/>
  <Override PartName="/ppt/media/image7.png" ContentType="image/png"/>
  <Override PartName="/ppt/media/image15.wmf" ContentType="image/x-wmf"/>
  <Override PartName="/ppt/media/image20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B957-DF96-46F4-9DA1-8E3363B38FB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472C-80A3-4D53-AACE-950050672D0E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619B-E10F-46A7-BB24-AD85535BC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792E-32F2-422D-B78D-85740F3D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FFC8-9502-46CF-A43D-A10478B64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7FD5-7A2E-40AA-9116-430F9988B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908F-5C94-4F03-A671-58E71B884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3F01-F27E-42FD-8AB6-D90EBD62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D372-D225-4D8F-AC6D-90A092ED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F603-68FC-4979-9148-601246DE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BE6B-5F11-4DC2-8D5B-94906302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91D6-6B1A-485E-B991-FA414556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C4D5-E195-4842-8CE0-0249D477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8247-4056-49E4-ABF5-38A6ACBC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EB39-5E69-475B-B951-11BE59C0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1B52-61A8-439B-AC5B-CE71A0A3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39FD-7FC1-47B8-BC4A-BD716155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5FB0-CE45-485B-8CE1-264EF53A4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2D58-D985-4ACC-BE64-2E9B8A5BD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375F-030E-4F62-825B-0D958C1A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4CEB-5AAE-4D7F-96E7-CE845825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1057-3F10-499B-994A-18AA2A54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6E41-729C-4417-869A-FD52F2E0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439D-5CAB-4F81-A846-160EA7F1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3844-7047-4F43-97FA-A9FF5881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C773-541A-4EF0-9061-43805FAC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4EAF-A2C1-4DEF-A84A-87FECDA9A01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CAC9-9C55-4907-B3D7-E597FD080A19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www.google.cz/url?sa=i&amp;rct=j&amp;q=&amp;esrc=s&amp;source=images&amp;cd=&amp;cad=rja&amp;uact=8&amp;ved=0CAcQjRw&amp;url=http%3A%2F%2Fchemwiki.ucdavis.edu%2FOrganic_Chemistry%2FOrganic_Chemistry_With_a_Biological_Emphasis%2FChapter_12%253A_Acyl_substitution_reactions%2FSection_12.4%253A_Esters&amp;ei=QXVIVdflAczTUbKbgdgE&amp;psig=AFQjCNHb1UVhVn9A-1ZXs4bBnHxW1uq4UQ&amp;ust=1430897986179228" TargetMode="Externa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Acidobazická katalýz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380880" y="204840"/>
            <a:ext cx="8382240" cy="66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inetika bazicky katalyzovan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61048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838080" y="368280"/>
            <a:ext cx="7543800" cy="6489720"/>
          </a:xfrm>
          <a:prstGeom prst="rect">
            <a:avLst/>
          </a:prstGeom>
          <a:ln w="0">
            <a:noFill/>
          </a:ln>
        </p:spPr>
      </p:pic>
      <p:sp>
        <p:nvSpPr>
          <p:cNvPr id="180" name="Obdélník 3"/>
          <p:cNvSpPr/>
          <p:nvPr/>
        </p:nvSpPr>
        <p:spPr>
          <a:xfrm>
            <a:off x="838080" y="5950080"/>
            <a:ext cx="7543800" cy="9079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7240" y="1155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2" name="Picture 4" descr="http://www2.chemistry.msu.edu/faculty/reusch/VirtTxtJml/Images3/estrhyd.gif"/>
          <p:cNvPicPr/>
          <p:nvPr/>
        </p:nvPicPr>
        <p:blipFill>
          <a:blip r:embed="rId1"/>
          <a:stretch/>
        </p:blipFill>
        <p:spPr>
          <a:xfrm>
            <a:off x="2195640" y="1198440"/>
            <a:ext cx="6480000" cy="3641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http://chemwiki.ucdavis.edu/@api/deki/files/2818/image099.png?revision=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14560" y="5318280"/>
            <a:ext cx="4535640" cy="1352520"/>
          </a:xfrm>
          <a:prstGeom prst="rect">
            <a:avLst/>
          </a:prstGeom>
          <a:ln w="0">
            <a:noFill/>
          </a:ln>
        </p:spPr>
      </p:pic>
      <p:sp>
        <p:nvSpPr>
          <p:cNvPr id="184" name="TextovéPole 1"/>
          <p:cNvSpPr/>
          <p:nvPr/>
        </p:nvSpPr>
        <p:spPr>
          <a:xfrm>
            <a:off x="139680" y="2419200"/>
            <a:ext cx="177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yselá (protonizací substrátu)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TextovéPole 2"/>
          <p:cNvSpPr/>
          <p:nvPr/>
        </p:nvSpPr>
        <p:spPr>
          <a:xfrm>
            <a:off x="409320" y="5303880"/>
            <a:ext cx="123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Basická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(NaOH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Obdélník 3"/>
          <p:cNvSpPr/>
          <p:nvPr/>
        </p:nvSpPr>
        <p:spPr>
          <a:xfrm>
            <a:off x="0" y="1413000"/>
            <a:ext cx="205092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Zmýdelnění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Acidobazická katalýza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1" name="Picture 1029" descr=""/>
          <p:cNvPicPr/>
          <p:nvPr/>
        </p:nvPicPr>
        <p:blipFill>
          <a:blip r:embed="rId1"/>
          <a:stretch/>
        </p:blipFill>
        <p:spPr>
          <a:xfrm>
            <a:off x="533520" y="880920"/>
            <a:ext cx="83055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106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762120" y="236520"/>
            <a:ext cx="7619760" cy="6621480"/>
          </a:xfrm>
          <a:prstGeom prst="rect">
            <a:avLst/>
          </a:prstGeom>
          <a:ln w="0">
            <a:noFill/>
          </a:ln>
        </p:spPr>
      </p:pic>
      <p:sp>
        <p:nvSpPr>
          <p:cNvPr id="154" name="TextovéPole 1"/>
          <p:cNvSpPr/>
          <p:nvPr/>
        </p:nvSpPr>
        <p:spPr>
          <a:xfrm>
            <a:off x="1920960" y="332100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protonizace substrátu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1042920" y="2178000"/>
            <a:ext cx="7416720" cy="4680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"/>
          <p:cNvPicPr/>
          <p:nvPr/>
        </p:nvPicPr>
        <p:blipFill>
          <a:blip r:embed="rId2"/>
          <a:stretch/>
        </p:blipFill>
        <p:spPr>
          <a:xfrm>
            <a:off x="50760" y="0"/>
            <a:ext cx="8228160" cy="2060640"/>
          </a:xfrm>
          <a:prstGeom prst="rect">
            <a:avLst/>
          </a:prstGeom>
          <a:ln w="0">
            <a:noFill/>
          </a:ln>
        </p:spPr>
      </p:pic>
      <p:sp>
        <p:nvSpPr>
          <p:cNvPr id="158" name="TextovéPole 4"/>
          <p:cNvSpPr/>
          <p:nvPr/>
        </p:nvSpPr>
        <p:spPr>
          <a:xfrm>
            <a:off x="1042920" y="2178000"/>
            <a:ext cx="7129440" cy="459720"/>
          </a:xfrm>
          <a:prstGeom prst="rect">
            <a:avLst/>
          </a:prstGeom>
          <a:solidFill>
            <a:srgbClr val="e5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protonizace činidla (nadbytek fenolu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78920" cy="4973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204840" y="184320"/>
            <a:ext cx="6902280" cy="1485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C:\Documents and Settings\Sopoušek\Dokumenty\Obrázky\Katalýza\bakelite1.jpg"/>
          <p:cNvPicPr/>
          <p:nvPr/>
        </p:nvPicPr>
        <p:blipFill>
          <a:blip r:embed="rId3"/>
          <a:stretch/>
        </p:blipFill>
        <p:spPr>
          <a:xfrm>
            <a:off x="7034040" y="141120"/>
            <a:ext cx="2109960" cy="1582920"/>
          </a:xfrm>
          <a:prstGeom prst="rect">
            <a:avLst/>
          </a:prstGeom>
          <a:ln w="0">
            <a:noFill/>
          </a:ln>
        </p:spPr>
      </p:pic>
      <p:sp>
        <p:nvSpPr>
          <p:cNvPr id="162" name="TextovéPole 4"/>
          <p:cNvSpPr/>
          <p:nvPr/>
        </p:nvSpPr>
        <p:spPr>
          <a:xfrm>
            <a:off x="900000" y="1670040"/>
            <a:ext cx="7920000" cy="459720"/>
          </a:xfrm>
          <a:prstGeom prst="rect">
            <a:avLst/>
          </a:prstGeom>
          <a:solidFill>
            <a:srgbClr val="e5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deprotonizace substrátu (nadbytek aldehydu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0" y="485640"/>
            <a:ext cx="9144000" cy="1244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8001000" cy="3679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3"/>
          <a:stretch/>
        </p:blipFill>
        <p:spPr>
          <a:xfrm>
            <a:off x="304920" y="5581800"/>
            <a:ext cx="8839080" cy="1276200"/>
          </a:xfrm>
          <a:prstGeom prst="rect">
            <a:avLst/>
          </a:prstGeom>
          <a:ln w="0">
            <a:noFill/>
          </a:ln>
        </p:spPr>
      </p:pic>
      <p:sp>
        <p:nvSpPr>
          <p:cNvPr id="166" name="TextovéPole 4"/>
          <p:cNvSpPr/>
          <p:nvPr/>
        </p:nvSpPr>
        <p:spPr>
          <a:xfrm>
            <a:off x="893880" y="23760"/>
            <a:ext cx="7127640" cy="459720"/>
          </a:xfrm>
          <a:prstGeom prst="rect">
            <a:avLst/>
          </a:prstGeom>
          <a:solidFill>
            <a:srgbClr val="e5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deprotonizace činidla (transesterifikace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19836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inetika kysele katalyzovan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380880" y="654120"/>
            <a:ext cx="8458200" cy="62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381880" cy="5131080"/>
          </a:xfrm>
          <a:prstGeom prst="rect">
            <a:avLst/>
          </a:prstGeom>
          <a:ln w="0">
            <a:noFill/>
          </a:ln>
        </p:spPr>
      </p:pic>
      <p:sp>
        <p:nvSpPr>
          <p:cNvPr id="170" name="TextovéPole 1"/>
          <p:cNvSpPr/>
          <p:nvPr/>
        </p:nvSpPr>
        <p:spPr>
          <a:xfrm>
            <a:off x="4941360" y="2133720"/>
            <a:ext cx="29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Nezáleží na typu kyseliny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TextovéPole 3"/>
          <p:cNvSpPr/>
          <p:nvPr/>
        </p:nvSpPr>
        <p:spPr>
          <a:xfrm>
            <a:off x="5564160" y="3357720"/>
            <a:ext cx="3292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Záleží na typu kyseliny (k</a:t>
            </a:r>
            <a:r>
              <a:rPr b="1" lang="cs-CZ" sz="2000" spc="-1" strike="noStrike" baseline="-25000">
                <a:solidFill>
                  <a:srgbClr val="000066"/>
                </a:solidFill>
                <a:latin typeface="Times New Roman"/>
              </a:rPr>
              <a:t>exp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72" name="Přímá spojnice se šipkou 4"/>
          <p:cNvCxnSpPr>
            <a:stCxn id="171" idx="2"/>
          </p:cNvCxnSpPr>
          <p:nvPr/>
        </p:nvCxnSpPr>
        <p:spPr>
          <a:xfrm flipH="1">
            <a:off x="6732000" y="3757320"/>
            <a:ext cx="478440" cy="16167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533520" y="0"/>
            <a:ext cx="7543800" cy="6688080"/>
          </a:xfrm>
          <a:prstGeom prst="rect">
            <a:avLst/>
          </a:prstGeom>
          <a:ln w="0">
            <a:noFill/>
          </a:ln>
        </p:spPr>
      </p:pic>
      <p:sp>
        <p:nvSpPr>
          <p:cNvPr id="174" name="Přímá spojnice 2"/>
          <p:cNvSpPr/>
          <p:nvPr/>
        </p:nvSpPr>
        <p:spPr>
          <a:xfrm>
            <a:off x="1332000" y="1484280"/>
            <a:ext cx="38163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Obdélník 3"/>
          <p:cNvSpPr/>
          <p:nvPr/>
        </p:nvSpPr>
        <p:spPr>
          <a:xfrm>
            <a:off x="533520" y="5950080"/>
            <a:ext cx="7543800" cy="7380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6-04-20T12:03:50Z</dcterms:modified>
  <cp:revision>146</cp:revision>
  <dc:subject/>
  <dc:title>C6730 Fázové rovnováhy</dc:title>
</cp:coreProperties>
</file>