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82B-8125-4A88-AEBA-3C146AC336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19C-2A35-457D-AD83-9A86376501C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168-EDFD-428B-A87E-B7AE9A76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EBA-30F4-4367-A512-A60A0BD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22B-DE78-4804-A975-D6D3ED18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C8C-76E4-4432-BF02-798B4D30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EC8E-984A-43D1-8FE0-F54F7990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34D1-1E0F-4403-B68B-593ABB1C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74C-A110-47B5-BF21-D52B67A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9ED-A51A-451E-AE6F-BD533C8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EF8-AA50-4780-AF3A-ECDC46C9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7AB-B17A-4AA3-B7D2-C16B0BDF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7B13-DD06-4024-9913-8CBEB94B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503-3AA3-45F2-909D-F3D906E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AC5-8FBC-4303-AAE2-F9356F2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5CD3-46FA-4420-90A8-FCE0C34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77D5-B2A2-420B-B879-A5444B5B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7092-F9F6-47C3-A35A-13A01335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DA2-785D-48DD-BDD8-DA8C7F21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ACC-42FA-4312-AD35-88D1224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EED-479C-4110-BD45-22EA481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94-E66C-4FD8-A38D-5E4299B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01F-E118-4B77-A51C-373F64D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52A-4385-4F20-A1C5-4CB5F0B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FD6-CA19-4425-B178-E08533A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E11-5128-478C-B7ED-B26A1DB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487A-77A4-4138-AAC0-FE0315FF54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4C35-5CF6-4A32-86D0-D73640C354E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5384880" y="2984400"/>
            <a:ext cx="3556080" cy="26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324000" y="2989440"/>
            <a:ext cx="5040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9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05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8840" y="148428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e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79280" y="162864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Obdélník 1"/>
          <p:cNvSpPr/>
          <p:nvPr/>
        </p:nvSpPr>
        <p:spPr>
          <a:xfrm>
            <a:off x="5959440" y="1773360"/>
            <a:ext cx="2592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Obdélník 2"/>
          <p:cNvSpPr/>
          <p:nvPr/>
        </p:nvSpPr>
        <p:spPr>
          <a:xfrm>
            <a:off x="7020000" y="1557360"/>
            <a:ext cx="194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3) anti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Picture 6" descr="http://chemistry.ewu.edu/jcorkill/biochem/com_nono_unIH.jpg"/>
          <p:cNvPicPr/>
          <p:nvPr/>
        </p:nvPicPr>
        <p:blipFill>
          <a:blip r:embed="rId1"/>
          <a:stretch/>
        </p:blipFill>
        <p:spPr>
          <a:xfrm>
            <a:off x="250920" y="1844640"/>
            <a:ext cx="653580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Obdélník 1"/>
          <p:cNvSpPr/>
          <p:nvPr/>
        </p:nvSpPr>
        <p:spPr>
          <a:xfrm>
            <a:off x="4773600" y="6334200"/>
            <a:ext cx="20131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bdélník 6"/>
          <p:cNvSpPr/>
          <p:nvPr/>
        </p:nvSpPr>
        <p:spPr>
          <a:xfrm>
            <a:off x="2257560" y="6300720"/>
            <a:ext cx="20127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>
            <a:off x="39600" y="6294600"/>
            <a:ext cx="20113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38:26Z</dcterms:modified>
  <cp:revision>151</cp:revision>
  <dc:subject/>
  <dc:title>C6730 Fázové rovnováhy</dc:title>
</cp:coreProperties>
</file>