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4.png" ContentType="image/png"/>
  <Override PartName="/ppt/media/image2.gif" ContentType="image/gif"/>
  <Override PartName="/ppt/media/image5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31.wmf" ContentType="image/x-wmf"/>
  <Override PartName="/ppt/media/image4.jpeg" ContentType="image/jpeg"/>
  <Override PartName="/ppt/media/image6.png" ContentType="image/png"/>
  <Override PartName="/ppt/media/image29.png" ContentType="image/png"/>
  <Override PartName="/ppt/media/image28.wmf" ContentType="image/x-wmf"/>
  <Override PartName="/ppt/media/image3.jpeg" ContentType="image/jpeg"/>
  <Override PartName="/ppt/media/image1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wmf" ContentType="image/x-wmf"/>
  <Override PartName="/ppt/media/image24.wmf" ContentType="image/x-wmf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1036-D913-4CCC-9FBA-9E9AAFBF9B3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A64E-BDA9-463B-BDAE-0280EF994459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34BF-9D7C-4314-A104-93568B55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4B1-9924-4CC6-A852-55FB3BDF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EB6-4182-4988-B063-1D0039C4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4217-03C7-47B3-B018-64C22200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7D8C-A976-4C18-849F-68E09CD0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6FF0-31A8-481A-9635-E4814298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193A-B4AF-4F69-A564-D0A7CD5B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415A-090E-4579-AA17-D11A80EA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9003-1677-40E0-BFF8-B712A124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4A2E-1D12-4E1E-A112-2B9E7A5B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6361-1E2B-4012-9F71-2E34C2DD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DF2-61E7-4C1F-AF4E-17C9CAC6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F01D-9069-4C89-8388-C1BEB3B1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8F87-9790-4D62-9E61-48D5F606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6D78-760A-4916-BBDE-A0EBB959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0D31-7B22-4BC2-9518-77F7AB36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94FE-558D-4F02-96F7-E6D74BAD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E81-79C8-4F31-B7B9-C4360519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D863-00F6-4E86-A913-41CBD2C7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36B-E263-423C-B358-FE5F1337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984-1E7A-41ED-B9F7-0D147A4C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35A-DCA0-4B1E-94DA-62E46AF0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10B2-3B70-411E-9F3E-AE77115E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8C5-63BA-4544-AC2B-D36E379B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DF4E-445C-4F96-90AD-F61B04196EB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E143-EFD9-4C33-B0BE-FBCBF3B8D757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enzym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inhibitors.gif"/>
          <p:cNvPicPr/>
          <p:nvPr/>
        </p:nvPicPr>
        <p:blipFill>
          <a:blip r:embed="rId1"/>
          <a:stretch/>
        </p:blipFill>
        <p:spPr>
          <a:xfrm>
            <a:off x="685800" y="2209680"/>
            <a:ext cx="5486400" cy="385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Sopoušek\Dokumenty\Obrázky\Katalýza\kompetitive a nekompetitive reaction.jpg"/>
          <p:cNvPicPr/>
          <p:nvPr/>
        </p:nvPicPr>
        <p:blipFill>
          <a:blip r:embed="rId2"/>
          <a:stretch/>
        </p:blipFill>
        <p:spPr>
          <a:xfrm>
            <a:off x="6324480" y="3200400"/>
            <a:ext cx="2482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3256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228600" y="4140360"/>
            <a:ext cx="8458200" cy="1720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304920" y="5943600"/>
            <a:ext cx="81532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91520" cy="6070680"/>
          </a:xfrm>
          <a:prstGeom prst="rect">
            <a:avLst/>
          </a:prstGeom>
          <a:ln w="0">
            <a:noFill/>
          </a:ln>
        </p:spPr>
      </p:pic>
      <p:sp>
        <p:nvSpPr>
          <p:cNvPr id="185" name="TextovéPole 3"/>
          <p:cNvSpPr/>
          <p:nvPr/>
        </p:nvSpPr>
        <p:spPr>
          <a:xfrm>
            <a:off x="6804000" y="266760"/>
            <a:ext cx="208908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Km je ovlivněna V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tikompetitivní inhibice enzymové re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7631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07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7404120" y="22860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3"/>
          <a:stretch/>
        </p:blipFill>
        <p:spPr>
          <a:xfrm>
            <a:off x="8610480" y="318960"/>
            <a:ext cx="411120" cy="277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4"/>
          <a:stretch/>
        </p:blipFill>
        <p:spPr>
          <a:xfrm>
            <a:off x="6924600" y="1268280"/>
            <a:ext cx="19144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26616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2"/>
          <p:cNvSpPr/>
          <p:nvPr/>
        </p:nvSpPr>
        <p:spPr>
          <a:xfrm>
            <a:off x="5651640" y="360360"/>
            <a:ext cx="26654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Je ovlivněno Vmax i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32382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ce -přehle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Obrázek 2" descr=""/>
          <p:cNvPicPr/>
          <p:nvPr/>
        </p:nvPicPr>
        <p:blipFill>
          <a:blip r:embed="rId1"/>
          <a:stretch/>
        </p:blipFill>
        <p:spPr>
          <a:xfrm>
            <a:off x="4500720" y="479520"/>
            <a:ext cx="446724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Obrázek 4" descr=""/>
          <p:cNvPicPr/>
          <p:nvPr/>
        </p:nvPicPr>
        <p:blipFill>
          <a:blip r:embed="rId2"/>
          <a:stretch/>
        </p:blipFill>
        <p:spPr>
          <a:xfrm>
            <a:off x="98280" y="3676680"/>
            <a:ext cx="4378320" cy="2894040"/>
          </a:xfrm>
          <a:prstGeom prst="rect">
            <a:avLst/>
          </a:prstGeom>
          <a:ln w="0">
            <a:noFill/>
          </a:ln>
        </p:spPr>
      </p:pic>
      <p:pic>
        <p:nvPicPr>
          <p:cNvPr id="155" name="Obrázek 5" descr=""/>
          <p:cNvPicPr/>
          <p:nvPr/>
        </p:nvPicPr>
        <p:blipFill>
          <a:blip r:embed="rId3"/>
          <a:stretch/>
        </p:blipFill>
        <p:spPr>
          <a:xfrm>
            <a:off x="4664160" y="3676680"/>
            <a:ext cx="4379760" cy="289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4"/>
          <a:stretch/>
        </p:blipFill>
        <p:spPr>
          <a:xfrm>
            <a:off x="189000" y="76500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43000"/>
            <a:ext cx="35816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1030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8458200" cy="383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32" descr="C:\Documents and Settings\Sopoušek\Dokumenty\Obrázky\Katalýza\350px-Comp_inhib_svg.png"/>
          <p:cNvPicPr/>
          <p:nvPr/>
        </p:nvPicPr>
        <p:blipFill>
          <a:blip r:embed="rId2"/>
          <a:stretch/>
        </p:blipFill>
        <p:spPr>
          <a:xfrm>
            <a:off x="4724280" y="228600"/>
            <a:ext cx="40006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84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7619760" cy="516384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1"/>
          <p:cNvSpPr/>
          <p:nvPr/>
        </p:nvSpPr>
        <p:spPr>
          <a:xfrm>
            <a:off x="2224800" y="273384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osadit Ir z 6-32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4" name="Přímá spojnice se šipkou 3"/>
          <p:cNvCxnSpPr/>
          <p:nvPr/>
        </p:nvCxnSpPr>
        <p:spPr>
          <a:xfrm flipH="1">
            <a:off x="1258560" y="2901960"/>
            <a:ext cx="792720" cy="45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5" name="Přímá spojnice se šipkou 5"/>
          <p:cNvCxnSpPr/>
          <p:nvPr/>
        </p:nvCxnSpPr>
        <p:spPr>
          <a:xfrm flipH="1" flipV="1">
            <a:off x="4787280" y="4292280"/>
            <a:ext cx="187236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33520" y="79200"/>
            <a:ext cx="7924680" cy="6778800"/>
          </a:xfrm>
          <a:prstGeom prst="rect">
            <a:avLst/>
          </a:prstGeom>
          <a:ln w="0">
            <a:noFill/>
          </a:ln>
        </p:spPr>
      </p:pic>
      <p:cxnSp>
        <p:nvCxnSpPr>
          <p:cNvPr id="167" name="Přímá spojnice se šipkou 2"/>
          <p:cNvCxnSpPr/>
          <p:nvPr/>
        </p:nvCxnSpPr>
        <p:spPr>
          <a:xfrm>
            <a:off x="2842920" y="2492280"/>
            <a:ext cx="108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7050240" y="3379680"/>
            <a:ext cx="209376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762120" y="279360"/>
            <a:ext cx="7696080" cy="6578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2286000" y="304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ovéPole 1"/>
          <p:cNvSpPr/>
          <p:nvPr/>
        </p:nvSpPr>
        <p:spPr>
          <a:xfrm>
            <a:off x="6588000" y="241200"/>
            <a:ext cx="208944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Vmax je ovlivněna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3657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Ne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4467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Sopoušek\Dokumenty\Obrázky\Katalýza\350px-Ne Comp_inhib_svg.png"/>
          <p:cNvPicPr/>
          <p:nvPr/>
        </p:nvPicPr>
        <p:blipFill>
          <a:blip r:embed="rId2"/>
          <a:stretch/>
        </p:blipFill>
        <p:spPr>
          <a:xfrm>
            <a:off x="5410080" y="0"/>
            <a:ext cx="292104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50920" y="449280"/>
            <a:ext cx="7924680" cy="6221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6824520" y="1341360"/>
            <a:ext cx="2295720" cy="266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7885080" y="252360"/>
            <a:ext cx="1224000" cy="459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8697960" y="703440"/>
            <a:ext cx="411120" cy="2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5-12T07:31:52Z</dcterms:modified>
  <cp:revision>146</cp:revision>
  <dc:subject/>
  <dc:title>C6730 Fázové rovnováhy</dc:title>
</cp:coreProperties>
</file>