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00CC-C669-4DE1-B6B5-60A893D23F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C6D8-9617-4FC5-9AF0-04060388E94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984-9EE4-4593-9353-3E721355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765-8925-465D-88BF-858BD4D4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F2B-29B7-4D05-9F40-0C996750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263-424D-4F90-BC2D-2F2AC691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93B3-AB14-423A-9707-5CDE9B4D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5F8E-70EE-4F9A-B100-69336387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8412-8712-4601-8A6E-FE6DDAD7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D35F-5FBD-4F72-93A0-A8607D04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6109-F678-4B6B-9213-89680B6A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C263-6A40-4CE8-A304-860D45B7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E39D-6942-4E7A-A318-3C87307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2C3-15DC-4ED2-9411-3D913096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F1D9-41B3-4868-9612-371600F4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A716-BA99-4892-B226-F67132D4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902E-8FFC-4D1B-B4E2-56B6EF1F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5D8-9613-4304-976F-2AE7A81A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AE38-8A8F-4F94-8758-3D1BEA28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C17-1894-4138-800E-FE3F2CCB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4C2-F84F-4905-9265-E7F67864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5C0-D193-4E17-BEFA-005B7485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192-E4DC-47A2-80A8-F4829FB7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7BF-5B1A-4C08-BE2B-AC742700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B91-6906-4690-B3DF-F16AD0A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89B-E612-4D3B-8A09-09D95DE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2E1F-A807-48D8-9EFF-76933A05F12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18A1-461C-4A6E-BEA9-F18DE5E227B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2:31:00Z</dcterms:modified>
  <cp:revision>148</cp:revision>
  <dc:subject/>
  <dc:title>C6730 Fázové rovnováhy</dc:title>
</cp:coreProperties>
</file>