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9.jpeg" ContentType="image/jpeg"/>
  <Override PartName="/ppt/media/image23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6.jpeg" ContentType="image/jpeg"/>
  <Override PartName="/ppt/media/image5.png" ContentType="image/png"/>
  <Override PartName="/ppt/media/image2.gif" ContentType="image/gif"/>
  <Override PartName="/ppt/media/image24.wmf" ContentType="image/x-wmf"/>
  <Override PartName="/ppt/media/image4.jpeg" ContentType="image/jpeg"/>
  <Override PartName="/ppt/media/image10.wmf" ContentType="image/x-wmf"/>
  <Override PartName="/ppt/media/image25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png" ContentType="image/png"/>
  <Override PartName="/ppt/media/image16.wmf" ContentType="image/x-wmf"/>
  <Override PartName="/ppt/media/image15.jpeg" ContentType="image/jpe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AAE5-5BD3-4D13-B6E8-79873CD5CA3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07FB-8EAD-432D-8DB9-7F852F9504F9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2E96-8C68-403D-A886-89CC76515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96D8-9D37-42BC-BEAC-3DCD67B3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5998-4546-4DC1-A63E-8B0B0E917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DD1E-E051-423E-B8DE-CE3349235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AEB9-A46F-494E-9FE5-B42862C3A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F891-A2A8-4BF5-A5A6-8136D322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8C94-D2B5-437E-A6A3-A574178A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A421-FB46-4109-B62E-D5BCBB0D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7E80-FE50-4D22-B4D7-0DE33ED2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17AF-EE53-4573-805F-B6D2407F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EB35-C562-472D-BDBC-26B1589B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6E15-49AC-4C08-B3A4-9114A1AE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84E8-245F-4B33-A62C-CB59326D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4608-E9BB-4CFC-8C25-D766D5FF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4709-5A05-4D01-8DEB-BEE6233B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3BC7-1F1C-411B-8AF2-B179BB158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C671-0D52-42A1-AE27-80A70D13C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6353-DF3A-4D0A-96C2-AEB22111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FBBC-2EA9-4F55-8851-64D5CC96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5E9A-D3D2-497E-9811-A4F92415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FECF-8342-4FFD-84CD-5A6D27F4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9179-1634-495B-B178-7C12D2E5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7F35-0E90-4C56-8573-C7744617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FFD5-E267-41B2-9F0E-FCEDC6F8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811F-8A37-481B-A9DB-49F7B786B18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D4A4-4144-46DA-A535-444D4D547C01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bi.ac.uk/thornton-srv/databases/enzymes/" TargetMode="External"/><Relationship Id="rId2" Type="http://schemas.openxmlformats.org/officeDocument/2006/relationships/hyperlink" Target="D:\Vyuka\C6320_Kinetika\Texty k p&#345;edn&#225;&#353;ce C6320\L09_Enzymy a adsorpce\Nukleove_kyseliny.ppt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nzymový katalýz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7" descr="C:\Documents and Settings\Sopoušek\Dokumenty\Obrázky\Enzymová katalýza\apoenzym+kofaktor.jpg"/>
          <p:cNvPicPr/>
          <p:nvPr/>
        </p:nvPicPr>
        <p:blipFill>
          <a:blip r:embed="rId1"/>
          <a:stretch/>
        </p:blipFill>
        <p:spPr>
          <a:xfrm>
            <a:off x="1219320" y="3733920"/>
            <a:ext cx="632448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0773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098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8312040" cy="12733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ze k rovnici: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inearizovaný tvar Lineweaver - Burk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0" y="685800"/>
            <a:ext cx="8915400" cy="2668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2"/>
          <a:stretch/>
        </p:blipFill>
        <p:spPr>
          <a:xfrm>
            <a:off x="609480" y="3505320"/>
            <a:ext cx="52578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inearizovaný tvar Eadie -Hofste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077320" cy="2039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"/>
          <p:cNvPicPr/>
          <p:nvPr/>
        </p:nvPicPr>
        <p:blipFill>
          <a:blip r:embed="rId2"/>
          <a:stretch/>
        </p:blipFill>
        <p:spPr>
          <a:xfrm>
            <a:off x="1447920" y="3533760"/>
            <a:ext cx="502920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5" name="Picture 4" descr="C:\Documents and Settings\Sopoušek\Dokumenty\Obrázky\Enzymová katalýza\biodiesel.gif"/>
          <p:cNvPicPr/>
          <p:nvPr/>
        </p:nvPicPr>
        <p:blipFill>
          <a:blip r:embed="rId1"/>
          <a:stretch/>
        </p:blipFill>
        <p:spPr>
          <a:xfrm>
            <a:off x="1447920" y="2602080"/>
            <a:ext cx="3916080" cy="35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nzym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2" name="Text Box 1029"/>
          <p:cNvSpPr/>
          <p:nvPr/>
        </p:nvSpPr>
        <p:spPr>
          <a:xfrm>
            <a:off x="380880" y="15238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Vznik v buňce viz prezentace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Text Box 1030"/>
          <p:cNvSpPr/>
          <p:nvPr/>
        </p:nvSpPr>
        <p:spPr>
          <a:xfrm>
            <a:off x="609480" y="3048120"/>
            <a:ext cx="289584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Databáze enzymů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www.ebi.ac.uk/thornton-srv/databases/enzymes/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AutoShape 1031">
            <a:hlinkClick r:id="rId2"/>
          </p:cNvPr>
          <p:cNvSpPr/>
          <p:nvPr/>
        </p:nvSpPr>
        <p:spPr>
          <a:xfrm>
            <a:off x="2031840" y="251460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59394" h="21600">
                <a:moveTo>
                  <a:pt x="24170" y="3985"/>
                </a:moveTo>
                <a:lnTo>
                  <a:pt x="31168" y="3985"/>
                </a:lnTo>
                <a:lnTo>
                  <a:pt x="35224" y="7484"/>
                </a:lnTo>
                <a:lnTo>
                  <a:pt x="35224" y="17615"/>
                </a:lnTo>
                <a:lnTo>
                  <a:pt x="24170" y="17615"/>
                </a:lnTo>
                <a:close/>
              </a:path>
              <a:path fill="darken" w="59394" h="21600">
                <a:moveTo>
                  <a:pt x="31168" y="3985"/>
                </a:moveTo>
                <a:lnTo>
                  <a:pt x="35224" y="7484"/>
                </a:lnTo>
                <a:lnTo>
                  <a:pt x="31168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Picture 1033" descr="C:\Documents and Settings\Sopoušek\Dokumenty\Obrázky\Enzymová katalýza\isomeraza.jpg"/>
          <p:cNvPicPr/>
          <p:nvPr/>
        </p:nvPicPr>
        <p:blipFill>
          <a:blip r:embed="rId3"/>
          <a:stretch/>
        </p:blipFill>
        <p:spPr>
          <a:xfrm>
            <a:off x="4191120" y="2362320"/>
            <a:ext cx="456084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Katalýza enzym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3106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C:\Documents and Settings\Sopoušek\Dokumenty\Obrázky\Enzymová katalýza\zámek a klíč.jpg"/>
          <p:cNvPicPr/>
          <p:nvPr/>
        </p:nvPicPr>
        <p:blipFill>
          <a:blip r:embed="rId2"/>
          <a:stretch/>
        </p:blipFill>
        <p:spPr>
          <a:xfrm>
            <a:off x="1066680" y="4952880"/>
            <a:ext cx="45720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1137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228600" y="2403360"/>
            <a:ext cx="8610480" cy="1128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C:\Documents and Settings\Sopoušek\Dokumenty\Obrázky\Enzymová katalýza\how-enzymes-work- sucrose.jpg"/>
          <p:cNvPicPr/>
          <p:nvPr/>
        </p:nvPicPr>
        <p:blipFill>
          <a:blip r:embed="rId3"/>
          <a:stretch/>
        </p:blipFill>
        <p:spPr>
          <a:xfrm>
            <a:off x="304920" y="3809880"/>
            <a:ext cx="3200400" cy="30481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3657600" y="6172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ucrosa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0" y="533520"/>
            <a:ext cx="89154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1476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C:\Documents and Settings\Sopoušek\Dokumenty\Obrázky\Enzymová katalýza\pH optimum.jpg"/>
          <p:cNvPicPr/>
          <p:nvPr/>
        </p:nvPicPr>
        <p:blipFill>
          <a:blip r:embed="rId2"/>
          <a:stretch/>
        </p:blipFill>
        <p:spPr>
          <a:xfrm>
            <a:off x="533520" y="2590920"/>
            <a:ext cx="4114800" cy="2824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C:\Documents and Settings\Sopoušek\Dokumenty\Obrázky\Enzymová katalýza\teplotní optimum.bmp"/>
          <p:cNvPicPr/>
          <p:nvPr/>
        </p:nvPicPr>
        <p:blipFill>
          <a:blip r:embed="rId3"/>
          <a:stretch/>
        </p:blipFill>
        <p:spPr>
          <a:xfrm>
            <a:off x="4724280" y="2590920"/>
            <a:ext cx="41148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Základní kinetika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763120" cy="4151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Documents and Settings\Sopoušek\Dokumenty\Obrázky\Enzymová katalýza\kinetika enzym katalýzy numericky.jpg"/>
          <p:cNvPicPr/>
          <p:nvPr/>
        </p:nvPicPr>
        <p:blipFill>
          <a:blip r:embed="rId2"/>
          <a:stretch/>
        </p:blipFill>
        <p:spPr>
          <a:xfrm>
            <a:off x="4267080" y="4876920"/>
            <a:ext cx="365760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90774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534520" cy="3770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C:\Documents and Settings\Sopoušek\Dokumenty\Obrázky\Enzymová katalýza\kinetika enzym katalýzy numericky.jpg"/>
          <p:cNvPicPr/>
          <p:nvPr/>
        </p:nvPicPr>
        <p:blipFill>
          <a:blip r:embed="rId2"/>
          <a:stretch/>
        </p:blipFill>
        <p:spPr>
          <a:xfrm>
            <a:off x="1828800" y="4122720"/>
            <a:ext cx="60199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04-27T12:31:00Z</dcterms:modified>
  <cp:revision>148</cp:revision>
  <dc:subject/>
  <dc:title>C6730 Fázové rovnováhy</dc:title>
</cp:coreProperties>
</file>