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B33B-94D5-4B97-BC46-59BE755E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BA2A-A53A-40BA-B8E6-2EC587EE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BB19-46BF-46CC-A5FF-41C61C00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107-1BA0-4838-AC5E-90A5CBE6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C4B-FD4D-4672-901A-5A4CBCEA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E33B-86BF-47C2-86B0-F919CFDB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F1F-FBDF-4320-ABC8-83203E25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E3E-33B7-494D-9038-75F91319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276-8A07-429C-999A-D759A2C8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8DD-6A50-4C55-8FB0-81D3FE35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0562-0D5F-4A0F-B68A-6C6802CA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0F5A-F0C5-4FB8-939F-53A32E52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5AA8-F164-428A-A533-2BED01EB47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4" descr="http://www.chemguide.co.uk/physical/basicrates/reqnab1.gif"/>
          <p:cNvPicPr/>
          <p:nvPr/>
        </p:nvPicPr>
        <p:blipFill>
          <a:blip r:embed="rId1"/>
          <a:stretch/>
        </p:blipFill>
        <p:spPr>
          <a:xfrm>
            <a:off x="344520" y="1197000"/>
            <a:ext cx="6154560" cy="266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6" descr="http://img.youtube.com/vi/nZiOyVElo-s/0.jpg"/>
          <p:cNvPicPr/>
          <p:nvPr/>
        </p:nvPicPr>
        <p:blipFill>
          <a:blip r:embed="rId2"/>
          <a:stretch/>
        </p:blipFill>
        <p:spPr>
          <a:xfrm>
            <a:off x="4427640" y="4005360"/>
            <a:ext cx="457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48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56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02T13:15:18Z</dcterms:modified>
  <cp:revision>103</cp:revision>
  <dc:subject/>
  <dc:title>Soustava</dc:title>
</cp:coreProperties>
</file>